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28.wmf" ContentType="image/x-wmf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5.jpeg" ContentType="image/jpeg"/>
  <Override PartName="/ppt/media/image4.png" ContentType="image/png"/>
  <Override PartName="/ppt/media/image27.png" ContentType="image/png"/>
  <Override PartName="/ppt/media/image12.png" ContentType="image/png"/>
  <Override PartName="/ppt/media/image7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26.png" ContentType="image/png"/>
  <Override PartName="/ppt/media/image1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</p:sldIdLst>
  <p:sldSz cx="9144000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E1415-0C32-4B14-BD3F-8C42F12D11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4912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1AEC5-C682-48FA-9F8C-F6302F295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4912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4912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4DD9F-8220-4402-96C3-64E3129F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14264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14264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4912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4912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4912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7239E-1D56-4EBF-96B9-4C25A0C84B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4405F-80C3-451C-BCD5-C4AA90559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F098D-59B0-4D44-8F3C-141F909AC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8C925-DD29-4228-82B5-7D0896195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093E2-2289-4A6A-A565-F3D24D4B0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8684A-28CF-4BA3-BA60-5BF9B24DC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4912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72933-F6FF-453F-A2A5-B2CAE2830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4912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C61D9-4B56-41A6-B851-73F70A61A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4912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D63D3-EF49-4C42-8D35-7FFAE57B5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0720" y="6564240"/>
            <a:ext cx="503568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781680" y="6564240"/>
            <a:ext cx="190512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000B9-CB98-494A-BBF9-51569794E5A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/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7960" y="228600"/>
            <a:ext cx="8128080" cy="52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0000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07960" y="6500880"/>
            <a:ext cx="8128080" cy="52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0000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295280" y="76320"/>
            <a:ext cx="1270080" cy="2952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7315200" y="0"/>
            <a:ext cx="703440" cy="611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e:\midas\nt\bin\hvedit.bat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hyperlink" Target="e:\midas\nt\bin\hvedit.bat" TargetMode="External"/><Relationship Id="rId2" Type="http://schemas.openxmlformats.org/officeDocument/2006/relationships/hyperlink" Target="e:\midas\nt\bin\hvedit.bat" TargetMode="External"/><Relationship Id="rId3" Type="http://schemas.openxmlformats.org/officeDocument/2006/relationships/hyperlink" Target="e:\midas\nt\bin\hvedit.bat" TargetMode="External"/><Relationship Id="rId4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8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hyperlink" Target="http://midas.psi.ch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66840" y="762120"/>
            <a:ext cx="6681600" cy="838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  <a:effectLst>
            <a:outerShdw dist="73964" dir="1863564" blurRad="0" rotWithShape="0">
              <a:srgbClr val="385e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33240" y="83772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DAS Short Cour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"/>
          <p:cNvSpPr/>
          <p:nvPr/>
        </p:nvSpPr>
        <p:spPr>
          <a:xfrm>
            <a:off x="1586520" y="1758960"/>
            <a:ext cx="600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Stefan Rit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Paul Scherrer Institute, Switzerlan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Pierre Andr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é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Amaudruz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TRIUMF, Canad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05120" y="2629080"/>
            <a:ext cx="5257800" cy="371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4A1FF-F674-4D96-9BF9-EA9F85067B6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das Short Course - Real Time 2003 - Montreal - Part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609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mall (test) system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4935600" y="3084480"/>
            <a:ext cx="1957320" cy="1663560"/>
            <a:chOff x="4935600" y="3084480"/>
            <a:chExt cx="1957320" cy="1663560"/>
          </a:xfrm>
        </p:grpSpPr>
        <p:sp>
          <p:nvSpPr>
            <p:cNvPr id="85" name=""/>
            <p:cNvSpPr/>
            <p:nvPr/>
          </p:nvSpPr>
          <p:spPr>
            <a:xfrm>
              <a:off x="4935600" y="3084480"/>
              <a:ext cx="1957320" cy="1663560"/>
            </a:xfrm>
            <a:prstGeom prst="rect">
              <a:avLst/>
            </a:prstGeom>
            <a:gradFill rotWithShape="0">
              <a:gsLst>
                <a:gs pos="0">
                  <a:srgbClr val="fbff7a"/>
                </a:gs>
                <a:gs pos="100000">
                  <a:srgbClr val="aeb154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070240" y="3230640"/>
              <a:ext cx="1687680" cy="9144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281200" y="32306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492160" y="32306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03120" y="32306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4440" y="32306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125400" y="32306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336360" y="32306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547320" y="32306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076000" y="4303800"/>
              <a:ext cx="1676160" cy="3682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4407840" y="2041560"/>
            <a:ext cx="2151000" cy="2097000"/>
            <a:chOff x="4407840" y="2041560"/>
            <a:chExt cx="2151000" cy="2097000"/>
          </a:xfrm>
        </p:grpSpPr>
        <p:sp>
          <p:nvSpPr>
            <p:cNvPr id="96" name=""/>
            <p:cNvSpPr/>
            <p:nvPr/>
          </p:nvSpPr>
          <p:spPr>
            <a:xfrm>
              <a:off x="5075280" y="3236760"/>
              <a:ext cx="199440" cy="9018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4407840" y="2041560"/>
              <a:ext cx="2151000" cy="1341360"/>
              <a:chOff x="4407840" y="2041560"/>
              <a:chExt cx="2151000" cy="1341360"/>
            </a:xfrm>
          </p:grpSpPr>
          <p:sp>
            <p:nvSpPr>
              <p:cNvPr id="98" name=""/>
              <p:cNvSpPr/>
              <p:nvPr/>
            </p:nvSpPr>
            <p:spPr>
              <a:xfrm>
                <a:off x="4407840" y="2041560"/>
                <a:ext cx="215100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MAC interfa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(HYTEC $3000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>
                <a:off x="5209920" y="2697120"/>
                <a:ext cx="70200" cy="68580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" name=""/>
          <p:cNvGrpSpPr/>
          <p:nvPr/>
        </p:nvGrpSpPr>
        <p:grpSpPr>
          <a:xfrm>
            <a:off x="2192400" y="3008160"/>
            <a:ext cx="1817640" cy="1739880"/>
            <a:chOff x="2192400" y="3008160"/>
            <a:chExt cx="1817640" cy="1739880"/>
          </a:xfrm>
        </p:grpSpPr>
        <p:sp>
          <p:nvSpPr>
            <p:cNvPr id="101" name=""/>
            <p:cNvSpPr/>
            <p:nvPr/>
          </p:nvSpPr>
          <p:spPr>
            <a:xfrm>
              <a:off x="2192400" y="4151160"/>
              <a:ext cx="1817640" cy="596880"/>
            </a:xfrm>
            <a:prstGeom prst="rect">
              <a:avLst/>
            </a:prstGeom>
            <a:gradFill rotWithShape="0">
              <a:gsLst>
                <a:gs pos="0">
                  <a:srgbClr val="868686"/>
                </a:gs>
                <a:gs pos="100000">
                  <a:srgbClr val="5d5d5d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452760" y="4297320"/>
              <a:ext cx="42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93520" y="4221000"/>
              <a:ext cx="140400" cy="15264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327040" y="4297320"/>
              <a:ext cx="844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327040" y="4373640"/>
              <a:ext cx="844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327040" y="4449600"/>
              <a:ext cx="844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327040" y="4525920"/>
              <a:ext cx="844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327040" y="4602240"/>
              <a:ext cx="844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473920" y="3008160"/>
              <a:ext cx="1254240" cy="97812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614320" y="3160800"/>
              <a:ext cx="973080" cy="672840"/>
            </a:xfrm>
            <a:prstGeom prst="rect">
              <a:avLst/>
            </a:prstGeom>
            <a:solidFill>
              <a:srgbClr val="3366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318120" y="3846600"/>
              <a:ext cx="58320" cy="63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458880" y="3846600"/>
              <a:ext cx="58320" cy="63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825640" y="3998880"/>
              <a:ext cx="550800" cy="13968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749320" y="3230640"/>
              <a:ext cx="704880" cy="534960"/>
            </a:xfrm>
            <a:custGeom>
              <a:avLst/>
              <a:gdLst/>
              <a:ahLst/>
              <a:rect l="l" t="t" r="r" b="b"/>
              <a:pathLst>
                <a:path w="481" h="337">
                  <a:moveTo>
                    <a:pt x="0" y="336"/>
                  </a:moveTo>
                  <a:lnTo>
                    <a:pt x="0" y="144"/>
                  </a:lnTo>
                  <a:lnTo>
                    <a:pt x="48" y="144"/>
                  </a:lnTo>
                  <a:lnTo>
                    <a:pt x="48" y="192"/>
                  </a:lnTo>
                  <a:lnTo>
                    <a:pt x="96" y="192"/>
                  </a:lnTo>
                  <a:lnTo>
                    <a:pt x="96" y="288"/>
                  </a:lnTo>
                  <a:lnTo>
                    <a:pt x="144" y="288"/>
                  </a:lnTo>
                  <a:lnTo>
                    <a:pt x="144" y="0"/>
                  </a:lnTo>
                  <a:lnTo>
                    <a:pt x="192" y="0"/>
                  </a:lnTo>
                  <a:lnTo>
                    <a:pt x="192" y="48"/>
                  </a:lnTo>
                  <a:lnTo>
                    <a:pt x="240" y="48"/>
                  </a:lnTo>
                  <a:lnTo>
                    <a:pt x="240" y="0"/>
                  </a:lnTo>
                  <a:lnTo>
                    <a:pt x="288" y="0"/>
                  </a:lnTo>
                  <a:lnTo>
                    <a:pt x="288" y="96"/>
                  </a:lnTo>
                  <a:lnTo>
                    <a:pt x="336" y="96"/>
                  </a:lnTo>
                  <a:lnTo>
                    <a:pt x="336" y="144"/>
                  </a:lnTo>
                  <a:lnTo>
                    <a:pt x="384" y="144"/>
                  </a:lnTo>
                  <a:lnTo>
                    <a:pt x="384" y="240"/>
                  </a:lnTo>
                  <a:lnTo>
                    <a:pt x="432" y="240"/>
                  </a:lnTo>
                  <a:lnTo>
                    <a:pt x="432" y="192"/>
                  </a:lnTo>
                  <a:lnTo>
                    <a:pt x="480" y="192"/>
                  </a:lnTo>
                  <a:lnTo>
                    <a:pt x="480" y="336"/>
                  </a:lnTo>
                  <a:lnTo>
                    <a:pt x="0" y="33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4014720" y="3382920"/>
            <a:ext cx="1127160" cy="1144800"/>
          </a:xfrm>
          <a:custGeom>
            <a:avLst/>
            <a:gdLst/>
            <a:ahLst/>
            <a:rect l="l" t="t" r="r" b="b"/>
            <a:pathLst>
              <a:path w="769" h="721">
                <a:moveTo>
                  <a:pt x="0" y="576"/>
                </a:moveTo>
                <a:lnTo>
                  <a:pt x="288" y="576"/>
                </a:lnTo>
                <a:lnTo>
                  <a:pt x="288" y="0"/>
                </a:lnTo>
                <a:lnTo>
                  <a:pt x="768" y="0"/>
                </a:lnTo>
                <a:lnTo>
                  <a:pt x="768" y="144"/>
                </a:lnTo>
                <a:lnTo>
                  <a:pt x="144" y="144"/>
                </a:lnTo>
                <a:lnTo>
                  <a:pt x="144" y="720"/>
                </a:lnTo>
                <a:lnTo>
                  <a:pt x="0" y="720"/>
                </a:lnTo>
                <a:lnTo>
                  <a:pt x="0" y="576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26040" y="3382920"/>
            <a:ext cx="212760" cy="1144800"/>
          </a:xfrm>
          <a:custGeom>
            <a:avLst/>
            <a:gdLst/>
            <a:ahLst/>
            <a:rect l="l" t="t" r="r" b="b"/>
            <a:pathLst>
              <a:path w="145" h="721">
                <a:moveTo>
                  <a:pt x="0" y="144"/>
                </a:moveTo>
                <a:lnTo>
                  <a:pt x="144" y="0"/>
                </a:lnTo>
                <a:lnTo>
                  <a:pt x="144" y="576"/>
                </a:lnTo>
                <a:lnTo>
                  <a:pt x="0" y="720"/>
                </a:lnTo>
                <a:lnTo>
                  <a:pt x="0" y="144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00840" y="2117880"/>
            <a:ext cx="1450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C ($1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30480" y="2544840"/>
            <a:ext cx="0" cy="5331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033640" y="4937040"/>
            <a:ext cx="21495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nux / Wind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OT / P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16640" y="2803680"/>
            <a:ext cx="1209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MB/s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26040" y="3154320"/>
            <a:ext cx="141120" cy="60948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1C4DC-D7A9-4DC5-BBE3-B9759308C595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das Short Course - Real Time 2003 - Montreal - Part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rt I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6" name=""/>
          <p:cNvSpPr/>
          <p:nvPr/>
        </p:nvSpPr>
        <p:spPr>
          <a:xfrm>
            <a:off x="2743200" y="1295280"/>
            <a:ext cx="3681360" cy="4191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lin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stal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figu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unning a small experi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tilities and u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nown deploy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vanced 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ustomization of run control and monit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pecial front-end fea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vanced onlin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7" name="" descr=""/>
          <p:cNvPicPr/>
          <p:nvPr/>
        </p:nvPicPr>
        <p:blipFill>
          <a:blip r:embed="rId1"/>
          <a:stretch/>
        </p:blipFill>
        <p:spPr>
          <a:xfrm>
            <a:off x="7543800" y="4952880"/>
            <a:ext cx="1066680" cy="1236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60EE2-C18B-4D53-A995-19AE3AB405D3}" type="slidenum">
              <a:t>10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das Short Course - Real Time 2003 - Montreal - Part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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periment @ PSI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024360" y="1328760"/>
            <a:ext cx="3071520" cy="46940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141560" y="2133720"/>
            <a:ext cx="142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ront-end 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77560" y="4419720"/>
            <a:ext cx="117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ME-C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46960" y="5780160"/>
            <a:ext cx="149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astbus-C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4520" y="3168720"/>
            <a:ext cx="151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MAC cr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32240" y="2362320"/>
            <a:ext cx="703080" cy="4572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4502160" y="2743200"/>
            <a:ext cx="2039760" cy="38088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90760" y="4648320"/>
            <a:ext cx="985680" cy="60948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666880" y="5562720"/>
            <a:ext cx="1694160" cy="38088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4572000" y="3276720"/>
            <a:ext cx="1969920" cy="15228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133600" y="3429000"/>
            <a:ext cx="1407960" cy="30492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5133600" y="3581280"/>
            <a:ext cx="1477800" cy="11430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B428A-4AA7-4A68-AEBB-75D748BBE0D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das Short Course - Real Time 2003 - Montreal - Part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727440" y="6019920"/>
            <a:ext cx="56340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104240" y="1531800"/>
            <a:ext cx="1336320" cy="1135080"/>
          </a:xfrm>
          <a:prstGeom prst="rect">
            <a:avLst/>
          </a:prstGeom>
          <a:gradFill rotWithShape="0">
            <a:gsLst>
              <a:gs pos="0">
                <a:srgbClr val="fbff7a"/>
              </a:gs>
              <a:gs pos="100000">
                <a:srgbClr val="aeb154"/>
              </a:gs>
            </a:gsLst>
            <a:lin ang="54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66840" y="6095880"/>
            <a:ext cx="56196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039760" y="695160"/>
            <a:ext cx="5064480" cy="524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dium size experi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"/>
          <p:cNvSpPr/>
          <p:nvPr/>
        </p:nvSpPr>
        <p:spPr>
          <a:xfrm>
            <a:off x="352440" y="2124000"/>
            <a:ext cx="1195200" cy="392040"/>
          </a:xfrm>
          <a:prstGeom prst="rect">
            <a:avLst/>
          </a:prstGeom>
          <a:gradFill rotWithShape="0">
            <a:gsLst>
              <a:gs pos="0">
                <a:srgbClr val="868686"/>
              </a:gs>
              <a:gs pos="100000">
                <a:srgbClr val="5d5d5d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81160" y="2219400"/>
            <a:ext cx="276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73320" y="2170080"/>
            <a:ext cx="91800" cy="10008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1360" y="2219400"/>
            <a:ext cx="555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1360" y="2270160"/>
            <a:ext cx="555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1360" y="2319480"/>
            <a:ext cx="555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1360" y="2370240"/>
            <a:ext cx="555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1360" y="2419200"/>
            <a:ext cx="555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6400" y="1371600"/>
            <a:ext cx="825840" cy="64296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30360" y="1471680"/>
            <a:ext cx="637920" cy="44280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92240" y="1922400"/>
            <a:ext cx="3960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85840" y="1922400"/>
            <a:ext cx="3816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68240" y="2022480"/>
            <a:ext cx="363600" cy="92160"/>
          </a:xfrm>
          <a:prstGeom prst="rect">
            <a:avLst/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196040" y="1631880"/>
            <a:ext cx="1152720" cy="623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340760" y="1631880"/>
            <a:ext cx="0" cy="6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483320" y="1631880"/>
            <a:ext cx="0" cy="6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9480" y="1631880"/>
            <a:ext cx="0" cy="6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772400" y="1631880"/>
            <a:ext cx="0" cy="6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915320" y="1631880"/>
            <a:ext cx="0" cy="6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061480" y="1631880"/>
            <a:ext cx="0" cy="6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204040" y="1631880"/>
            <a:ext cx="0" cy="6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201080" y="2363760"/>
            <a:ext cx="1143000" cy="250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2440" y="3952800"/>
            <a:ext cx="1195200" cy="392040"/>
          </a:xfrm>
          <a:prstGeom prst="rect">
            <a:avLst/>
          </a:prstGeom>
          <a:gradFill rotWithShape="0">
            <a:gsLst>
              <a:gs pos="0">
                <a:srgbClr val="868686"/>
              </a:gs>
              <a:gs pos="100000">
                <a:srgbClr val="5d5d5d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81160" y="4048200"/>
            <a:ext cx="276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73320" y="3998880"/>
            <a:ext cx="91800" cy="10008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1360" y="4048200"/>
            <a:ext cx="555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1360" y="4098960"/>
            <a:ext cx="555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1360" y="4148280"/>
            <a:ext cx="555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41360" y="4199040"/>
            <a:ext cx="555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1360" y="4248000"/>
            <a:ext cx="555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61960" y="3200400"/>
            <a:ext cx="827280" cy="64296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92240" y="3751200"/>
            <a:ext cx="3960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85840" y="3751200"/>
            <a:ext cx="3816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8240" y="3851280"/>
            <a:ext cx="363600" cy="92160"/>
          </a:xfrm>
          <a:prstGeom prst="rect">
            <a:avLst/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828800" y="5791320"/>
            <a:ext cx="1195560" cy="392040"/>
          </a:xfrm>
          <a:prstGeom prst="rect">
            <a:avLst/>
          </a:prstGeom>
          <a:gradFill rotWithShape="0">
            <a:gsLst>
              <a:gs pos="0">
                <a:srgbClr val="868686"/>
              </a:gs>
              <a:gs pos="100000">
                <a:srgbClr val="5d5d5d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657520" y="5886360"/>
            <a:ext cx="277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51120" y="5837400"/>
            <a:ext cx="92160" cy="9972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17720" y="5886360"/>
            <a:ext cx="555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17720" y="5937120"/>
            <a:ext cx="555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17720" y="5986440"/>
            <a:ext cx="555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17720" y="6037200"/>
            <a:ext cx="555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17720" y="6086520"/>
            <a:ext cx="555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013120" y="5038560"/>
            <a:ext cx="826920" cy="64296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06720" y="5138640"/>
            <a:ext cx="639720" cy="44316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68600" y="5589720"/>
            <a:ext cx="3960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662200" y="5589720"/>
            <a:ext cx="3816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44600" y="5689440"/>
            <a:ext cx="363600" cy="92160"/>
          </a:xfrm>
          <a:prstGeom prst="rect">
            <a:avLst/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7104240" y="2827440"/>
            <a:ext cx="1336320" cy="1135080"/>
            <a:chOff x="7104240" y="2827440"/>
            <a:chExt cx="1336320" cy="1135080"/>
          </a:xfrm>
        </p:grpSpPr>
        <p:sp>
          <p:nvSpPr>
            <p:cNvPr id="187" name=""/>
            <p:cNvSpPr/>
            <p:nvPr/>
          </p:nvSpPr>
          <p:spPr>
            <a:xfrm>
              <a:off x="7104240" y="2827440"/>
              <a:ext cx="1336320" cy="1135080"/>
            </a:xfrm>
            <a:prstGeom prst="rect">
              <a:avLst/>
            </a:prstGeom>
            <a:gradFill rotWithShape="0">
              <a:gsLst>
                <a:gs pos="0">
                  <a:srgbClr val="fbff7a"/>
                </a:gs>
                <a:gs pos="100000">
                  <a:srgbClr val="aeb154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2927160"/>
              <a:ext cx="1152360" cy="62388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340400" y="2927160"/>
              <a:ext cx="0" cy="62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484400" y="2927160"/>
              <a:ext cx="0" cy="62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8400" y="2927160"/>
              <a:ext cx="0" cy="62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772400" y="2927160"/>
              <a:ext cx="0" cy="62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16400" y="2927160"/>
              <a:ext cx="0" cy="62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060400" y="2927160"/>
              <a:ext cx="0" cy="62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204400" y="2927160"/>
              <a:ext cx="0" cy="62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200000" y="3659400"/>
              <a:ext cx="1144440" cy="251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7104240" y="4114800"/>
            <a:ext cx="1336320" cy="2133360"/>
            <a:chOff x="7104240" y="4114800"/>
            <a:chExt cx="1336320" cy="2133360"/>
          </a:xfrm>
        </p:grpSpPr>
        <p:sp>
          <p:nvSpPr>
            <p:cNvPr id="198" name=""/>
            <p:cNvSpPr/>
            <p:nvPr/>
          </p:nvSpPr>
          <p:spPr>
            <a:xfrm>
              <a:off x="7104240" y="4114800"/>
              <a:ext cx="1336320" cy="2133360"/>
            </a:xfrm>
            <a:prstGeom prst="rect">
              <a:avLst/>
            </a:prstGeom>
            <a:gradFill rotWithShape="0">
              <a:gsLst>
                <a:gs pos="0">
                  <a:srgbClr val="fbff7a"/>
                </a:gs>
                <a:gs pos="100000">
                  <a:srgbClr val="aeb154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196040" y="4302000"/>
              <a:ext cx="1152360" cy="117252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40400" y="4302000"/>
              <a:ext cx="0" cy="117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484400" y="4302000"/>
              <a:ext cx="0" cy="117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628400" y="4302000"/>
              <a:ext cx="0" cy="117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772400" y="4302000"/>
              <a:ext cx="0" cy="117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916400" y="4302000"/>
              <a:ext cx="0" cy="117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060400" y="4302000"/>
              <a:ext cx="0" cy="117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204400" y="4302000"/>
              <a:ext cx="0" cy="117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00000" y="5678640"/>
              <a:ext cx="1144440" cy="4723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844560" y="5791320"/>
            <a:ext cx="422280" cy="3808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14400" y="5867280"/>
            <a:ext cx="28116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14400" y="6019920"/>
            <a:ext cx="28116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14400" y="6095880"/>
            <a:ext cx="28116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2190600" y="5146560"/>
            <a:ext cx="479520" cy="4222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655560" y="3300480"/>
            <a:ext cx="638280" cy="44280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5"/>
          <a:stretch/>
        </p:blipFill>
        <p:spPr>
          <a:xfrm>
            <a:off x="773280" y="3313080"/>
            <a:ext cx="369720" cy="4208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6"/>
          <a:stretch/>
        </p:blipFill>
        <p:spPr>
          <a:xfrm>
            <a:off x="695160" y="1482840"/>
            <a:ext cx="459000" cy="4269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547640" y="2286000"/>
            <a:ext cx="351000" cy="0"/>
          </a:xfrm>
          <a:prstGeom prst="line">
            <a:avLst/>
          </a:prstGeom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47640" y="4114800"/>
            <a:ext cx="351000" cy="0"/>
          </a:xfrm>
          <a:prstGeom prst="line">
            <a:avLst/>
          </a:prstGeom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898640" y="1676520"/>
            <a:ext cx="5346720" cy="4114800"/>
          </a:xfrm>
          <a:custGeom>
            <a:avLst/>
            <a:gdLst/>
            <a:ahLst/>
            <a:rect l="l" t="t" r="r" b="b"/>
            <a:pathLst>
              <a:path w="3648" h="2592">
                <a:moveTo>
                  <a:pt x="3645" y="2112"/>
                </a:moveTo>
                <a:lnTo>
                  <a:pt x="3648" y="864"/>
                </a:lnTo>
                <a:lnTo>
                  <a:pt x="3648" y="0"/>
                </a:lnTo>
                <a:lnTo>
                  <a:pt x="0" y="0"/>
                </a:lnTo>
                <a:lnTo>
                  <a:pt x="0" y="2592"/>
                </a:lnTo>
              </a:path>
            </a:pathLst>
          </a:custGeom>
          <a:noFill/>
          <a:ln w="5724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32640" y="990720"/>
            <a:ext cx="12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nito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9720" y="2666880"/>
            <a:ext cx="95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n-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15840" y="5029200"/>
            <a:ext cx="96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g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1480" y="57913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53040" y="1913040"/>
            <a:ext cx="105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ME CP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53040" y="3208320"/>
            <a:ext cx="105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ME CP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110640" y="4572000"/>
            <a:ext cx="91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ast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34000" y="1752480"/>
            <a:ext cx="333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igabit-Ethernet ~tens of MB/s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948440" y="1989000"/>
            <a:ext cx="843120" cy="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932960" y="162252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Comic Sans MS"/>
              </a:rPr>
              <a:t>CAM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290840" y="3733920"/>
            <a:ext cx="1125720" cy="457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361040" y="3809880"/>
            <a:ext cx="56340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Arial"/>
              </a:rPr>
              <a:t>123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994280" y="3809880"/>
            <a:ext cx="6984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33960" y="3809880"/>
            <a:ext cx="7128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275440" y="3809880"/>
            <a:ext cx="6984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994280" y="3962520"/>
            <a:ext cx="6984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33960" y="3962520"/>
            <a:ext cx="7128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75440" y="3962520"/>
            <a:ext cx="6984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361040" y="4038480"/>
            <a:ext cx="6984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02160" y="4038480"/>
            <a:ext cx="6984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641840" y="4038480"/>
            <a:ext cx="7128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290840" y="3124080"/>
            <a:ext cx="1125720" cy="457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361040" y="3200400"/>
            <a:ext cx="56340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Arial"/>
              </a:rPr>
              <a:t>123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994280" y="3200400"/>
            <a:ext cx="6984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133960" y="3200400"/>
            <a:ext cx="7128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275440" y="3200400"/>
            <a:ext cx="6984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994280" y="3352680"/>
            <a:ext cx="6984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133960" y="3352680"/>
            <a:ext cx="7128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75440" y="3352680"/>
            <a:ext cx="6984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361040" y="3429000"/>
            <a:ext cx="6984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02160" y="3429000"/>
            <a:ext cx="6984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41840" y="3429000"/>
            <a:ext cx="7128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24360" y="2682720"/>
            <a:ext cx="703080" cy="3337200"/>
          </a:xfrm>
          <a:custGeom>
            <a:avLst/>
            <a:gdLst/>
            <a:ahLst/>
            <a:rect l="l" t="t" r="r" b="b"/>
            <a:pathLst>
              <a:path w="480" h="2102">
                <a:moveTo>
                  <a:pt x="248" y="0"/>
                </a:moveTo>
                <a:lnTo>
                  <a:pt x="480" y="182"/>
                </a:lnTo>
                <a:lnTo>
                  <a:pt x="480" y="2102"/>
                </a:lnTo>
                <a:lnTo>
                  <a:pt x="0" y="2102"/>
                </a:lnTo>
              </a:path>
            </a:pathLst>
          </a:custGeom>
          <a:noFill/>
          <a:ln w="38160">
            <a:solidFill>
              <a:srgbClr val="3366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727440" y="3352680"/>
            <a:ext cx="56340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727440" y="3962520"/>
            <a:ext cx="56340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4219560" y="4495680"/>
            <a:ext cx="1644480" cy="1828800"/>
            <a:chOff x="4219560" y="4495680"/>
            <a:chExt cx="1644480" cy="1828800"/>
          </a:xfrm>
        </p:grpSpPr>
        <p:sp>
          <p:nvSpPr>
            <p:cNvPr id="255" name=""/>
            <p:cNvSpPr/>
            <p:nvPr/>
          </p:nvSpPr>
          <p:spPr>
            <a:xfrm>
              <a:off x="4219560" y="4495680"/>
              <a:ext cx="1196280" cy="18288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89760" y="4572000"/>
              <a:ext cx="69840" cy="759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289760" y="4724280"/>
              <a:ext cx="6984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289760" y="4876560"/>
              <a:ext cx="6984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289760" y="5029200"/>
              <a:ext cx="69840" cy="759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289760" y="5181480"/>
              <a:ext cx="6984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289760" y="5333760"/>
              <a:ext cx="6984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289760" y="5486400"/>
              <a:ext cx="69840" cy="759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289760" y="5638680"/>
              <a:ext cx="6984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289760" y="5790960"/>
              <a:ext cx="6984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289760" y="5943600"/>
              <a:ext cx="69840" cy="759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289760" y="6095880"/>
              <a:ext cx="6984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430520" y="4572000"/>
              <a:ext cx="70200" cy="759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430520" y="4724280"/>
              <a:ext cx="7020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430520" y="4876560"/>
              <a:ext cx="7020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430520" y="5029200"/>
              <a:ext cx="70200" cy="759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430520" y="5181480"/>
              <a:ext cx="7020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30520" y="5333760"/>
              <a:ext cx="7020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430520" y="5486400"/>
              <a:ext cx="70200" cy="759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430520" y="5638680"/>
              <a:ext cx="7020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430520" y="5790960"/>
              <a:ext cx="7020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430520" y="5943600"/>
              <a:ext cx="70200" cy="759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430520" y="6095880"/>
              <a:ext cx="7020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571280" y="4572000"/>
              <a:ext cx="70200" cy="759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571280" y="4724280"/>
              <a:ext cx="7020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71280" y="4876560"/>
              <a:ext cx="7020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571280" y="5029200"/>
              <a:ext cx="70200" cy="759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71280" y="5181480"/>
              <a:ext cx="7020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71280" y="5333760"/>
              <a:ext cx="7020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71280" y="5486400"/>
              <a:ext cx="70200" cy="759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571280" y="5638680"/>
              <a:ext cx="7020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571280" y="5790960"/>
              <a:ext cx="7020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571280" y="5943600"/>
              <a:ext cx="70200" cy="759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571280" y="6095880"/>
              <a:ext cx="7020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712400" y="4572000"/>
              <a:ext cx="69840" cy="759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712400" y="4724280"/>
              <a:ext cx="6984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712400" y="4876560"/>
              <a:ext cx="6984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712400" y="5029200"/>
              <a:ext cx="69840" cy="759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712400" y="5181480"/>
              <a:ext cx="6984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712400" y="5333760"/>
              <a:ext cx="6984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712400" y="5486400"/>
              <a:ext cx="69840" cy="759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712400" y="5638680"/>
              <a:ext cx="6984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712400" y="5790960"/>
              <a:ext cx="6984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712400" y="5943600"/>
              <a:ext cx="69840" cy="759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712400" y="6095880"/>
              <a:ext cx="6984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852800" y="4572000"/>
              <a:ext cx="70200" cy="759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852800" y="4724280"/>
              <a:ext cx="7020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852800" y="4876560"/>
              <a:ext cx="7020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852800" y="5029200"/>
              <a:ext cx="70200" cy="759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852800" y="5181480"/>
              <a:ext cx="7020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852800" y="5333760"/>
              <a:ext cx="7020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52800" y="5486400"/>
              <a:ext cx="70200" cy="759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852800" y="5638680"/>
              <a:ext cx="7020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52800" y="5790960"/>
              <a:ext cx="7020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852800" y="5943600"/>
              <a:ext cx="70200" cy="759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852800" y="6095880"/>
              <a:ext cx="7020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993560" y="4572000"/>
              <a:ext cx="70200" cy="759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93560" y="4724280"/>
              <a:ext cx="7020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993560" y="4876560"/>
              <a:ext cx="7020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993560" y="5029200"/>
              <a:ext cx="70200" cy="759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993560" y="5181480"/>
              <a:ext cx="7020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993560" y="5333760"/>
              <a:ext cx="7020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993560" y="5486400"/>
              <a:ext cx="70200" cy="759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993560" y="5638680"/>
              <a:ext cx="7020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993560" y="5790960"/>
              <a:ext cx="7020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993560" y="5943600"/>
              <a:ext cx="70200" cy="759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993560" y="6095880"/>
              <a:ext cx="7020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134680" y="4572000"/>
              <a:ext cx="69840" cy="759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134680" y="4724280"/>
              <a:ext cx="6984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34680" y="4876560"/>
              <a:ext cx="6984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134680" y="5029200"/>
              <a:ext cx="69840" cy="759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134680" y="5181480"/>
              <a:ext cx="6984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34680" y="5333760"/>
              <a:ext cx="6984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134680" y="5486400"/>
              <a:ext cx="69840" cy="759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34680" y="5638680"/>
              <a:ext cx="6984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34680" y="5790960"/>
              <a:ext cx="6984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134680" y="5943600"/>
              <a:ext cx="69840" cy="759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134680" y="6095880"/>
              <a:ext cx="6984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275440" y="4572000"/>
              <a:ext cx="70200" cy="759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275440" y="4724280"/>
              <a:ext cx="7020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275440" y="4876560"/>
              <a:ext cx="7020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275440" y="5029200"/>
              <a:ext cx="70200" cy="759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275440" y="5181480"/>
              <a:ext cx="7020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275440" y="5333760"/>
              <a:ext cx="7020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275440" y="5486400"/>
              <a:ext cx="70200" cy="759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275440" y="5638680"/>
              <a:ext cx="7020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275440" y="5790960"/>
              <a:ext cx="7020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275440" y="5943600"/>
              <a:ext cx="70200" cy="759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275440" y="6095880"/>
              <a:ext cx="7020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10440" y="5322600"/>
              <a:ext cx="45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H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 rot="16200000">
            <a:off x="2768040" y="4092480"/>
            <a:ext cx="135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low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718720" y="2362320"/>
            <a:ext cx="112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am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D455E-B66A-4DDC-B28D-49877456F8B2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das Short Course - Real Time 2003 - Montreal - Part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mits of MID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914400" y="1295280"/>
            <a:ext cx="8380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ront-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828800" y="1295280"/>
            <a:ext cx="8380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ront-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743200" y="1295280"/>
            <a:ext cx="8380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ront-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657600" y="1295280"/>
            <a:ext cx="8380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ront-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572000" y="1295280"/>
            <a:ext cx="8380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ront-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86400" y="1295280"/>
            <a:ext cx="8380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ront-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400800" y="1295280"/>
            <a:ext cx="8380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ront-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315200" y="1295280"/>
            <a:ext cx="8380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ront-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914400" y="5257800"/>
            <a:ext cx="838080" cy="30492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828800" y="5257800"/>
            <a:ext cx="838080" cy="30492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43200" y="5257800"/>
            <a:ext cx="838080" cy="30492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657600" y="5257800"/>
            <a:ext cx="838080" cy="30492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72000" y="5257800"/>
            <a:ext cx="838080" cy="30492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486400" y="5257800"/>
            <a:ext cx="838080" cy="30492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400800" y="5257800"/>
            <a:ext cx="838080" cy="30492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315200" y="5257800"/>
            <a:ext cx="838080" cy="30492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1371600" y="1600200"/>
            <a:ext cx="6324480" cy="1828800"/>
            <a:chOff x="1371600" y="1600200"/>
            <a:chExt cx="6324480" cy="1828800"/>
          </a:xfrm>
        </p:grpSpPr>
        <p:sp>
          <p:nvSpPr>
            <p:cNvPr id="365" name=""/>
            <p:cNvSpPr/>
            <p:nvPr/>
          </p:nvSpPr>
          <p:spPr>
            <a:xfrm>
              <a:off x="1371600" y="1600200"/>
              <a:ext cx="320040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286000" y="1600200"/>
              <a:ext cx="228600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200400" y="1600200"/>
              <a:ext cx="137160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14800" y="1600200"/>
              <a:ext cx="45720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4572000" y="1600200"/>
              <a:ext cx="45720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4572000" y="1600200"/>
              <a:ext cx="137160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4572000" y="1600200"/>
              <a:ext cx="228600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4572000" y="1600200"/>
              <a:ext cx="312408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371600" y="3429000"/>
            <a:ext cx="6324480" cy="1828800"/>
            <a:chOff x="1371600" y="3429000"/>
            <a:chExt cx="6324480" cy="1828800"/>
          </a:xfrm>
        </p:grpSpPr>
        <p:sp>
          <p:nvSpPr>
            <p:cNvPr id="374" name=""/>
            <p:cNvSpPr/>
            <p:nvPr/>
          </p:nvSpPr>
          <p:spPr>
            <a:xfrm flipV="1">
              <a:off x="1371600" y="3429000"/>
              <a:ext cx="320040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2286000" y="3429000"/>
              <a:ext cx="228600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3200400" y="3429000"/>
              <a:ext cx="137160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4114800" y="3429000"/>
              <a:ext cx="45720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 flipV="1">
              <a:off x="4572000" y="3429000"/>
              <a:ext cx="45720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 flipV="1">
              <a:off x="4572000" y="3429000"/>
              <a:ext cx="137160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 flipV="1">
              <a:off x="4572000" y="3429000"/>
              <a:ext cx="228600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 flipV="1">
              <a:off x="4572000" y="3429000"/>
              <a:ext cx="312408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3733920" y="2895480"/>
            <a:ext cx="1752480" cy="9907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943600" y="2895480"/>
            <a:ext cx="2971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IDAS not optimized for distributed event buil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tter systems: CODA (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coda.jlab.org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994400" y="6019920"/>
            <a:ext cx="523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MIDAS is not for LHC experiments, but to develop them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440E2-6D71-48FB-9640-6B861DD261A1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das Short Course - Real Time 2003 - Montreal - Part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51080" y="1295280"/>
            <a:ext cx="2811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235320" y="380880"/>
            <a:ext cx="26035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istor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"/>
          <p:cNvSpPr/>
          <p:nvPr/>
        </p:nvSpPr>
        <p:spPr>
          <a:xfrm>
            <a:off x="2039760" y="1295280"/>
            <a:ext cx="0" cy="49532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143000" y="1143000"/>
            <a:ext cx="644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732760" y="160020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X-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05040" y="2286000"/>
            <a:ext cx="207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ct. ’93 MIDAS 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320920" y="2362320"/>
            <a:ext cx="211320" cy="228600"/>
          </a:xfrm>
          <a:prstGeom prst="diamond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251080" y="2743200"/>
            <a:ext cx="281160" cy="380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648520" y="2787480"/>
            <a:ext cx="171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mple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rot="10800000">
            <a:off x="2250720" y="3200040"/>
            <a:ext cx="281160" cy="2057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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peri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rot="16200000">
            <a:off x="2010600" y="5574240"/>
            <a:ext cx="761760" cy="28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390760" y="6095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5275440" y="4724280"/>
            <a:ext cx="3462120" cy="580680"/>
            <a:chOff x="5275440" y="4724280"/>
            <a:chExt cx="3462120" cy="580680"/>
          </a:xfrm>
        </p:grpSpPr>
        <p:sp>
          <p:nvSpPr>
            <p:cNvPr id="398" name=""/>
            <p:cNvSpPr/>
            <p:nvPr/>
          </p:nvSpPr>
          <p:spPr>
            <a:xfrm>
              <a:off x="5275440" y="4876920"/>
              <a:ext cx="210960" cy="228600"/>
            </a:xfrm>
            <a:prstGeom prst="diamond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601960" y="4724280"/>
              <a:ext cx="3135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MIDAS becomes standard DA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t PSI and TRIUM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3727080" y="3429000"/>
            <a:ext cx="1239480" cy="2895480"/>
            <a:chOff x="3727080" y="3429000"/>
            <a:chExt cx="1239480" cy="2895480"/>
          </a:xfrm>
        </p:grpSpPr>
        <p:sp>
          <p:nvSpPr>
            <p:cNvPr id="401" name=""/>
            <p:cNvSpPr/>
            <p:nvPr/>
          </p:nvSpPr>
          <p:spPr>
            <a:xfrm rot="10800000">
              <a:off x="3727080" y="3429000"/>
              <a:ext cx="282600" cy="2666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TRIUM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107600" y="3494160"/>
              <a:ext cx="85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CHA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110480" y="4572000"/>
              <a:ext cx="61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ISA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144680" y="5181480"/>
              <a:ext cx="77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TW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868560" y="6095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275440" y="3657600"/>
            <a:ext cx="1822680" cy="337320"/>
            <a:chOff x="5275440" y="3657600"/>
            <a:chExt cx="1822680" cy="337320"/>
          </a:xfrm>
        </p:grpSpPr>
        <p:sp>
          <p:nvSpPr>
            <p:cNvPr id="407" name=""/>
            <p:cNvSpPr/>
            <p:nvPr/>
          </p:nvSpPr>
          <p:spPr>
            <a:xfrm>
              <a:off x="5275440" y="3733920"/>
              <a:ext cx="210960" cy="228600"/>
            </a:xfrm>
            <a:prstGeom prst="diamond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657040" y="3657600"/>
              <a:ext cx="144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Real-Time ‘9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9" name=""/>
          <p:cNvSpPr/>
          <p:nvPr/>
        </p:nvSpPr>
        <p:spPr>
          <a:xfrm rot="16200000">
            <a:off x="2602080" y="4520520"/>
            <a:ext cx="48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813040" y="4952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2813040" y="36572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C4316-1AB9-4F41-B969-9D962D9755ED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das Short Course - Real Time 2003 - Montreal - Part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2415960"/>
            <a:ext cx="7772400" cy="1469880"/>
          </a:xfrm>
          <a:prstGeom prst="rect">
            <a:avLst/>
          </a:prstGeom>
          <a:solidFill>
            <a:srgbClr val="a2c2fe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emote Procedure Call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9DF7F-8A78-4999-BB3B-E27838E233BA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das Short Course - Real Time 2003 - Montreal - Part I</a:t>
            </a: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latform independen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"/>
          <p:cNvSpPr/>
          <p:nvPr/>
        </p:nvSpPr>
        <p:spPr>
          <a:xfrm>
            <a:off x="2749680" y="1530360"/>
            <a:ext cx="5545080" cy="1587600"/>
          </a:xfrm>
          <a:prstGeom prst="rect">
            <a:avLst/>
          </a:prstGeom>
          <a:solidFill>
            <a:srgbClr val="a2c2fe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22280" y="3352680"/>
            <a:ext cx="787716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749680" y="3587760"/>
            <a:ext cx="5545080" cy="23493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52720" y="1508040"/>
            <a:ext cx="23140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perating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dependent ca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62160" y="3641760"/>
            <a:ext cx="216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ystem call 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2785320" y="1606680"/>
            <a:ext cx="2455920" cy="1358640"/>
            <a:chOff x="2785320" y="1606680"/>
            <a:chExt cx="2455920" cy="1358640"/>
          </a:xfrm>
        </p:grpSpPr>
        <p:sp>
          <p:nvSpPr>
            <p:cNvPr id="420" name=""/>
            <p:cNvSpPr/>
            <p:nvPr/>
          </p:nvSpPr>
          <p:spPr>
            <a:xfrm>
              <a:off x="2819520" y="1606680"/>
              <a:ext cx="2379240" cy="135864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8d6a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785320" y="1630440"/>
              <a:ext cx="2053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uffer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861640" y="1935000"/>
              <a:ext cx="237960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bm_open_buffer(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bm_send_event(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5804280" y="1606680"/>
            <a:ext cx="2418840" cy="1358640"/>
            <a:chOff x="5804280" y="1606680"/>
            <a:chExt cx="2418840" cy="1358640"/>
          </a:xfrm>
        </p:grpSpPr>
        <p:sp>
          <p:nvSpPr>
            <p:cNvPr id="424" name=""/>
            <p:cNvSpPr/>
            <p:nvPr/>
          </p:nvSpPr>
          <p:spPr>
            <a:xfrm>
              <a:off x="5843520" y="1606680"/>
              <a:ext cx="2379600" cy="1358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1b1b1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804280" y="1630440"/>
              <a:ext cx="21801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nline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b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886360" y="1936800"/>
              <a:ext cx="210528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db_find_key(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db_set_value(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3165480" y="2133720"/>
            <a:ext cx="2322360" cy="1753920"/>
          </a:xfrm>
          <a:custGeom>
            <a:avLst/>
            <a:gdLst/>
            <a:ahLst/>
            <a:rect l="l" t="t" r="r" b="b"/>
            <a:pathLst>
              <a:path w="1585" h="1105">
                <a:moveTo>
                  <a:pt x="1440" y="0"/>
                </a:moveTo>
                <a:lnTo>
                  <a:pt x="1584" y="0"/>
                </a:lnTo>
                <a:lnTo>
                  <a:pt x="1584" y="672"/>
                </a:lnTo>
                <a:lnTo>
                  <a:pt x="0" y="864"/>
                </a:lnTo>
                <a:lnTo>
                  <a:pt x="0" y="1104"/>
                </a:lnTo>
                <a:lnTo>
                  <a:pt x="480" y="1104"/>
                </a:lnTo>
              </a:path>
            </a:pathLst>
          </a:custGeom>
          <a:noFill/>
          <a:ln cap="rnd" w="50760">
            <a:solidFill>
              <a:srgbClr val="006666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852360" y="3687840"/>
            <a:ext cx="3690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_open_shared_memory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4038120" y="4038480"/>
            <a:ext cx="3657600" cy="685800"/>
            <a:chOff x="4038120" y="4038480"/>
            <a:chExt cx="3657600" cy="685800"/>
          </a:xfrm>
        </p:grpSpPr>
        <p:sp>
          <p:nvSpPr>
            <p:cNvPr id="430" name=""/>
            <p:cNvSpPr/>
            <p:nvPr/>
          </p:nvSpPr>
          <p:spPr>
            <a:xfrm flipH="1">
              <a:off x="4038120" y="4038480"/>
              <a:ext cx="1406520" cy="68580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585760" y="4038480"/>
              <a:ext cx="421920" cy="68580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796720" y="4038480"/>
              <a:ext cx="1899000" cy="68580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443120" y="4145040"/>
              <a:ext cx="2026080" cy="30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33"/>
                  </a:solidFill>
                  <a:latin typeface="Arial"/>
                </a:rPr>
                <a:t>conditional compil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2799360" y="4807080"/>
            <a:ext cx="5479920" cy="1054080"/>
            <a:chOff x="2799360" y="4807080"/>
            <a:chExt cx="5479920" cy="1054080"/>
          </a:xfrm>
        </p:grpSpPr>
        <p:sp>
          <p:nvSpPr>
            <p:cNvPr id="435" name=""/>
            <p:cNvSpPr/>
            <p:nvPr/>
          </p:nvSpPr>
          <p:spPr>
            <a:xfrm>
              <a:off x="2818800" y="4807080"/>
              <a:ext cx="2168640" cy="10540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465e75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7840" y="4832280"/>
              <a:ext cx="1712160" cy="39744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Windows 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799360" y="5386320"/>
              <a:ext cx="22575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OpenFileMapping(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69880" y="4807080"/>
              <a:ext cx="1957320" cy="10540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465e75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540040" y="4834080"/>
              <a:ext cx="735120" cy="39744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M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048280" y="5235480"/>
              <a:ext cx="20138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ppl$create_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shared_memory(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109640" y="4807080"/>
              <a:ext cx="1113480" cy="10540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465e75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227000" y="4832280"/>
              <a:ext cx="793080" cy="39744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NI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119000" y="5388120"/>
              <a:ext cx="1160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shmget(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" name=""/>
          <p:cNvSpPr/>
          <p:nvPr/>
        </p:nvSpPr>
        <p:spPr>
          <a:xfrm>
            <a:off x="871200" y="2408400"/>
            <a:ext cx="989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93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943200" y="4465800"/>
            <a:ext cx="756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7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D2D04-376E-4474-8AB2-0316B4F00347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das Short Course - Real Time 2003 - Montreal - Part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2889360" y="1378080"/>
            <a:ext cx="2738160" cy="5016240"/>
          </a:xfrm>
          <a:prstGeom prst="rect">
            <a:avLst/>
          </a:prstGeom>
          <a:solidFill>
            <a:srgbClr val="a2c2fe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960640" y="1530360"/>
            <a:ext cx="1182600" cy="47880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488760" y="944640"/>
            <a:ext cx="1620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uter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896560" y="1477800"/>
            <a:ext cx="1244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2921760" y="1905120"/>
            <a:ext cx="1227600" cy="837720"/>
            <a:chOff x="2921760" y="1905120"/>
            <a:chExt cx="1227600" cy="837720"/>
          </a:xfrm>
        </p:grpSpPr>
        <p:sp>
          <p:nvSpPr>
            <p:cNvPr id="451" name=""/>
            <p:cNvSpPr/>
            <p:nvPr/>
          </p:nvSpPr>
          <p:spPr>
            <a:xfrm>
              <a:off x="2921760" y="2163600"/>
              <a:ext cx="12276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subrout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446640" y="1905120"/>
              <a:ext cx="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3446640" y="2895480"/>
            <a:ext cx="119520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2913480" y="4343400"/>
            <a:ext cx="1727640" cy="2027880"/>
            <a:chOff x="2913480" y="4343400"/>
            <a:chExt cx="1727640" cy="2027880"/>
          </a:xfrm>
        </p:grpSpPr>
        <p:sp>
          <p:nvSpPr>
            <p:cNvPr id="455" name=""/>
            <p:cNvSpPr/>
            <p:nvPr/>
          </p:nvSpPr>
          <p:spPr>
            <a:xfrm>
              <a:off x="2913480" y="5668920"/>
              <a:ext cx="135396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contin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3446280" y="4343400"/>
              <a:ext cx="1194840" cy="129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4219560" y="3886200"/>
            <a:ext cx="13366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brout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IDAS RPC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BDB71-A2A8-43C4-BFC7-9C0E2CBDA1F8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das Short Course - Real Time 2003 - Montreal - Part I</a:t>
            </a: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1201680" y="1378080"/>
            <a:ext cx="2660760" cy="5016240"/>
          </a:xfrm>
          <a:prstGeom prst="rect">
            <a:avLst/>
          </a:prstGeom>
          <a:solidFill>
            <a:srgbClr val="a2c2fe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IDAS RPC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"/>
          <p:cNvSpPr/>
          <p:nvPr/>
        </p:nvSpPr>
        <p:spPr>
          <a:xfrm>
            <a:off x="4789440" y="1378080"/>
            <a:ext cx="2660760" cy="5016240"/>
          </a:xfrm>
          <a:prstGeom prst="rect">
            <a:avLst/>
          </a:prstGeom>
          <a:solidFill>
            <a:srgbClr val="a2c2fe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985000" y="3664080"/>
            <a:ext cx="1323720" cy="44424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brout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271520" y="1530360"/>
            <a:ext cx="1184400" cy="47880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799640" y="944640"/>
            <a:ext cx="1620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uter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207440" y="1477800"/>
            <a:ext cx="1244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232640" y="2163600"/>
            <a:ext cx="1227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ub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758960" y="19051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373360" y="944640"/>
            <a:ext cx="1623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uter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1758960" y="2697120"/>
            <a:ext cx="4880520" cy="960480"/>
            <a:chOff x="1758960" y="2697120"/>
            <a:chExt cx="4880520" cy="960480"/>
          </a:xfrm>
        </p:grpSpPr>
        <p:sp>
          <p:nvSpPr>
            <p:cNvPr id="470" name=""/>
            <p:cNvSpPr/>
            <p:nvPr/>
          </p:nvSpPr>
          <p:spPr>
            <a:xfrm>
              <a:off x="2420280" y="2697120"/>
              <a:ext cx="14940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subrout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stu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758960" y="2895480"/>
              <a:ext cx="703080" cy="15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698080" y="3200400"/>
              <a:ext cx="84384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728160" y="3048120"/>
              <a:ext cx="1406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191200" y="2849400"/>
              <a:ext cx="1448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dispatch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1224000" y="4114800"/>
            <a:ext cx="5478480" cy="2256480"/>
            <a:chOff x="1224000" y="4114800"/>
            <a:chExt cx="5478480" cy="2256480"/>
          </a:xfrm>
        </p:grpSpPr>
        <p:sp>
          <p:nvSpPr>
            <p:cNvPr id="476" name=""/>
            <p:cNvSpPr/>
            <p:nvPr/>
          </p:nvSpPr>
          <p:spPr>
            <a:xfrm>
              <a:off x="1224000" y="5668920"/>
              <a:ext cx="135396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contin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1757880" y="4876920"/>
              <a:ext cx="632880" cy="761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5697000" y="4114800"/>
              <a:ext cx="84384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188680" y="4602240"/>
              <a:ext cx="1513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send resul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453400" y="4449600"/>
              <a:ext cx="10368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rece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resul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3516120" y="4800600"/>
              <a:ext cx="1617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E0F88-64D8-4704-8D0E-8BB85DAB6483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das Short Course - Real Time 2003 - Montreal - Part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IDAS RPC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"/>
          <p:cNvSpPr/>
          <p:nvPr/>
        </p:nvSpPr>
        <p:spPr>
          <a:xfrm>
            <a:off x="646200" y="2292480"/>
            <a:ext cx="3573360" cy="21970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60320" y="2392200"/>
            <a:ext cx="210528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b1(a, &amp;b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568840" y="2292480"/>
            <a:ext cx="3013200" cy="21970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608440" y="2374920"/>
            <a:ext cx="2791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b1(int a, int *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*b = 2*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848160" y="1112760"/>
            <a:ext cx="7367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 IDL, stubs are produced “by han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44400" y="4502160"/>
            <a:ext cx="3575160" cy="1892160"/>
          </a:xfrm>
          <a:prstGeom prst="rect">
            <a:avLst/>
          </a:prstGeom>
          <a:solidFill>
            <a:srgbClr val="a2c2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96960" y="4844880"/>
            <a:ext cx="34768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b1(int a, int *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pc_call(ID_SUB1,a,b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568840" y="4502160"/>
            <a:ext cx="3013200" cy="1892160"/>
          </a:xfrm>
          <a:prstGeom prst="rect">
            <a:avLst/>
          </a:prstGeom>
          <a:solidFill>
            <a:srgbClr val="a2c2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623200" y="4616280"/>
            <a:ext cx="265392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pc_dispatch(id,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id==ID_SUB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b1(a,b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276080" y="4708440"/>
            <a:ext cx="12535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295880" y="5410080"/>
            <a:ext cx="1198440" cy="1800"/>
          </a:xfrm>
          <a:custGeom>
            <a:avLst/>
            <a:gdLst/>
            <a:ahLst/>
            <a:rect l="l" t="t" r="r" b="b"/>
            <a:pathLst>
              <a:path w="817" h="1">
                <a:moveTo>
                  <a:pt x="0" y="0"/>
                </a:moveTo>
                <a:lnTo>
                  <a:pt x="326" y="0"/>
                </a:lnTo>
                <a:lnTo>
                  <a:pt x="489" y="0"/>
                </a:lnTo>
                <a:lnTo>
                  <a:pt x="816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28760" y="3429000"/>
            <a:ext cx="3165480" cy="1601640"/>
          </a:xfrm>
          <a:custGeom>
            <a:avLst/>
            <a:gdLst/>
            <a:ahLst/>
            <a:rect l="l" t="t" r="r" b="b"/>
            <a:pathLst>
              <a:path w="2161" h="961">
                <a:moveTo>
                  <a:pt x="1728" y="0"/>
                </a:moveTo>
                <a:lnTo>
                  <a:pt x="2160" y="0"/>
                </a:lnTo>
                <a:lnTo>
                  <a:pt x="2160" y="288"/>
                </a:lnTo>
                <a:lnTo>
                  <a:pt x="0" y="576"/>
                </a:lnTo>
                <a:lnTo>
                  <a:pt x="0" y="960"/>
                </a:lnTo>
                <a:lnTo>
                  <a:pt x="192" y="96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929120" y="2590920"/>
            <a:ext cx="3519720" cy="3047760"/>
          </a:xfrm>
          <a:custGeom>
            <a:avLst/>
            <a:gdLst/>
            <a:ahLst/>
            <a:rect l="l" t="t" r="r" b="b"/>
            <a:pathLst>
              <a:path w="2401" h="1969">
                <a:moveTo>
                  <a:pt x="2016" y="1968"/>
                </a:moveTo>
                <a:lnTo>
                  <a:pt x="2400" y="1968"/>
                </a:lnTo>
                <a:lnTo>
                  <a:pt x="2400" y="1104"/>
                </a:lnTo>
                <a:lnTo>
                  <a:pt x="0" y="672"/>
                </a:lnTo>
                <a:lnTo>
                  <a:pt x="0" y="0"/>
                </a:lnTo>
                <a:lnTo>
                  <a:pt x="336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726560" y="1782720"/>
            <a:ext cx="1620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uter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355800" y="1782720"/>
            <a:ext cx="1623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uter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9D236-456F-4F79-A499-C6ABDB2E94F8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das Short Course - Real Time 2003 - Montreal - Part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DAS short cour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ffff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this is all abou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 acquisition (DAQ) in nuclear and particle physic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asic principles of MIDAS DAQ syst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age of the syst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ols, exampl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line dem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oal: Be able to install, configure and run MID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o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perimentalists with some computer knowled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est set-ups for R&amp;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mall and medium size experim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287B3-CD72-4CDC-A720-8A1F4F44A19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das Short Course - Real Time 2003 - Montreal - Part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DAS serv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"/>
          <p:cNvSpPr/>
          <p:nvPr/>
        </p:nvSpPr>
        <p:spPr>
          <a:xfrm>
            <a:off x="4800600" y="1219320"/>
            <a:ext cx="1371600" cy="9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erver pa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m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or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inet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286000" y="1447920"/>
            <a:ext cx="91440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m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200400" y="17524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345120" y="1523880"/>
            <a:ext cx="74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nn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109760" y="1828800"/>
            <a:ext cx="700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port 117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114800" y="1066680"/>
            <a:ext cx="2743200" cy="25146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914400" y="3733920"/>
            <a:ext cx="7315200" cy="1692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ach client connected to own sub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ccess control through (x)inetd and optional mserver passw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PC layer completely transparent -&gt; exactly same code if running local or remot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ittle/big endian negotiation/conver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175560" y="5867280"/>
            <a:ext cx="218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torola: big-endi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el: little-endi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486400" y="5896080"/>
            <a:ext cx="45720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0x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943600" y="5896080"/>
            <a:ext cx="45720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0x3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486400" y="6200640"/>
            <a:ext cx="45720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0x3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943600" y="6200640"/>
            <a:ext cx="45720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0x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616440" y="596124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= 0x123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456160" y="5622840"/>
            <a:ext cx="48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adr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913360" y="5622840"/>
            <a:ext cx="48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adr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3200400" y="1676520"/>
            <a:ext cx="3505320" cy="1752480"/>
            <a:chOff x="3200400" y="1676520"/>
            <a:chExt cx="3505320" cy="1752480"/>
          </a:xfrm>
        </p:grpSpPr>
        <p:sp>
          <p:nvSpPr>
            <p:cNvPr id="515" name=""/>
            <p:cNvSpPr/>
            <p:nvPr/>
          </p:nvSpPr>
          <p:spPr>
            <a:xfrm>
              <a:off x="4800600" y="2666880"/>
              <a:ext cx="137160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spawn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subproc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mser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248520" y="1676520"/>
              <a:ext cx="457200" cy="1371600"/>
            </a:xfrm>
            <a:custGeom>
              <a:avLst/>
              <a:gdLst/>
              <a:ahLst/>
              <a:rect l="l" t="t" r="r" b="b"/>
              <a:pathLst>
                <a:path w="288" h="864">
                  <a:moveTo>
                    <a:pt x="0" y="0"/>
                  </a:moveTo>
                  <a:cubicBezTo>
                    <a:pt x="144" y="144"/>
                    <a:pt x="288" y="288"/>
                    <a:pt x="288" y="432"/>
                  </a:cubicBezTo>
                  <a:cubicBezTo>
                    <a:pt x="288" y="576"/>
                    <a:pt x="144" y="720"/>
                    <a:pt x="0" y="86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200400" y="2057400"/>
              <a:ext cx="152388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507480" y="2362320"/>
              <a:ext cx="814680" cy="2764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RPC cal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99417-EB13-495B-8665-BC8AB839D565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das Short Course - Real Time 2003 - Montreal - Part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y not standard RPCs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ailability (VxWorks, RT-Linux, …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PC layer is speed optimiz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 representation is negotia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me functions like send_event can bypass part of the standard RPC-layer for buffered and asynchronous RP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&gt; 11MB/sec over 100MBit Ether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ynamic extensions at run-ti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ynchronous notification (-&gt; callback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IDL compiler necessary, simple synta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03E6F-BF2E-4111-B578-2766CC32817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das Short Course - Real Time 2003 - Montreal - Part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r-level RPC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"/>
          <p:cNvSpPr/>
          <p:nvPr/>
        </p:nvSpPr>
        <p:spPr>
          <a:xfrm>
            <a:off x="457200" y="990720"/>
            <a:ext cx="3581280" cy="5204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#include "midas.h"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#include &lt;stdio.h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#define RPC_MYTEST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Lucida Console"/>
              </a:rPr>
              <a:t>RPC_LIST rpc_list[] = {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ff3300"/>
                </a:solidFill>
                <a:latin typeface="Lucida Console"/>
              </a:rPr>
              <a:t>{ RPC_MYTEST, "rpc_mytest"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800" spc="-1" strike="noStrike">
                <a:solidFill>
                  <a:srgbClr val="ff3300"/>
                </a:solidFill>
                <a:latin typeface="Lucida Console"/>
              </a:rPr>
              <a:t>{{TID_INT,        RPC_IN}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Lucida Console"/>
              </a:rPr>
              <a:t>     </a:t>
            </a:r>
            <a:r>
              <a:rPr b="0" lang="en-US" sz="800" spc="-1" strike="noStrike">
                <a:solidFill>
                  <a:srgbClr val="ff3300"/>
                </a:solidFill>
                <a:latin typeface="Lucida Console"/>
              </a:rPr>
              <a:t>{TID_FLOAT,      RPC_IN}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Lucida Console"/>
              </a:rPr>
              <a:t>     </a:t>
            </a:r>
            <a:r>
              <a:rPr b="0" lang="en-US" sz="800" spc="-1" strike="noStrike">
                <a:solidFill>
                  <a:srgbClr val="ff3300"/>
                </a:solidFill>
                <a:latin typeface="Lucida Console"/>
              </a:rPr>
              <a:t>{TID_INT,        RPC_OUT}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Lucida Console"/>
              </a:rPr>
              <a:t>     </a:t>
            </a:r>
            <a:r>
              <a:rPr b="0" lang="en-US" sz="800" spc="-1" strike="noStrike">
                <a:solidFill>
                  <a:srgbClr val="ff3300"/>
                </a:solidFill>
                <a:latin typeface="Lucida Console"/>
              </a:rPr>
              <a:t>{TID_FLOAT,      RPC_OUT}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Lucida Console"/>
              </a:rPr>
              <a:t>     </a:t>
            </a:r>
            <a:r>
              <a:rPr b="0" lang="en-US" sz="800" spc="-1" strike="noStrike">
                <a:solidFill>
                  <a:srgbClr val="ff3300"/>
                </a:solidFill>
                <a:latin typeface="Lucida Console"/>
              </a:rPr>
              <a:t>{0} }}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ff3300"/>
                </a:solidFill>
                <a:latin typeface="Lucida Console"/>
              </a:rPr>
              <a:t>{ 0 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Lucida Console"/>
              </a:rPr>
              <a:t>}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main(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char   host_name[80]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HNDLE  hConn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INT    status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INT    i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float  f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printf("Remote host name: "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ss_gets(host_name, sizeof(host_name)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/* register this as an RPC client with rpc_list *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ff3300"/>
                </a:solidFill>
                <a:latin typeface="Lucida Console"/>
              </a:rPr>
              <a:t>rpc_register_client("MYCLIENT", rpc_list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/* connect to RPC server *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3333cc"/>
                </a:solidFill>
                <a:latin typeface="Lucida Console"/>
              </a:rPr>
              <a:t>rpc_client_connect(host_name, 1750, "", &amp;hConn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/* rpc_mytest just doubles numbers *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cc66"/>
                </a:solidFill>
                <a:latin typeface="Lucida Console"/>
              </a:rPr>
              <a:t>rpc_client_call(hConn, RPC_MYTEST, 1, 2, &amp;i, &amp;f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printf("\nResult should be:  2 4.0\n"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printf("Result is:         %d %1.1f\n", i, f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/* disconnect this client from server *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rpc_client_disconnect(hConn, FALSE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return 1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343400" y="990720"/>
            <a:ext cx="4343400" cy="5204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#include "midas.h"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#include &lt;stdio.h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#define RPC_MYTEST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Lucida Console"/>
              </a:rPr>
              <a:t>RPC_LIST rpc_list[] = {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ff3300"/>
                </a:solidFill>
                <a:latin typeface="Lucida Console"/>
              </a:rPr>
              <a:t>{ RPC_MYTEST, "rpc_mytest"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800" spc="-1" strike="noStrike">
                <a:solidFill>
                  <a:srgbClr val="ff3300"/>
                </a:solidFill>
                <a:latin typeface="Lucida Console"/>
              </a:rPr>
              <a:t>{{TID_INT,        RPC_IN}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Lucida Console"/>
              </a:rPr>
              <a:t>     </a:t>
            </a:r>
            <a:r>
              <a:rPr b="0" lang="en-US" sz="800" spc="-1" strike="noStrike">
                <a:solidFill>
                  <a:srgbClr val="ff3300"/>
                </a:solidFill>
                <a:latin typeface="Lucida Console"/>
              </a:rPr>
              <a:t>{TID_FLOAT,      RPC_IN}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Lucida Console"/>
              </a:rPr>
              <a:t>     </a:t>
            </a:r>
            <a:r>
              <a:rPr b="0" lang="en-US" sz="800" spc="-1" strike="noStrike">
                <a:solidFill>
                  <a:srgbClr val="ff3300"/>
                </a:solidFill>
                <a:latin typeface="Lucida Console"/>
              </a:rPr>
              <a:t>{TID_INT,        RPC_OUT}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Lucida Console"/>
              </a:rPr>
              <a:t>     </a:t>
            </a:r>
            <a:r>
              <a:rPr b="0" lang="en-US" sz="800" spc="-1" strike="noStrike">
                <a:solidFill>
                  <a:srgbClr val="ff3300"/>
                </a:solidFill>
                <a:latin typeface="Lucida Console"/>
              </a:rPr>
              <a:t>{TID_FLOAT,      RPC_OUT}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Lucida Console"/>
              </a:rPr>
              <a:t>     </a:t>
            </a:r>
            <a:r>
              <a:rPr b="0" lang="en-US" sz="800" spc="-1" strike="noStrike">
                <a:solidFill>
                  <a:srgbClr val="ff3300"/>
                </a:solidFill>
                <a:latin typeface="Lucida Console"/>
              </a:rPr>
              <a:t>{0} }}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ff3300"/>
                </a:solidFill>
                <a:latin typeface="Lucida Console"/>
              </a:rPr>
              <a:t>{ 0 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Lucida Console"/>
              </a:rPr>
              <a:t>}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66"/>
                </a:solidFill>
                <a:latin typeface="Lucida Console"/>
              </a:rPr>
              <a:t>INT rpc_mytest(INT i, float f, INT *i1, float *f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*i1 = i*2; *f1 = f*2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return 1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INT rpc_dispatch(INT index, void *prpc_param[]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INT status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if (index == RPC_MYTES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return rpc_mytest(CINT(0), CFLOAT(1), CPINT(2), CPFLOAT(3)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return RPC_INVALID_ID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main(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3333cc"/>
                </a:solidFill>
                <a:latin typeface="Lucida Console"/>
              </a:rPr>
              <a:t>rpc_register_server(ST_REMOTE, "", 1750, NULL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/* Register function list. Calls get forwarded to rpc_dispatch *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ff3300"/>
                </a:solidFill>
                <a:latin typeface="Lucida Console"/>
              </a:rPr>
              <a:t>rpc_register_functions(rpc_list, rpc_dispatch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/* Server loop *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while (cm_yield(1000) != RPC_SHUTDOWN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rpc_server_shutdown(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return 1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799320" y="1189080"/>
            <a:ext cx="110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593800" y="1219320"/>
            <a:ext cx="10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3733920" y="2971440"/>
            <a:ext cx="68580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B1F47-5B51-41F3-9A6E-C3C10C30AD8B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das Short Course - Real Time 2003 - Montreal - Part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2415960"/>
            <a:ext cx="7772400" cy="1469880"/>
          </a:xfrm>
          <a:prstGeom prst="rect">
            <a:avLst/>
          </a:prstGeom>
          <a:solidFill>
            <a:srgbClr val="a2c2fe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MIDAS Buffer Manag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940F1-33A1-4CDF-AAC9-3C1157DDDE6B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das Short Course - Real Time 2003 - Montreal - Part I</a:t>
            </a: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uffer Manag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1623960" y="1378080"/>
            <a:ext cx="1465200" cy="1054080"/>
            <a:chOff x="1623960" y="1378080"/>
            <a:chExt cx="1465200" cy="1054080"/>
          </a:xfrm>
        </p:grpSpPr>
        <p:sp>
          <p:nvSpPr>
            <p:cNvPr id="530" name=""/>
            <p:cNvSpPr/>
            <p:nvPr/>
          </p:nvSpPr>
          <p:spPr>
            <a:xfrm>
              <a:off x="1623960" y="1378080"/>
              <a:ext cx="1465200" cy="1054080"/>
            </a:xfrm>
            <a:prstGeom prst="rect">
              <a:avLst/>
            </a:prstGeom>
            <a:gradFill rotWithShape="0">
              <a:gsLst>
                <a:gs pos="0">
                  <a:srgbClr val="4a5975"/>
                </a:gs>
                <a:gs pos="50000">
                  <a:srgbClr val="a2c2fe"/>
                </a:gs>
                <a:gs pos="100000">
                  <a:srgbClr val="4a5975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734120" y="1554120"/>
              <a:ext cx="12823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roduc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2749680" y="2673360"/>
            <a:ext cx="2730240" cy="18162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Buf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(FIF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671920" y="1905120"/>
            <a:ext cx="1409040" cy="106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8" y="0"/>
                </a:moveTo>
                <a:arcTo wR="10800" hR="10800" stAng="-5407155" swAng="5407155"/>
                <a:lnTo>
                  <a:pt x="10800" y="10800"/>
                </a:lnTo>
                <a:close/>
              </a:path>
              <a:path fill="none" w="21600" h="21600">
                <a:moveTo>
                  <a:pt x="10778" y="0"/>
                </a:moveTo>
                <a:arcTo wR="10800" hR="10800" stAng="-5407155" swAng="5407155"/>
              </a:path>
            </a:pathLst>
          </a:custGeom>
          <a:noFill/>
          <a:ln cap="rnd"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176040" y="2514600"/>
            <a:ext cx="3550680" cy="3568680"/>
            <a:chOff x="176040" y="2514600"/>
            <a:chExt cx="3550680" cy="3568680"/>
          </a:xfrm>
        </p:grpSpPr>
        <p:sp>
          <p:nvSpPr>
            <p:cNvPr id="535" name=""/>
            <p:cNvSpPr/>
            <p:nvPr/>
          </p:nvSpPr>
          <p:spPr>
            <a:xfrm>
              <a:off x="773280" y="5029200"/>
              <a:ext cx="1465200" cy="1054080"/>
            </a:xfrm>
            <a:prstGeom prst="rect">
              <a:avLst/>
            </a:prstGeom>
            <a:gradFill rotWithShape="0">
              <a:gsLst>
                <a:gs pos="0">
                  <a:srgbClr val="755e46"/>
                </a:gs>
                <a:gs pos="50000">
                  <a:srgbClr val="ffcc99"/>
                </a:gs>
                <a:gs pos="100000">
                  <a:srgbClr val="755e46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Consumer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1547280" y="2514600"/>
              <a:ext cx="773280" cy="2362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055520" y="3581280"/>
              <a:ext cx="2671200" cy="198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76040" y="3308400"/>
              <a:ext cx="1818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resume/slee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9" name=""/>
          <p:cNvSpPr/>
          <p:nvPr/>
        </p:nvSpPr>
        <p:spPr>
          <a:xfrm>
            <a:off x="3811680" y="1554120"/>
            <a:ext cx="971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4782960" y="3429000"/>
            <a:ext cx="3300120" cy="2508120"/>
            <a:chOff x="4782960" y="3429000"/>
            <a:chExt cx="3300120" cy="2508120"/>
          </a:xfrm>
        </p:grpSpPr>
        <p:sp>
          <p:nvSpPr>
            <p:cNvPr id="541" name=""/>
            <p:cNvSpPr/>
            <p:nvPr/>
          </p:nvSpPr>
          <p:spPr>
            <a:xfrm>
              <a:off x="6617880" y="4883040"/>
              <a:ext cx="1465200" cy="1054080"/>
            </a:xfrm>
            <a:prstGeom prst="rect">
              <a:avLst/>
            </a:prstGeom>
            <a:gradFill rotWithShape="0">
              <a:gsLst>
                <a:gs pos="0">
                  <a:srgbClr val="755e46"/>
                </a:gs>
                <a:gs pos="50000">
                  <a:srgbClr val="ffcc99"/>
                </a:gs>
                <a:gs pos="100000">
                  <a:srgbClr val="755e46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Consumer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782960" y="3429000"/>
              <a:ext cx="3235320" cy="21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507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78160" y="1371600"/>
            <a:ext cx="295452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ariable event size / different event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ltiple producers/consumer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lective consumer request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locking/nonblocking request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obust: hanging client cannot crash syste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: many MB/sec throughpu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0804B-16D1-4C17-AAFD-204F7EDEED0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das Short Course - Real Time 2003 - Montreal - Part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5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vent Structur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994280" y="1904760"/>
            <a:ext cx="3463920" cy="3809880"/>
          </a:xfrm>
          <a:prstGeom prst="rect">
            <a:avLst/>
          </a:prstGeom>
          <a:solidFill>
            <a:srgbClr val="a2c2fe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6-byte head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r data area free forma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ptional MIDAS bank syst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ptional YBOS bank syst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ptional Subevent syst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ault max. event size 512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"/>
          <p:cNvSpPr/>
          <p:nvPr/>
        </p:nvSpPr>
        <p:spPr>
          <a:xfrm>
            <a:off x="703440" y="2666880"/>
            <a:ext cx="3868560" cy="34290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03440" y="1447920"/>
            <a:ext cx="1969920" cy="304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hort int event_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673360" y="1447920"/>
            <a:ext cx="1898640" cy="304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hort int trg_m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03440" y="1752480"/>
            <a:ext cx="386856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nsigned int serial_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03440" y="2057400"/>
            <a:ext cx="386856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nsigned int time_sta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03440" y="2362320"/>
            <a:ext cx="3868560" cy="304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nsigned int data_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44560" y="3276720"/>
            <a:ext cx="1670040" cy="2590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844560" y="2819520"/>
            <a:ext cx="167004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unsigned int data_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844560" y="3048120"/>
            <a:ext cx="167004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unsigned int fla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984240" y="3429000"/>
            <a:ext cx="1377720" cy="914400"/>
            <a:chOff x="984240" y="3429000"/>
            <a:chExt cx="1377720" cy="914400"/>
          </a:xfrm>
        </p:grpSpPr>
        <p:sp>
          <p:nvSpPr>
            <p:cNvPr id="556" name=""/>
            <p:cNvSpPr/>
            <p:nvPr/>
          </p:nvSpPr>
          <p:spPr>
            <a:xfrm>
              <a:off x="984240" y="3429000"/>
              <a:ext cx="1377720" cy="2286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bank_name[4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984240" y="3657600"/>
              <a:ext cx="688680" cy="2286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ty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672920" y="3657600"/>
              <a:ext cx="688680" cy="2286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984240" y="3886200"/>
              <a:ext cx="1377720" cy="45720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984240" y="4724280"/>
            <a:ext cx="1377720" cy="914400"/>
            <a:chOff x="984240" y="4724280"/>
            <a:chExt cx="1377720" cy="914400"/>
          </a:xfrm>
        </p:grpSpPr>
        <p:sp>
          <p:nvSpPr>
            <p:cNvPr id="561" name=""/>
            <p:cNvSpPr/>
            <p:nvPr/>
          </p:nvSpPr>
          <p:spPr>
            <a:xfrm>
              <a:off x="984240" y="4724280"/>
              <a:ext cx="1377720" cy="2286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bank_name[4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984240" y="4952880"/>
              <a:ext cx="688680" cy="2286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ty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672920" y="4952880"/>
              <a:ext cx="688680" cy="2286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984240" y="5181480"/>
              <a:ext cx="1377720" cy="45720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5" name=""/>
          <p:cNvSpPr/>
          <p:nvPr/>
        </p:nvSpPr>
        <p:spPr>
          <a:xfrm>
            <a:off x="2884320" y="2819520"/>
            <a:ext cx="1546560" cy="38088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ubev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884320" y="3200400"/>
            <a:ext cx="1546560" cy="38088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ubev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884320" y="3581280"/>
            <a:ext cx="1546560" cy="38124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ubev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884320" y="3962520"/>
            <a:ext cx="1546560" cy="38088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ubev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884320" y="4343400"/>
            <a:ext cx="1546560" cy="38088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ubev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884320" y="4724280"/>
            <a:ext cx="1546560" cy="38124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ubev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884320" y="5105520"/>
            <a:ext cx="1546560" cy="38088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ubev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884320" y="5486400"/>
            <a:ext cx="1546560" cy="38088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ubev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61960" y="1447920"/>
            <a:ext cx="71280" cy="1218960"/>
          </a:xfrm>
          <a:custGeom>
            <a:avLst/>
            <a:gdLst>
              <a:gd name="textAreaLeft" fmla="*/ 45720 w 71280"/>
              <a:gd name="textAreaRight" fmla="*/ 71640 w 7128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9040" y="1828800"/>
            <a:ext cx="50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By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61960" y="2819520"/>
            <a:ext cx="71280" cy="457200"/>
          </a:xfrm>
          <a:custGeom>
            <a:avLst/>
            <a:gdLst>
              <a:gd name="textAreaLeft" fmla="*/ 45720 w 71280"/>
              <a:gd name="textAreaRight" fmla="*/ 71640 w 7128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9040" y="2819520"/>
            <a:ext cx="50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By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61960" y="3429000"/>
            <a:ext cx="71280" cy="457200"/>
          </a:xfrm>
          <a:custGeom>
            <a:avLst/>
            <a:gdLst>
              <a:gd name="textAreaLeft" fmla="*/ 45720 w 71280"/>
              <a:gd name="textAreaRight" fmla="*/ 71640 w 7128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9040" y="3429000"/>
            <a:ext cx="50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By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61960" y="4724280"/>
            <a:ext cx="71280" cy="457200"/>
          </a:xfrm>
          <a:custGeom>
            <a:avLst/>
            <a:gdLst>
              <a:gd name="textAreaLeft" fmla="*/ 45720 w 71280"/>
              <a:gd name="textAreaRight" fmla="*/ 71640 w 7128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9040" y="4724280"/>
            <a:ext cx="50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By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6277C-C4B9-4ED6-82A0-DD9196CAFDD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das Short Course - Real Time 2003 - Montreal - Part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6477120" y="19051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vent Request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"/>
          <p:cNvSpPr/>
          <p:nvPr/>
        </p:nvSpPr>
        <p:spPr>
          <a:xfrm>
            <a:off x="2046240" y="3213000"/>
            <a:ext cx="6037200" cy="3187800"/>
          </a:xfrm>
          <a:prstGeom prst="rect">
            <a:avLst/>
          </a:prstGeom>
          <a:solidFill>
            <a:srgbClr val="a2c2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210280" y="3441600"/>
            <a:ext cx="2590560" cy="266076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562720" y="3822840"/>
            <a:ext cx="1887480" cy="1898640"/>
          </a:xfrm>
          <a:prstGeom prst="ellipse">
            <a:avLst/>
          </a:prstGeom>
          <a:solidFill>
            <a:srgbClr val="a2c2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470640" y="343548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6746400" y="3489480"/>
            <a:ext cx="8748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7009920" y="3657600"/>
            <a:ext cx="19692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470640" y="2332080"/>
            <a:ext cx="1125720" cy="1407960"/>
          </a:xfrm>
          <a:custGeom>
            <a:avLst/>
            <a:gdLst/>
            <a:ahLst/>
            <a:rect l="l" t="t" r="r" b="b"/>
            <a:pathLst>
              <a:path w="768" h="887">
                <a:moveTo>
                  <a:pt x="2" y="0"/>
                </a:moveTo>
                <a:lnTo>
                  <a:pt x="0" y="407"/>
                </a:lnTo>
                <a:lnTo>
                  <a:pt x="768" y="695"/>
                </a:lnTo>
                <a:lnTo>
                  <a:pt x="624" y="88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791320" y="2362320"/>
            <a:ext cx="139536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327400" y="3441600"/>
            <a:ext cx="2379600" cy="12067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8d6a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303640" y="3389400"/>
            <a:ext cx="1655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nsume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320920" y="3740040"/>
            <a:ext cx="2392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305440" y="3693960"/>
            <a:ext cx="236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 id, trigger ma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320920" y="4044960"/>
            <a:ext cx="2392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320920" y="4349880"/>
            <a:ext cx="2392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304360" y="4303800"/>
            <a:ext cx="395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305440" y="3998880"/>
            <a:ext cx="236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 id, trigger ma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327400" y="4965840"/>
            <a:ext cx="2379600" cy="120636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8d6a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303280" y="4913280"/>
            <a:ext cx="1656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nsum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320920" y="5264280"/>
            <a:ext cx="2392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305440" y="5218200"/>
            <a:ext cx="236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 id, trigger ma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320920" y="5568840"/>
            <a:ext cx="2392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20920" y="5873760"/>
            <a:ext cx="2392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305080" y="5829480"/>
            <a:ext cx="169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304360" y="5524560"/>
            <a:ext cx="395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28760" y="3441600"/>
            <a:ext cx="1323720" cy="901800"/>
          </a:xfrm>
          <a:prstGeom prst="rect">
            <a:avLst/>
          </a:prstGeom>
          <a:gradFill rotWithShape="0">
            <a:gsLst>
              <a:gs pos="0">
                <a:srgbClr val="755e46"/>
              </a:gs>
              <a:gs pos="50000">
                <a:srgbClr val="ffcc99"/>
              </a:gs>
              <a:gs pos="100000">
                <a:srgbClr val="755e4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sumer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28760" y="4965840"/>
            <a:ext cx="1323720" cy="901440"/>
          </a:xfrm>
          <a:prstGeom prst="rect">
            <a:avLst/>
          </a:prstGeom>
          <a:gradFill rotWithShape="0">
            <a:gsLst>
              <a:gs pos="0">
                <a:srgbClr val="755e46"/>
              </a:gs>
              <a:gs pos="50000">
                <a:srgbClr val="ffcc99"/>
              </a:gs>
              <a:gs pos="100000">
                <a:srgbClr val="755e4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sumer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758960" y="3892680"/>
            <a:ext cx="56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758960" y="5416560"/>
            <a:ext cx="56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713120" y="3892680"/>
            <a:ext cx="2040120" cy="382320"/>
          </a:xfrm>
          <a:custGeom>
            <a:avLst/>
            <a:gdLst/>
            <a:ahLst/>
            <a:rect l="l" t="t" r="r" b="b"/>
            <a:pathLst>
              <a:path w="1393" h="241">
                <a:moveTo>
                  <a:pt x="0" y="0"/>
                </a:moveTo>
                <a:lnTo>
                  <a:pt x="288" y="0"/>
                </a:lnTo>
                <a:lnTo>
                  <a:pt x="1296" y="240"/>
                </a:lnTo>
                <a:lnTo>
                  <a:pt x="1392" y="4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713120" y="4121280"/>
            <a:ext cx="2251080" cy="1296720"/>
          </a:xfrm>
          <a:custGeom>
            <a:avLst/>
            <a:gdLst/>
            <a:ahLst/>
            <a:rect l="l" t="t" r="r" b="b"/>
            <a:pathLst>
              <a:path w="1537" h="817">
                <a:moveTo>
                  <a:pt x="0" y="816"/>
                </a:moveTo>
                <a:lnTo>
                  <a:pt x="864" y="816"/>
                </a:lnTo>
                <a:lnTo>
                  <a:pt x="1440" y="192"/>
                </a:lnTo>
                <a:lnTo>
                  <a:pt x="153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011280" y="4456080"/>
            <a:ext cx="9867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IF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5715000" y="1219320"/>
            <a:ext cx="1541520" cy="1054080"/>
            <a:chOff x="5715000" y="1219320"/>
            <a:chExt cx="1541520" cy="1054080"/>
          </a:xfrm>
        </p:grpSpPr>
        <p:sp>
          <p:nvSpPr>
            <p:cNvPr id="615" name=""/>
            <p:cNvSpPr/>
            <p:nvPr/>
          </p:nvSpPr>
          <p:spPr>
            <a:xfrm>
              <a:off x="5715000" y="1219320"/>
              <a:ext cx="1541520" cy="1054080"/>
            </a:xfrm>
            <a:prstGeom prst="rect">
              <a:avLst/>
            </a:prstGeom>
            <a:gradFill rotWithShape="0">
              <a:gsLst>
                <a:gs pos="0">
                  <a:srgbClr val="4a5975"/>
                </a:gs>
                <a:gs pos="50000">
                  <a:srgbClr val="a2c2fe"/>
                </a:gs>
                <a:gs pos="100000">
                  <a:srgbClr val="4a5975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864760" y="1395360"/>
              <a:ext cx="12823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roduc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7" name=""/>
          <p:cNvSpPr/>
          <p:nvPr/>
        </p:nvSpPr>
        <p:spPr>
          <a:xfrm>
            <a:off x="457200" y="1371600"/>
            <a:ext cx="4800600" cy="1310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nsumer publishes specific event request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ducer puts events in ring buffer and wakes up waiting consum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 buffer is full, and consumer requested ALL events, producer is blocked (back-pressur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2EBCE-AB77-4F3E-9308-36B81AF258C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das Short Course - Real Time 2003 - Montreal - Part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4920" y="522000"/>
            <a:ext cx="5153040" cy="3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mote Access to B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"/>
          <p:cNvSpPr/>
          <p:nvPr/>
        </p:nvSpPr>
        <p:spPr>
          <a:xfrm>
            <a:off x="2467080" y="1149480"/>
            <a:ext cx="5756040" cy="50925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859280" y="2749680"/>
            <a:ext cx="1817640" cy="181584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(FIF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546960" y="4959360"/>
            <a:ext cx="1465200" cy="1054080"/>
          </a:xfrm>
          <a:prstGeom prst="rect">
            <a:avLst/>
          </a:prstGeom>
          <a:gradFill rotWithShape="0">
            <a:gsLst>
              <a:gs pos="0">
                <a:srgbClr val="755e46"/>
              </a:gs>
              <a:gs pos="50000">
                <a:srgbClr val="ffcc99"/>
              </a:gs>
              <a:gs pos="100000">
                <a:srgbClr val="755e4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573240" y="5135400"/>
            <a:ext cx="14331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cal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su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119640" y="4267080"/>
            <a:ext cx="914400" cy="83844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5978160" y="1378080"/>
            <a:ext cx="2163600" cy="3574800"/>
            <a:chOff x="5978160" y="1378080"/>
            <a:chExt cx="2163600" cy="3574800"/>
          </a:xfrm>
        </p:grpSpPr>
        <p:sp>
          <p:nvSpPr>
            <p:cNvPr id="625" name=""/>
            <p:cNvSpPr/>
            <p:nvPr/>
          </p:nvSpPr>
          <p:spPr>
            <a:xfrm>
              <a:off x="6265800" y="1378080"/>
              <a:ext cx="1817640" cy="1054080"/>
            </a:xfrm>
            <a:prstGeom prst="rect">
              <a:avLst/>
            </a:prstGeom>
            <a:gradFill rotWithShape="0">
              <a:gsLst>
                <a:gs pos="0">
                  <a:srgbClr val="4a5975"/>
                </a:gs>
                <a:gs pos="50000">
                  <a:srgbClr val="a2c2fe"/>
                </a:gs>
                <a:gs pos="100000">
                  <a:srgbClr val="4a5975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513120" y="1401840"/>
              <a:ext cx="143316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Local D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roduc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310800" y="2011320"/>
              <a:ext cx="1830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send_event(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8160" y="2286000"/>
              <a:ext cx="352440" cy="762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385040" y="2438280"/>
              <a:ext cx="0" cy="2514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438680" y="3459240"/>
              <a:ext cx="608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P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2608200" y="1378080"/>
            <a:ext cx="3935520" cy="4109760"/>
            <a:chOff x="2608200" y="1378080"/>
            <a:chExt cx="3935520" cy="4109760"/>
          </a:xfrm>
        </p:grpSpPr>
        <p:sp>
          <p:nvSpPr>
            <p:cNvPr id="632" name=""/>
            <p:cNvSpPr/>
            <p:nvPr/>
          </p:nvSpPr>
          <p:spPr>
            <a:xfrm>
              <a:off x="4500720" y="3276720"/>
              <a:ext cx="563400" cy="152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711680" y="1752480"/>
              <a:ext cx="353880" cy="1220760"/>
            </a:xfrm>
            <a:custGeom>
              <a:avLst/>
              <a:gdLst/>
              <a:ahLst/>
              <a:rect l="l" t="t" r="r" b="b"/>
              <a:pathLst>
                <a:path w="241" h="769">
                  <a:moveTo>
                    <a:pt x="0" y="768"/>
                  </a:moveTo>
                  <a:lnTo>
                    <a:pt x="240" y="528"/>
                  </a:lnTo>
                  <a:lnTo>
                    <a:pt x="240" y="240"/>
                  </a:lnTo>
                  <a:lnTo>
                    <a:pt x="0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787280" y="1401840"/>
              <a:ext cx="12762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pawn 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nn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608200" y="1378080"/>
              <a:ext cx="2027160" cy="74916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8d6a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ID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erver proc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608200" y="2368440"/>
              <a:ext cx="2027160" cy="113040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8d6a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915640" y="2468520"/>
              <a:ext cx="15458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subproc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689920" y="3002040"/>
              <a:ext cx="1830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send_event(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641400" y="4983120"/>
              <a:ext cx="608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P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516480" y="3505320"/>
              <a:ext cx="3027240" cy="1982520"/>
            </a:xfrm>
            <a:custGeom>
              <a:avLst/>
              <a:gdLst/>
              <a:ahLst/>
              <a:rect l="l" t="t" r="r" b="b"/>
              <a:pathLst>
                <a:path w="2065" h="1249">
                  <a:moveTo>
                    <a:pt x="0" y="0"/>
                  </a:moveTo>
                  <a:lnTo>
                    <a:pt x="0" y="1248"/>
                  </a:lnTo>
                  <a:lnTo>
                    <a:pt x="2064" y="1248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1" name=""/>
          <p:cNvGrpSpPr/>
          <p:nvPr/>
        </p:nvGrpSpPr>
        <p:grpSpPr>
          <a:xfrm>
            <a:off x="287280" y="1249200"/>
            <a:ext cx="2386080" cy="1874880"/>
            <a:chOff x="287280" y="1249200"/>
            <a:chExt cx="2386080" cy="1874880"/>
          </a:xfrm>
        </p:grpSpPr>
        <p:sp>
          <p:nvSpPr>
            <p:cNvPr id="642" name=""/>
            <p:cNvSpPr/>
            <p:nvPr/>
          </p:nvSpPr>
          <p:spPr>
            <a:xfrm>
              <a:off x="287280" y="1682640"/>
              <a:ext cx="2027160" cy="1282680"/>
            </a:xfrm>
            <a:prstGeom prst="rect">
              <a:avLst/>
            </a:prstGeom>
            <a:gradFill rotWithShape="0">
              <a:gsLst>
                <a:gs pos="0">
                  <a:srgbClr val="4a5975"/>
                </a:gs>
                <a:gs pos="50000">
                  <a:srgbClr val="a2c2fe"/>
                </a:gs>
                <a:gs pos="100000">
                  <a:srgbClr val="4a5975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81240" y="1706400"/>
              <a:ext cx="17424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Remote D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roduc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67200" y="2392200"/>
              <a:ext cx="1830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send_event(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181240" y="2666880"/>
              <a:ext cx="49212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96160" y="1249200"/>
              <a:ext cx="1620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Computer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7" name=""/>
          <p:cNvSpPr/>
          <p:nvPr/>
        </p:nvSpPr>
        <p:spPr>
          <a:xfrm>
            <a:off x="5284440" y="716040"/>
            <a:ext cx="1623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uter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C9A12-81D2-4CBB-B580-3DDCB9D7C326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das Short Course - Real Time 2003 - Montreal - Part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ultiple Experi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"/>
          <p:cNvSpPr/>
          <p:nvPr/>
        </p:nvSpPr>
        <p:spPr>
          <a:xfrm>
            <a:off x="5029200" y="4390920"/>
            <a:ext cx="3657600" cy="1321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ltiple independent experi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periment name associated with directory on file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plicitly connect to experi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609480" y="2101680"/>
            <a:ext cx="1981080" cy="2089080"/>
            <a:chOff x="609480" y="2101680"/>
            <a:chExt cx="1981080" cy="2089080"/>
          </a:xfrm>
        </p:grpSpPr>
        <p:grpSp>
          <p:nvGrpSpPr>
            <p:cNvPr id="651" name=""/>
            <p:cNvGrpSpPr/>
            <p:nvPr/>
          </p:nvGrpSpPr>
          <p:grpSpPr>
            <a:xfrm>
              <a:off x="609480" y="2438280"/>
              <a:ext cx="1981080" cy="1752480"/>
              <a:chOff x="609480" y="2438280"/>
              <a:chExt cx="1981080" cy="1752480"/>
            </a:xfrm>
          </p:grpSpPr>
          <p:sp>
            <p:nvSpPr>
              <p:cNvPr id="652" name=""/>
              <p:cNvSpPr/>
              <p:nvPr/>
            </p:nvSpPr>
            <p:spPr>
              <a:xfrm>
                <a:off x="1142640" y="2895480"/>
                <a:ext cx="1067040" cy="76212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FIF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09480" y="2438280"/>
                <a:ext cx="609480" cy="380880"/>
              </a:xfrm>
              <a:prstGeom prst="rect">
                <a:avLst/>
              </a:prstGeom>
              <a:solidFill>
                <a:srgbClr val="a2c2f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85440" y="3809880"/>
                <a:ext cx="609840" cy="3808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981080" y="3809880"/>
                <a:ext cx="609480" cy="3808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1295280" y="2666880"/>
                <a:ext cx="1522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flipH="1">
                <a:off x="1371240" y="373356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1752480" y="373356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9" name=""/>
            <p:cNvSpPr/>
            <p:nvPr/>
          </p:nvSpPr>
          <p:spPr>
            <a:xfrm>
              <a:off x="1262520" y="2101680"/>
              <a:ext cx="807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On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3505320" y="990720"/>
            <a:ext cx="5181480" cy="2590200"/>
            <a:chOff x="3505320" y="990720"/>
            <a:chExt cx="5181480" cy="2590200"/>
          </a:xfrm>
        </p:grpSpPr>
        <p:grpSp>
          <p:nvGrpSpPr>
            <p:cNvPr id="661" name=""/>
            <p:cNvGrpSpPr/>
            <p:nvPr/>
          </p:nvGrpSpPr>
          <p:grpSpPr>
            <a:xfrm>
              <a:off x="6705720" y="1295280"/>
              <a:ext cx="1981080" cy="2285640"/>
              <a:chOff x="6705720" y="1295280"/>
              <a:chExt cx="1981080" cy="2285640"/>
            </a:xfrm>
          </p:grpSpPr>
          <p:grpSp>
            <p:nvGrpSpPr>
              <p:cNvPr id="662" name=""/>
              <p:cNvGrpSpPr/>
              <p:nvPr/>
            </p:nvGrpSpPr>
            <p:grpSpPr>
              <a:xfrm>
                <a:off x="6705720" y="1828440"/>
                <a:ext cx="1981080" cy="1752480"/>
                <a:chOff x="6705720" y="1828440"/>
                <a:chExt cx="1981080" cy="1752480"/>
              </a:xfrm>
            </p:grpSpPr>
            <p:sp>
              <p:nvSpPr>
                <p:cNvPr id="663" name=""/>
                <p:cNvSpPr/>
                <p:nvPr/>
              </p:nvSpPr>
              <p:spPr>
                <a:xfrm>
                  <a:off x="7238880" y="2285640"/>
                  <a:ext cx="1067040" cy="76212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Comic Sans MS"/>
                    </a:rPr>
                    <a:t>FIF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6705720" y="1828440"/>
                  <a:ext cx="609480" cy="380880"/>
                </a:xfrm>
                <a:prstGeom prst="rect">
                  <a:avLst/>
                </a:prstGeom>
                <a:solidFill>
                  <a:srgbClr val="a2c2f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6781680" y="3200040"/>
                  <a:ext cx="609840" cy="38088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8077320" y="3200040"/>
                  <a:ext cx="609480" cy="38088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7391520" y="205704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 flipH="1">
                  <a:off x="7467480" y="3123720"/>
                  <a:ext cx="15264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7848720" y="3123720"/>
                  <a:ext cx="15228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0" name=""/>
              <p:cNvSpPr/>
              <p:nvPr/>
            </p:nvSpPr>
            <p:spPr>
              <a:xfrm>
                <a:off x="7377120" y="1295280"/>
                <a:ext cx="822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Offlin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3505320" y="990720"/>
              <a:ext cx="1981080" cy="2286000"/>
              <a:chOff x="3505320" y="990720"/>
              <a:chExt cx="1981080" cy="2286000"/>
            </a:xfrm>
          </p:grpSpPr>
          <p:grpSp>
            <p:nvGrpSpPr>
              <p:cNvPr id="672" name=""/>
              <p:cNvGrpSpPr/>
              <p:nvPr/>
            </p:nvGrpSpPr>
            <p:grpSpPr>
              <a:xfrm>
                <a:off x="3505320" y="1524240"/>
                <a:ext cx="1981080" cy="1752480"/>
                <a:chOff x="3505320" y="1524240"/>
                <a:chExt cx="1981080" cy="1752480"/>
              </a:xfrm>
            </p:grpSpPr>
            <p:sp>
              <p:nvSpPr>
                <p:cNvPr id="673" name=""/>
                <p:cNvSpPr/>
                <p:nvPr/>
              </p:nvSpPr>
              <p:spPr>
                <a:xfrm>
                  <a:off x="4038480" y="1981440"/>
                  <a:ext cx="1067040" cy="76212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Comic Sans MS"/>
                    </a:rPr>
                    <a:t>FIF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3505320" y="1524240"/>
                  <a:ext cx="609480" cy="380880"/>
                </a:xfrm>
                <a:prstGeom prst="rect">
                  <a:avLst/>
                </a:prstGeom>
                <a:solidFill>
                  <a:srgbClr val="a2c2f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3581280" y="2895840"/>
                  <a:ext cx="609840" cy="38088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4876920" y="2895840"/>
                  <a:ext cx="609480" cy="38088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4191120" y="175284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 flipH="1">
                  <a:off x="4267080" y="2819520"/>
                  <a:ext cx="15264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4648320" y="2819520"/>
                  <a:ext cx="15228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0" name=""/>
              <p:cNvSpPr/>
              <p:nvPr/>
            </p:nvSpPr>
            <p:spPr>
              <a:xfrm>
                <a:off x="4291200" y="990720"/>
                <a:ext cx="57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Te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1" name=""/>
          <p:cNvGrpSpPr/>
          <p:nvPr/>
        </p:nvGrpSpPr>
        <p:grpSpPr>
          <a:xfrm>
            <a:off x="457200" y="4718160"/>
            <a:ext cx="3276720" cy="1224360"/>
            <a:chOff x="457200" y="4718160"/>
            <a:chExt cx="3276720" cy="1224360"/>
          </a:xfrm>
        </p:grpSpPr>
        <p:sp>
          <p:nvSpPr>
            <p:cNvPr id="682" name=""/>
            <p:cNvSpPr/>
            <p:nvPr/>
          </p:nvSpPr>
          <p:spPr>
            <a:xfrm>
              <a:off x="457200" y="5110200"/>
              <a:ext cx="3276720" cy="83232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Lucida Console"/>
                </a:rPr>
                <a:t>online  /home/midas/online  user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Lucida Console"/>
                </a:rPr>
                <a:t>offline /home/midas/offline user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Lucida Console"/>
                </a:rPr>
                <a:t>test    /home/test          te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172880" y="4718160"/>
              <a:ext cx="1273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/etc/expta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AC9DE-92D5-4B48-BE8B-82F2A17B35A3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das Short Course - Real Time 2003 - Montreal - Part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tchdog Sche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914400" y="1447920"/>
            <a:ext cx="1465200" cy="1054080"/>
            <a:chOff x="914400" y="1447920"/>
            <a:chExt cx="1465200" cy="1054080"/>
          </a:xfrm>
        </p:grpSpPr>
        <p:sp>
          <p:nvSpPr>
            <p:cNvPr id="686" name=""/>
            <p:cNvSpPr/>
            <p:nvPr/>
          </p:nvSpPr>
          <p:spPr>
            <a:xfrm>
              <a:off x="914400" y="1447920"/>
              <a:ext cx="1465200" cy="1054080"/>
            </a:xfrm>
            <a:prstGeom prst="rect">
              <a:avLst/>
            </a:prstGeom>
            <a:gradFill rotWithShape="0">
              <a:gsLst>
                <a:gs pos="0">
                  <a:srgbClr val="4a5975"/>
                </a:gs>
                <a:gs pos="50000">
                  <a:srgbClr val="a2c2fe"/>
                </a:gs>
                <a:gs pos="100000">
                  <a:srgbClr val="4a5975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025280" y="1623960"/>
              <a:ext cx="12823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roduc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8" name=""/>
          <p:cNvSpPr/>
          <p:nvPr/>
        </p:nvSpPr>
        <p:spPr>
          <a:xfrm>
            <a:off x="694440" y="1905120"/>
            <a:ext cx="410580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8" y="0"/>
                </a:moveTo>
                <a:arcTo wR="10800" hR="10800" stAng="-5407155" swAng="5407155"/>
                <a:lnTo>
                  <a:pt x="10800" y="10800"/>
                </a:lnTo>
                <a:close/>
              </a:path>
              <a:path fill="none" w="21600" h="21600">
                <a:moveTo>
                  <a:pt x="10778" y="0"/>
                </a:moveTo>
                <a:arcTo wR="10800" hR="10800" stAng="-5407155" swAng="5407155"/>
              </a:path>
            </a:pathLst>
          </a:custGeom>
          <a:noFill/>
          <a:ln cap="rnd"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811680" y="1554120"/>
            <a:ext cx="971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932440" y="4578480"/>
            <a:ext cx="1465200" cy="1054080"/>
          </a:xfrm>
          <a:prstGeom prst="rect">
            <a:avLst/>
          </a:prstGeom>
          <a:gradFill rotWithShape="0">
            <a:gsLst>
              <a:gs pos="0">
                <a:srgbClr val="755e46"/>
              </a:gs>
              <a:gs pos="50000">
                <a:srgbClr val="ffcc99"/>
              </a:gs>
              <a:gs pos="100000">
                <a:srgbClr val="755e4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su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505320" y="3809880"/>
            <a:ext cx="426636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507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743200" y="2743200"/>
            <a:ext cx="2743200" cy="1600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2743200" y="2743200"/>
            <a:ext cx="2743200" cy="1600200"/>
            <a:chOff x="2743200" y="2743200"/>
            <a:chExt cx="2743200" cy="1600200"/>
          </a:xfrm>
        </p:grpSpPr>
        <p:sp>
          <p:nvSpPr>
            <p:cNvPr id="694" name=""/>
            <p:cNvSpPr/>
            <p:nvPr/>
          </p:nvSpPr>
          <p:spPr>
            <a:xfrm>
              <a:off x="2743200" y="2743200"/>
              <a:ext cx="1295280" cy="3049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watchdog ti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191120" y="4114800"/>
              <a:ext cx="1295280" cy="2286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watchdog ti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1232640" y="2552760"/>
            <a:ext cx="5840640" cy="1974960"/>
            <a:chOff x="1232640" y="2552760"/>
            <a:chExt cx="5840640" cy="1974960"/>
          </a:xfrm>
        </p:grpSpPr>
        <p:sp>
          <p:nvSpPr>
            <p:cNvPr id="697" name=""/>
            <p:cNvSpPr/>
            <p:nvPr/>
          </p:nvSpPr>
          <p:spPr>
            <a:xfrm>
              <a:off x="2209680" y="2895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232640" y="2552760"/>
              <a:ext cx="8208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Lucida Console"/>
                </a:rPr>
                <a:t>alarm(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Lucida Console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Lucida Console"/>
                </a:rPr>
                <a:t>upd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Lucida Console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Lucida Console"/>
                </a:rPr>
                <a:t>che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981080" y="3124080"/>
              <a:ext cx="213372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252480" y="3886200"/>
              <a:ext cx="8208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Lucida Console"/>
                </a:rPr>
                <a:t>alarm(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Lucida Console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Lucida Console"/>
                </a:rPr>
                <a:t>upd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Lucida Console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Lucida Console"/>
                </a:rPr>
                <a:t>che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>
              <a:off x="5714640" y="42670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H="1" flipV="1">
              <a:off x="4114800" y="3048120"/>
              <a:ext cx="220968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A9B36-F38E-486F-B25B-A1DA4799F2B1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das Short Course - Real Time 2003 - Montreal - Part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few remark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8006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is a course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something is unclear, please ask immediate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you have more general questions, keep them until the end of each sec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ffee break upon reques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-line demo is flexible, ask for certain thing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lides and example programs are on CD and available online at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http://midas.psi.ch/cgi-bin/cvsweb/midas/doc/course/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sic C and data analysis knowledge is assum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 programs partially simplified, miss status check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s are available during the whole confere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64098-7A23-41BE-946C-FBE09ABD9D5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das Short Course - Real Time 2003 - Montreal - Part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ding Conven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04" name=""/>
          <p:cNvGraphicFramePr/>
          <p:nvPr/>
        </p:nvGraphicFramePr>
        <p:xfrm>
          <a:off x="773280" y="1298520"/>
          <a:ext cx="7597440" cy="3390480"/>
        </p:xfrm>
        <a:graphic>
          <a:graphicData uri="http://schemas.openxmlformats.org/drawingml/2006/table">
            <a:tbl>
              <a:tblPr/>
              <a:tblGrid>
                <a:gridCol w="1477800"/>
                <a:gridCol w="1476360"/>
                <a:gridCol w="4643280"/>
              </a:tblGrid>
              <a:tr h="4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out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du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a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m_xx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das.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mmon routines (e.g. connect to experimen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4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m_xx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das.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uffer Manager routi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pc_xx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das.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ow-level RPC routi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k_xx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das.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ank routi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s_xx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ystem.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ystem Service routi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b_xx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db.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nline Database routi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  <p:sp>
        <p:nvSpPr>
          <p:cNvPr id="705" name=""/>
          <p:cNvSpPr/>
          <p:nvPr/>
        </p:nvSpPr>
        <p:spPr>
          <a:xfrm>
            <a:off x="1173600" y="5029200"/>
            <a:ext cx="68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 typ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”         32-bit int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NDLE”    Integer number for object access (like a file hand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3246F-B34B-4013-8FFD-F8C6D2640A5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das Short Course - Real Time 2003 - Montreal - Part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52440" y="565200"/>
            <a:ext cx="4149720" cy="584820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#include &lt;stdio.h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#include &lt;stdlib.h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#include "midas.h"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#define EVENT_SIZE 1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main(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INT     hBuf, status, start, stop, bytes_sent, serial_number=1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char    event[EVENT_SIZE], host_name[256]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printf("Host to connect: ")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ss_gets(host_name, 256)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/* connect to experiment *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700" spc="-1" strike="noStrike">
                <a:solidFill>
                  <a:srgbClr val="ff3300"/>
                </a:solidFill>
                <a:latin typeface="Lucida Console"/>
              </a:rPr>
              <a:t>cm_connect_experiment(host_name, "", "Producer", NULL)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/* open the event buffer with default size *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700" spc="-1" strike="noStrike">
                <a:solidFill>
                  <a:srgbClr val="ff3300"/>
                </a:solidFill>
                <a:latin typeface="Lucida Console"/>
              </a:rPr>
              <a:t>bm_open_buffer("SYSTEM", 0x100000, &amp;hBuf)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/* set the buffer write cache size *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bm_set_cache_size(hBuf, 0, 50000)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d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start = ss_millitime()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bytes_sent = 0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d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/* compose an event header with increasing serial number *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700" spc="-1" strike="noStrike">
                <a:solidFill>
                  <a:srgbClr val="ff3300"/>
                </a:solidFill>
                <a:latin typeface="Lucida Console"/>
              </a:rPr>
              <a:t>bm_compose_event((EVENT_HEADER *) event, 1, 1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3300"/>
                </a:solidFill>
                <a:latin typeface="Lucida Console"/>
              </a:rPr>
              <a:t>                        </a:t>
            </a:r>
            <a:r>
              <a:rPr b="0" lang="en-US" sz="700" spc="-1" strike="noStrike">
                <a:solidFill>
                  <a:srgbClr val="ff3300"/>
                </a:solidFill>
                <a:latin typeface="Lucida Console"/>
              </a:rPr>
              <a:t>EVENT_SIZE, serial_number++)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/* send event *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700" spc="-1" strike="noStrike">
                <a:solidFill>
                  <a:srgbClr val="ff3300"/>
                </a:solidFill>
                <a:latin typeface="Lucida Console"/>
              </a:rPr>
              <a:t>rpc_send_event(hBuf, event, EVENT_SIZE+sizeof(EVENT_HEADER), SYNC)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bytes_sent += EVENT_SIZE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/* repeat this loop for 1s *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} while (ss_millitime() - start &lt; 1000)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/* Now calculate the rate *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stop = ss_millitime()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if (stop != start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printf("Rate: %1.2lf MB/sec\n",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bytes_sent/1024.0/1024.0/(stop/1000.0 - start/1000.0))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status = </a:t>
            </a:r>
            <a:r>
              <a:rPr b="0" lang="en-US" sz="700" spc="-1" strike="noStrike">
                <a:solidFill>
                  <a:srgbClr val="ff3300"/>
                </a:solidFill>
                <a:latin typeface="Lucida Console"/>
              </a:rPr>
              <a:t>cm_yield(0)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} while (status != RPC_SHUTDOWN &amp;&amp; status != SS_ABORT)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700" spc="-1" strike="noStrike">
                <a:solidFill>
                  <a:srgbClr val="ff3300"/>
                </a:solidFill>
                <a:latin typeface="Lucida Console"/>
              </a:rPr>
              <a:t>cm_disconnect_experiment()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return 1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641840" y="762120"/>
            <a:ext cx="4149720" cy="542196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#include &lt;stdio.h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#include &lt;stdlib.h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#include "midas.h"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void </a:t>
            </a:r>
            <a:r>
              <a:rPr b="0" lang="en-US" sz="700" spc="-1" strike="noStrike">
                <a:solidFill>
                  <a:srgbClr val="ff3300"/>
                </a:solidFill>
                <a:latin typeface="Lucida Console"/>
              </a:rPr>
              <a:t>process_event(HNDLE hBuf, HNDLE request_id, EVENT_HEADER *pheader,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3300"/>
                </a:solidFill>
                <a:latin typeface="Lucida Console"/>
              </a:rPr>
              <a:t>                   </a:t>
            </a:r>
            <a:r>
              <a:rPr b="0" lang="en-US" sz="700" spc="-1" strike="noStrike">
                <a:solidFill>
                  <a:srgbClr val="ff3300"/>
                </a:solidFill>
                <a:latin typeface="Lucida Console"/>
              </a:rPr>
              <a:t>void *pevent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static INT bytes_received, start=0, stop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/* accumulate received event size *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bytes_received += pheader-&gt;data_size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/* calculate rates each second *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if (ss_millitime() - start &gt; 1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stop = ss_millitime()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if (stop != start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printf("Rate: %1.2lf MB/sec\n"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bytes_received/1024.0/1024.0 /(stop/1000.0 - start/1000.0))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start = stop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bytes_received = 0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main(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INT hBuf, status, request_id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/* connect to experiment *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700" spc="-1" strike="noStrike">
                <a:solidFill>
                  <a:srgbClr val="ff3300"/>
                </a:solidFill>
                <a:latin typeface="Lucida Console"/>
              </a:rPr>
              <a:t>cm_connect_experiment("", "", "Consumer", NULL)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/* open the event buffer *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700" spc="-1" strike="noStrike">
                <a:solidFill>
                  <a:srgbClr val="ff3300"/>
                </a:solidFill>
                <a:latin typeface="Lucida Console"/>
              </a:rPr>
              <a:t>bm_open_buffer("SYSTEM", 0x100000, &amp;hBuf)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/* set the buffer cache size *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700" spc="-1" strike="noStrike">
                <a:solidFill>
                  <a:srgbClr val="ff3300"/>
                </a:solidFill>
                <a:latin typeface="Lucida Console"/>
              </a:rPr>
              <a:t>bm_set_cache_size(hBuf, 50000, 0)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/* place a request for a specific event id "1" *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700" spc="-1" strike="noStrike">
                <a:solidFill>
                  <a:srgbClr val="ff3300"/>
                </a:solidFill>
                <a:latin typeface="Lucida Console"/>
              </a:rPr>
              <a:t>bm_request_event(hBuf, 1, TRIGGER_ALL, GET_ALL, &amp;request_id,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3300"/>
                </a:solidFill>
                <a:latin typeface="Lucida Console"/>
              </a:rPr>
              <a:t>                   </a:t>
            </a:r>
            <a:r>
              <a:rPr b="0" lang="en-US" sz="700" spc="-1" strike="noStrike">
                <a:solidFill>
                  <a:srgbClr val="ff3300"/>
                </a:solidFill>
                <a:latin typeface="Lucida Console"/>
              </a:rPr>
              <a:t>process_event)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d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status = </a:t>
            </a:r>
            <a:r>
              <a:rPr b="0" lang="en-US" sz="700" spc="-1" strike="noStrike">
                <a:solidFill>
                  <a:srgbClr val="ff3300"/>
                </a:solidFill>
                <a:latin typeface="Lucida Console"/>
              </a:rPr>
              <a:t>cm_yield(1000)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} while (status != RPC_SHUTDOWN &amp;&amp; status != SS_ABORT)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700" spc="-1" strike="noStrike">
                <a:solidFill>
                  <a:srgbClr val="ff3300"/>
                </a:solidFill>
                <a:latin typeface="Lucida Console"/>
              </a:rPr>
              <a:t>cm_disconnect_experiment()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return 1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2743200" y="228600"/>
            <a:ext cx="3657600" cy="3808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mple producer &amp; consum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9" name=""/>
          <p:cNvSpPr/>
          <p:nvPr/>
        </p:nvSpPr>
        <p:spPr>
          <a:xfrm>
            <a:off x="7620120" y="5867280"/>
            <a:ext cx="1143000" cy="609840"/>
          </a:xfrm>
          <a:prstGeom prst="irregularSeal1">
            <a:avLst/>
          </a:prstGeom>
          <a:gradFill rotWithShape="0">
            <a:gsLst>
              <a:gs pos="0">
                <a:srgbClr val="ff33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E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4D9B0-4545-406E-94E1-13C440A7085D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das Short Course - Real Time 2003 - Montreal - Part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cally (1.4 GHz Athlon, 1kB event siz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60 MB/sec (one producer, one consumer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80 MB/sec (one producer, two consumer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 MB/sec (10 Byte event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00Mbit Eth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MB/se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Gbit Ethernet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mited by TCP/IP stac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cket API: 30-50MB/se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zero-copy TCP/IP stack (send_file): under development, 2x possib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1BE22-281C-4BC4-B8C7-954F2D18D4A3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das Short Course - Real Time 2003 - Montreal - Part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3" name=""/>
          <p:cNvSpPr/>
          <p:nvPr/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essage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623960" y="1378080"/>
            <a:ext cx="1465200" cy="1054080"/>
          </a:xfrm>
          <a:prstGeom prst="rect">
            <a:avLst/>
          </a:prstGeom>
          <a:gradFill rotWithShape="0">
            <a:gsLst>
              <a:gs pos="0">
                <a:srgbClr val="4a5975"/>
              </a:gs>
              <a:gs pos="50000">
                <a:srgbClr val="a2c2fe"/>
              </a:gs>
              <a:gs pos="100000">
                <a:srgbClr val="4a5975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du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749680" y="2673360"/>
            <a:ext cx="2730240" cy="18162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Buf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(FIF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671920" y="1905120"/>
            <a:ext cx="1409040" cy="106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8" y="0"/>
                </a:moveTo>
                <a:arcTo wR="10800" hR="10800" stAng="-5407155" swAng="5407155"/>
                <a:lnTo>
                  <a:pt x="10800" y="10800"/>
                </a:lnTo>
                <a:close/>
              </a:path>
              <a:path fill="none" w="21600" h="21600">
                <a:moveTo>
                  <a:pt x="10778" y="0"/>
                </a:moveTo>
                <a:arcTo wR="10800" hR="10800" stAng="-5407155" swAng="5407155"/>
              </a:path>
            </a:pathLst>
          </a:custGeom>
          <a:noFill/>
          <a:ln cap="rnd"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773280" y="5029200"/>
            <a:ext cx="1465200" cy="1054080"/>
          </a:xfrm>
          <a:prstGeom prst="rect">
            <a:avLst/>
          </a:prstGeom>
          <a:gradFill rotWithShape="0">
            <a:gsLst>
              <a:gs pos="0">
                <a:srgbClr val="755e46"/>
              </a:gs>
              <a:gs pos="50000">
                <a:srgbClr val="ffcc99"/>
              </a:gs>
              <a:gs pos="100000">
                <a:srgbClr val="755e4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ni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054080" y="3581280"/>
            <a:ext cx="2673000" cy="19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711600" y="1371600"/>
            <a:ext cx="20260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arm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fo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4782960" y="3429000"/>
            <a:ext cx="3300120" cy="2508120"/>
            <a:chOff x="4782960" y="3429000"/>
            <a:chExt cx="3300120" cy="2508120"/>
          </a:xfrm>
        </p:grpSpPr>
        <p:sp>
          <p:nvSpPr>
            <p:cNvPr id="721" name=""/>
            <p:cNvSpPr/>
            <p:nvPr/>
          </p:nvSpPr>
          <p:spPr>
            <a:xfrm>
              <a:off x="6617880" y="4883040"/>
              <a:ext cx="1465200" cy="1054080"/>
            </a:xfrm>
            <a:prstGeom prst="rect">
              <a:avLst/>
            </a:prstGeom>
            <a:gradFill rotWithShape="0">
              <a:gsLst>
                <a:gs pos="0">
                  <a:srgbClr val="755e46"/>
                </a:gs>
                <a:gs pos="50000">
                  <a:srgbClr val="ffcc99"/>
                </a:gs>
                <a:gs pos="100000">
                  <a:srgbClr val="755e46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ess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Displa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782960" y="3429000"/>
              <a:ext cx="3235320" cy="21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507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978160" y="1371240"/>
            <a:ext cx="2954520" cy="1600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2160" rIns="92160" tIns="46080" bIns="46080" anchor="t">
            <a:normAutofit/>
          </a:bodyPr>
          <a:p>
            <a:pPr marL="233280" indent="-233280"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essages are sent as event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parate FIFO buffe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essage type = Event I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yone can send or register for message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essages can be logge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3352680" y="4648320"/>
            <a:ext cx="1752840" cy="1523880"/>
            <a:chOff x="3352680" y="4648320"/>
            <a:chExt cx="1752840" cy="1523880"/>
          </a:xfrm>
        </p:grpSpPr>
        <p:sp>
          <p:nvSpPr>
            <p:cNvPr id="725" name=""/>
            <p:cNvSpPr/>
            <p:nvPr/>
          </p:nvSpPr>
          <p:spPr>
            <a:xfrm>
              <a:off x="3352680" y="5562720"/>
              <a:ext cx="1752840" cy="60948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5e4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i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191120" y="46483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4475C-6E71-4AD6-9C25-67FE5CB56BCD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das Short Course - Real Time 2003 - Montreal - Part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2415960"/>
            <a:ext cx="7772400" cy="1469880"/>
          </a:xfrm>
          <a:prstGeom prst="rect">
            <a:avLst/>
          </a:prstGeom>
          <a:solidFill>
            <a:srgbClr val="a2c2fe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nline Database (ODB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D0A4B-115B-4697-B820-52FAA276564B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das Short Course - Real Time 2003 - Montreal - Part I</a:t>
            </a: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y databas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solidFill>
            <a:srgbClr val="a2c2fe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ore all variable experiment da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n numb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gging channel inform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vent defini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ront-end parameters (e.g. crate addres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alyzer parameters (e.g. pedestal value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fo about running progra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low control values (HV, beam lin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entral database advant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ngle point of configuration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void inconsistenc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sy backu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mple API for controlling the whole experi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C8940-30FA-4B0D-A8BE-619436C3FD22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das Short Course - Real Time 2003 - Montreal - Part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quire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743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st access (&gt;100.000/s), remote acc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gged data: name, type, val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ierachical structure (/proc, Windows registry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ynamical creation and deletion of key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CII import/expor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omatic notification on data chan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"/>
          <p:cNvSpPr/>
          <p:nvPr/>
        </p:nvSpPr>
        <p:spPr>
          <a:xfrm>
            <a:off x="2089800" y="5257800"/>
            <a:ext cx="4889880" cy="703800"/>
          </a:xfrm>
          <a:prstGeom prst="rect">
            <a:avLst/>
          </a:prstGeom>
          <a:solidFill>
            <a:srgbClr val="3366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-&gt; Requirements are not met by standar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(disk based)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B598A-84E3-4B69-9AA3-9E130F610A28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das Short Course - Real Time 2003 - Montreal - Part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lution: OD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6479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ides completely in shared memo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cess via MIDAS RPC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ilar to file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le name -&gt; “key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le contents -&gt; key value (single value or array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rectory -&gt; key lis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ymbolic link -&gt; key lin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ccess flags: read/write/dele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ta change notification via RPC callbac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sistency through disk ima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cess through API and tools (ODBEdit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B777C-4B30-493F-A633-3B8B8D6513F0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das Short Course - Real Time 2003 - Montreal - Part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"/>
          <p:cNvSpPr/>
          <p:nvPr/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DB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486400" y="1600200"/>
            <a:ext cx="1676520" cy="762120"/>
          </a:xfrm>
          <a:prstGeom prst="rect">
            <a:avLst/>
          </a:prstGeom>
          <a:gradFill rotWithShape="0">
            <a:gsLst>
              <a:gs pos="0">
                <a:srgbClr val="755e46"/>
              </a:gs>
              <a:gs pos="50000">
                <a:srgbClr val="ffcc99"/>
              </a:gs>
              <a:gs pos="100000">
                <a:srgbClr val="755e4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db_set_valu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835960" y="1219320"/>
            <a:ext cx="869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85800" y="1295280"/>
            <a:ext cx="3886200" cy="46483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592640" y="1447920"/>
            <a:ext cx="2096280" cy="397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hared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914400" y="2209680"/>
            <a:ext cx="996840" cy="292320"/>
          </a:xfrm>
          <a:prstGeom prst="rect">
            <a:avLst/>
          </a:prstGeom>
          <a:solidFill>
            <a:srgbClr val="a2c2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uninf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H="1">
            <a:off x="3733920" y="2057400"/>
            <a:ext cx="1676160" cy="60948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066680" y="2514600"/>
            <a:ext cx="1219320" cy="2919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un 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286000" y="2514600"/>
            <a:ext cx="457200" cy="2919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743200" y="2514600"/>
            <a:ext cx="914400" cy="2919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066680" y="2819520"/>
            <a:ext cx="1219320" cy="2919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286000" y="2819520"/>
            <a:ext cx="457200" cy="2919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743200" y="2819520"/>
            <a:ext cx="914400" cy="2919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914400" y="3429000"/>
            <a:ext cx="996840" cy="291960"/>
          </a:xfrm>
          <a:prstGeom prst="rect">
            <a:avLst/>
          </a:prstGeom>
          <a:solidFill>
            <a:srgbClr val="a2c2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066680" y="4038480"/>
            <a:ext cx="997200" cy="292320"/>
          </a:xfrm>
          <a:prstGeom prst="rect">
            <a:avLst/>
          </a:prstGeom>
          <a:solidFill>
            <a:srgbClr val="a2c2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ann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066680" y="3733920"/>
            <a:ext cx="1219320" cy="2919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ata d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286000" y="3733920"/>
            <a:ext cx="457200" cy="2919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743200" y="3733920"/>
            <a:ext cx="914400" cy="2919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/online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219320" y="4343400"/>
            <a:ext cx="996840" cy="291960"/>
          </a:xfrm>
          <a:prstGeom prst="rect">
            <a:avLst/>
          </a:prstGeom>
          <a:solidFill>
            <a:srgbClr val="a2c2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371600" y="4648320"/>
            <a:ext cx="996840" cy="291960"/>
          </a:xfrm>
          <a:prstGeom prst="rect">
            <a:avLst/>
          </a:prstGeom>
          <a:solidFill>
            <a:srgbClr val="a2c2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t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523880" y="4952880"/>
            <a:ext cx="1219320" cy="2923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743200" y="4952880"/>
            <a:ext cx="457200" cy="2923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200400" y="4952880"/>
            <a:ext cx="914400" cy="2923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523880" y="5257800"/>
            <a:ext cx="1219320" cy="2919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743200" y="5257800"/>
            <a:ext cx="457200" cy="2919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200400" y="5257800"/>
            <a:ext cx="914400" cy="2919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un3.m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733920" y="2743200"/>
            <a:ext cx="1676160" cy="685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334120" y="5486400"/>
            <a:ext cx="1523880" cy="7621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ODB.SH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724280" y="5715000"/>
            <a:ext cx="533520" cy="152280"/>
          </a:xfrm>
          <a:prstGeom prst="line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486400" y="2971800"/>
            <a:ext cx="1676520" cy="762120"/>
          </a:xfrm>
          <a:prstGeom prst="rect">
            <a:avLst/>
          </a:prstGeom>
          <a:gradFill rotWithShape="0">
            <a:gsLst>
              <a:gs pos="0">
                <a:srgbClr val="755e46"/>
              </a:gs>
              <a:gs pos="50000">
                <a:srgbClr val="ffcc99"/>
              </a:gs>
              <a:gs pos="100000">
                <a:srgbClr val="755e4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db_get_valu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835960" y="2590920"/>
            <a:ext cx="869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867280" y="4495680"/>
            <a:ext cx="1371600" cy="5335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dump.o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800600" y="4800600"/>
            <a:ext cx="914400" cy="0"/>
          </a:xfrm>
          <a:prstGeom prst="line">
            <a:avLst/>
          </a:prstGeom>
          <a:ln w="7632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793040" y="4343400"/>
            <a:ext cx="98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ve/lo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995520" y="5486400"/>
            <a:ext cx="203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09440" indent="-10944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fter last client sto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fter run st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b_flush_databas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54E8A-BB46-4132-88CD-D40ABB41B737}" type="slidenum">
              <a:t>3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das Short Course - Real Time 2003 - Montreal - Part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rrupting the OD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152424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DB has to be mapped into process address spa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isbehaving process (e.g. invalid pointer) can corrupt OD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 debugging, all db_xxx routines can map/unmap address spa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3" name=""/>
          <p:cNvSpPr/>
          <p:nvPr/>
        </p:nvSpPr>
        <p:spPr>
          <a:xfrm>
            <a:off x="1219320" y="3187800"/>
            <a:ext cx="1523880" cy="166608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ar *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b_set_value(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et_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 = 12345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*p = 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581280" y="3568680"/>
            <a:ext cx="1905120" cy="1143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ddress 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019920" y="3124080"/>
            <a:ext cx="2438280" cy="277776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ar *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b_protect_database(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b_set_value(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s_shmem_attach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et_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s_shmem_detach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 = 12345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*p = 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209680" y="417816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 flipV="1">
            <a:off x="5562360" y="4178160"/>
            <a:ext cx="68580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27160" y="5105520"/>
            <a:ext cx="5400360" cy="1067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ad access immediately causes segmentation vio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rawbac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rformance drop 400.000 acc/s -&gt; 40.000 acc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atchdog scheme doesn’t work anym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341F6-4A5F-4303-A886-FCF2C1AF5D7C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das Short Course - Real Time 2003 - Montreal - Part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Autho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809880" cy="4724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978 degree in electr. engineering at the Technical Institute, Geneve, Switzerlan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979-1981 BBC, Switzerlan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981-1988 SIN (PSI), MWPCs hardware, DAQ (PDP11+VAX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988-1993 CHAOS project at TRIUM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nce 1993 staff member of DAQ group at TRIUM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809880" cy="4724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993 Ph.D. in Physics at the University of Karlsruhe, German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993-2000 postdoc at University of Virginia, project manager of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experi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nce 2000 research scientist (staff) at PSI, technical coordinator of MEG experi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ther interests: Chip design, control syste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"/>
          <p:cNvSpPr/>
          <p:nvPr/>
        </p:nvSpPr>
        <p:spPr>
          <a:xfrm>
            <a:off x="5768640" y="990720"/>
            <a:ext cx="15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Stefan Ri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34920" y="99072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Pierre Andr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é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Amaudru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89CD6-08EF-462D-B639-989EBC07DA2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das Short Course - Real Time 2003 - Montreal - Part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DB ASCII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"/>
          <p:cNvSpPr/>
          <p:nvPr/>
        </p:nvSpPr>
        <p:spPr>
          <a:xfrm>
            <a:off x="576360" y="1173240"/>
            <a:ext cx="7958160" cy="47559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[Experiment/Runinfo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e          = INT :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line         = BOOL :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un number     = DWORD :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rt time = STRING : [25] Wed Sep 04 10:03:47 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[Experiment/Runinfo/Flag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ear histos   = BOOL :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ve histos    = BOOL :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[Experiment/Analyzer paramet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C pedestal = DOUBLE[4]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ffset = DOUBLE : 9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75BFC-689A-4D45-B9C3-62B42B28D5DE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das Short Course - Real Time 2003 - Montreal - Part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ata change notific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“hot link”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"/>
          <p:cNvSpPr/>
          <p:nvPr/>
        </p:nvSpPr>
        <p:spPr>
          <a:xfrm>
            <a:off x="1378080" y="2825640"/>
            <a:ext cx="6235560" cy="357516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682640" y="2978280"/>
            <a:ext cx="2425680" cy="11300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8d6a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028960" y="3078000"/>
            <a:ext cx="177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bprocess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916280" y="3611520"/>
            <a:ext cx="1891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b_set_value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87360" y="1378080"/>
            <a:ext cx="2425680" cy="1282680"/>
          </a:xfrm>
          <a:prstGeom prst="rect">
            <a:avLst/>
          </a:prstGeom>
          <a:gradFill rotWithShape="0">
            <a:gsLst>
              <a:gs pos="0">
                <a:srgbClr val="755e46"/>
              </a:gs>
              <a:gs pos="50000">
                <a:srgbClr val="ffcc99"/>
              </a:gs>
              <a:gs pos="100000">
                <a:srgbClr val="755e4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044360" y="1401840"/>
            <a:ext cx="11131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m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ent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96960" y="2087640"/>
            <a:ext cx="1891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b_set_value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447920" y="251460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594240" y="4191120"/>
            <a:ext cx="1815840" cy="196848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904200" y="4343400"/>
            <a:ext cx="11847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ha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740040" y="5346720"/>
            <a:ext cx="1511280" cy="291960"/>
          </a:xfrm>
          <a:prstGeom prst="rect">
            <a:avLst/>
          </a:prstGeom>
          <a:solidFill>
            <a:srgbClr val="a2c2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un_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581280" y="51055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807080" y="2978280"/>
            <a:ext cx="2425680" cy="11300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8d6a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139000" y="3078000"/>
            <a:ext cx="1777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bprocess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070600" y="3613320"/>
            <a:ext cx="201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otify_client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819520" y="4038480"/>
            <a:ext cx="914400" cy="144792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740040" y="5638680"/>
            <a:ext cx="1511280" cy="2923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otify flag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257800" y="2666880"/>
            <a:ext cx="2744640" cy="3124440"/>
          </a:xfrm>
          <a:custGeom>
            <a:avLst/>
            <a:gdLst/>
            <a:ahLst/>
            <a:rect l="l" t="t" r="r" b="b"/>
            <a:pathLst>
              <a:path w="1729" h="2113">
                <a:moveTo>
                  <a:pt x="0" y="2112"/>
                </a:moveTo>
                <a:lnTo>
                  <a:pt x="1728" y="2112"/>
                </a:lnTo>
                <a:lnTo>
                  <a:pt x="1728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6102360" y="1378080"/>
            <a:ext cx="2425680" cy="1282680"/>
          </a:xfrm>
          <a:prstGeom prst="rect">
            <a:avLst/>
          </a:prstGeom>
          <a:gradFill rotWithShape="0">
            <a:gsLst>
              <a:gs pos="0">
                <a:srgbClr val="4a5975"/>
              </a:gs>
              <a:gs pos="50000">
                <a:srgbClr val="a2c2fe"/>
              </a:gs>
              <a:gs pos="100000">
                <a:srgbClr val="4a5975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759360" y="1401840"/>
            <a:ext cx="11131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m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ent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6706800" y="2089080"/>
            <a:ext cx="1404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allback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962520" y="3809880"/>
            <a:ext cx="9903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V="1">
            <a:off x="7010280" y="2514240"/>
            <a:ext cx="152640" cy="762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 flipV="1">
            <a:off x="2666880" y="4038120"/>
            <a:ext cx="1067040" cy="175284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470920" y="5454720"/>
            <a:ext cx="2135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b_open_record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690360" y="2316240"/>
            <a:ext cx="1623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uter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6501600" y="944640"/>
            <a:ext cx="1619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uter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40880" y="944640"/>
            <a:ext cx="1620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uter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7315200" y="2743200"/>
            <a:ext cx="380880" cy="380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553080" y="5943600"/>
            <a:ext cx="381240" cy="380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2743200"/>
            <a:ext cx="380880" cy="380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267080" y="3352680"/>
            <a:ext cx="38124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F42A6-DA07-4ADE-ADAD-8C291B351FAD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das Short Course - Real Time 2003 - Montreal - Part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DBEdi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ple “wrapper” around MIDAS libra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ld style command line interf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pect/change ODB, create new key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rt/stop ru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utdown cli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ort/Export ODB to ASCII, C struct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eck ODB structure (“cleanup”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ple chat functional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ange passwor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orks locally and remotely (-h &lt;hostname&gt;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F1D52-EF80-42D0-BA07-8743E9807F05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das Short Course - Real Time 2003 - Montreal - Part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b interf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7" name=""/>
          <p:cNvSpPr/>
          <p:nvPr/>
        </p:nvSpPr>
        <p:spPr>
          <a:xfrm>
            <a:off x="457200" y="1219320"/>
            <a:ext cx="2514600" cy="2286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9440" indent="-109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http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 algn="ctr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ODB 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 algn="ctr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Run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 algn="ctr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History 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 algn="ctr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Electronic Logbo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981080" y="3962520"/>
            <a:ext cx="1371600" cy="9144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O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981080" y="3505320"/>
            <a:ext cx="304920" cy="5331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057400" y="1752480"/>
            <a:ext cx="914400" cy="609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971800" y="205740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3657600" y="1225440"/>
            <a:ext cx="5253120" cy="441324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228600" y="5257800"/>
            <a:ext cx="685800" cy="38088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143000" y="5410080"/>
            <a:ext cx="685800" cy="38124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057400" y="5562720"/>
            <a:ext cx="685800" cy="38088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H="1">
            <a:off x="609120" y="3581280"/>
            <a:ext cx="76212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H="1">
            <a:off x="1447560" y="3581280"/>
            <a:ext cx="7596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676520" y="3581280"/>
            <a:ext cx="45720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982080" y="4343400"/>
            <a:ext cx="5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6A8BB-629D-4667-A6ED-4D65643B98A9}" type="slidenum">
              <a:t>4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das Short Course - Real Time 2003 - Montreal - Part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mple ODB Acces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1" name=""/>
          <p:cNvSpPr/>
          <p:nvPr/>
        </p:nvSpPr>
        <p:spPr>
          <a:xfrm>
            <a:off x="914400" y="990720"/>
            <a:ext cx="4149720" cy="4961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#include &lt;stdio.h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#include "midas.h"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int run_number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void run_number_changed(HNDLE hDB, HNDLE hKey, void *inf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printf("Run number is %d\n", run_number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main(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HNDLE hKey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int   size, status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/* connect to experiment *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ff3300"/>
                </a:solidFill>
                <a:latin typeface="Lucida Console"/>
              </a:rPr>
              <a:t>cm_connect_experiment("", "", "ODB Test", NULL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/* get run number *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size = sizeof(run_number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ff3300"/>
                </a:solidFill>
                <a:latin typeface="Lucida Console"/>
              </a:rPr>
              <a:t>db_get_value(1, 0, "/runinfo/run number"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Lucida Console"/>
              </a:rPr>
              <a:t>               </a:t>
            </a:r>
            <a:r>
              <a:rPr b="0" lang="en-US" sz="800" spc="-1" strike="noStrike">
                <a:solidFill>
                  <a:srgbClr val="ff3300"/>
                </a:solidFill>
                <a:latin typeface="Lucida Console"/>
              </a:rPr>
              <a:t>&amp;run_number, &amp;size, TID_INT, TRUE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run_number++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/* write run number *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ff3300"/>
                </a:solidFill>
                <a:latin typeface="Lucida Console"/>
              </a:rPr>
              <a:t>db_set_value(1, 0, "/runinfo/run number"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Lucida Console"/>
              </a:rPr>
              <a:t>               </a:t>
            </a:r>
            <a:r>
              <a:rPr b="0" lang="en-US" sz="800" spc="-1" strike="noStrike">
                <a:solidFill>
                  <a:srgbClr val="ff3300"/>
                </a:solidFill>
                <a:latin typeface="Lucida Console"/>
              </a:rPr>
              <a:t>&amp;run_number, size, 1, TID_INT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/* open hot link to run number *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ff3300"/>
                </a:solidFill>
                <a:latin typeface="Lucida Console"/>
              </a:rPr>
              <a:t>db_find_key(1, 0, "/runinfo/run number", &amp;hKey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ff3300"/>
                </a:solidFill>
                <a:latin typeface="Lucida Console"/>
              </a:rPr>
              <a:t>db_open_record(1, hKey, &amp;run_number, sizeof(run_number)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Lucida Console"/>
              </a:rPr>
              <a:t>                 </a:t>
            </a:r>
            <a:r>
              <a:rPr b="0" lang="en-US" sz="800" spc="-1" strike="noStrike">
                <a:solidFill>
                  <a:srgbClr val="ff3300"/>
                </a:solidFill>
                <a:latin typeface="Lucida Console"/>
              </a:rPr>
              <a:t>MODE_READ, run_number_changed, NULL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/* enter idle loop *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while (</a:t>
            </a:r>
            <a:r>
              <a:rPr b="0" lang="en-US" sz="800" spc="-1" strike="noStrike">
                <a:solidFill>
                  <a:srgbClr val="ff3300"/>
                </a:solidFill>
                <a:latin typeface="Lucida Console"/>
              </a:rPr>
              <a:t>cm_yield(1000);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!= RPC_SHUTDOWN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ff3300"/>
                </a:solidFill>
                <a:latin typeface="Lucida Console"/>
              </a:rPr>
              <a:t>cm_disconnect_experiment(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return 1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181480" y="1676520"/>
            <a:ext cx="152640" cy="457200"/>
          </a:xfrm>
          <a:custGeom>
            <a:avLst/>
            <a:gdLst>
              <a:gd name="textAreaLeft" fmla="*/ 0 w 152640"/>
              <a:gd name="textAreaRight" fmla="*/ 55080 w 15264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496120" y="1676520"/>
            <a:ext cx="28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allback routine gets call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never run number chan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519520" y="3886200"/>
            <a:ext cx="319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ad, modify and write run_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181480" y="3352680"/>
            <a:ext cx="152640" cy="1143000"/>
          </a:xfrm>
          <a:custGeom>
            <a:avLst/>
            <a:gdLst>
              <a:gd name="textAreaLeft" fmla="*/ 0 w 152640"/>
              <a:gd name="textAreaRight" fmla="*/ 55080 w 15264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181480" y="4572000"/>
            <a:ext cx="152640" cy="533520"/>
          </a:xfrm>
          <a:custGeom>
            <a:avLst/>
            <a:gdLst>
              <a:gd name="textAreaLeft" fmla="*/ 0 w 152640"/>
              <a:gd name="textAreaRight" fmla="*/ 55080 w 15264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579280" y="4648320"/>
            <a:ext cx="166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gister “hot link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551920" y="5181480"/>
            <a:ext cx="106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vent 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7620120" y="5867280"/>
            <a:ext cx="1143000" cy="609840"/>
          </a:xfrm>
          <a:prstGeom prst="irregularSeal1">
            <a:avLst/>
          </a:prstGeom>
          <a:gradFill rotWithShape="0">
            <a:gsLst>
              <a:gs pos="0">
                <a:srgbClr val="ff33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d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DF232-B227-47D4-8FDA-4DE48DFE3F07}" type="slidenum">
              <a:t>4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das Short Course - Real Time 2003 - Montreal - Part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t link to C structu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"/>
          <p:cNvSpPr/>
          <p:nvPr/>
        </p:nvSpPr>
        <p:spPr>
          <a:xfrm>
            <a:off x="685800" y="1785960"/>
            <a:ext cx="25146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struct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nt run_numbe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nt stat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 runinfo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181480" y="1798560"/>
            <a:ext cx="997200" cy="292320"/>
          </a:xfrm>
          <a:prstGeom prst="rect">
            <a:avLst/>
          </a:prstGeom>
          <a:solidFill>
            <a:srgbClr val="a2c2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uninf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334120" y="2103480"/>
            <a:ext cx="1218960" cy="291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un 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6553080" y="2103480"/>
            <a:ext cx="457200" cy="291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010280" y="2103480"/>
            <a:ext cx="914400" cy="291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334120" y="2408400"/>
            <a:ext cx="1218960" cy="291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553080" y="2408400"/>
            <a:ext cx="457200" cy="291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7010280" y="2408400"/>
            <a:ext cx="914400" cy="291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22720" y="1046160"/>
            <a:ext cx="205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909760" y="1066680"/>
            <a:ext cx="94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D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flipH="1">
            <a:off x="2819520" y="22860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flipH="1">
            <a:off x="2819520" y="25146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256040" y="3429000"/>
            <a:ext cx="6622560" cy="398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&gt; Problem if ODB structure doesn’t match C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1808280" y="4471920"/>
            <a:ext cx="5528520" cy="947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lu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rrect ODB structure before hot-link is ope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ck ODB structure as long as hot-link is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4630C-72D7-453F-AB12-6E55A219674B}" type="slidenum">
              <a:t>4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das Short Course - Real Time 2003 - Montreal - Part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t link to C structure examp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6" name=""/>
          <p:cNvSpPr/>
          <p:nvPr/>
        </p:nvSpPr>
        <p:spPr>
          <a:xfrm>
            <a:off x="304920" y="1398600"/>
            <a:ext cx="4149720" cy="3379320"/>
          </a:xfrm>
          <a:prstGeom prst="rect">
            <a:avLst/>
          </a:prstGeom>
          <a:solidFill>
            <a:srgbClr val="a2c2fe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typedef struct {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INT       state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INT       online_mode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INT       run_number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INT       transition_in_progress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INT       requested_transition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char      start_time[32]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DWORD     start_time_binary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char      stop_time[32]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DWORD     stop_time_binary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} RUN_INFO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#define RUN_INFO_STR(_name) char *_name[] = {\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"[.]",\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"State = INT : 1",\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"Online Mode = INT : 1",\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"Run number = INT : 0",\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"Transition in progress = INT : 0",\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"Requested transition = INT : 0",\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"Start time = STRING : [32] Tue Sep 09 15:04:42 1997",\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"Start time binary = DWORD : 0",\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"Stop time = STRING : [32] Tue Sep 09 15:04:42 1997",\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"Stop time binary = DWORD : 0",\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"",\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NULL 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648320" y="990720"/>
            <a:ext cx="4149720" cy="4961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#include &lt;stdio.h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#include "midas.h"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#include “run_info.h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Lucida Console"/>
              </a:rPr>
              <a:t>RUN_INFO run_info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Lucida Console"/>
              </a:rPr>
              <a:t>RUN_INFO_STR(run_info_str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void run_info_changed(HNDLE hDB, HNDLE hKey, void *inf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printf("Run number is %d\n", run_info.run_number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main(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HNDLE hKey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int   status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/* connect to experiment *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cm_connect_experiment("", "", "ODB Test", NULL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/* create/correct /runinfo structure *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ff3300"/>
                </a:solidFill>
                <a:latin typeface="Lucida Console"/>
              </a:rPr>
              <a:t>db_create_record(1, 0, "/Runinfo", strcomb(run_info_str)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/* open hot link to runinfo number *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ff3300"/>
                </a:solidFill>
                <a:latin typeface="Lucida Console"/>
              </a:rPr>
              <a:t>db_find_key(1, 0, "/runinfo", &amp;hKey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ff3300"/>
                </a:solidFill>
                <a:latin typeface="Lucida Console"/>
              </a:rPr>
              <a:t>db_open_record(1, hKey, &amp;run_info, sizeof(run_info)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Lucida Console"/>
              </a:rPr>
              <a:t>                 </a:t>
            </a:r>
            <a:r>
              <a:rPr b="0" lang="en-US" sz="800" spc="-1" strike="noStrike">
                <a:solidFill>
                  <a:srgbClr val="ff3300"/>
                </a:solidFill>
                <a:latin typeface="Lucida Console"/>
              </a:rPr>
              <a:t>MODE_READ, run_info_changed, NULL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/* enter idle loop *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status = cm_yield(1000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} while (status != RPC_SHUTDOWN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cm_disconnect_experiment(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return 1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97240" y="1066680"/>
            <a:ext cx="95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uninfo.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04920" y="5105520"/>
            <a:ext cx="4190760" cy="844560"/>
          </a:xfrm>
          <a:prstGeom prst="rect">
            <a:avLst/>
          </a:prstGeom>
          <a:solidFill>
            <a:srgbClr val="99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reate ASCII representation of C stru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se ASCII representation to create/correct ODB structu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63360" y="3886200"/>
            <a:ext cx="241560" cy="1371600"/>
          </a:xfrm>
          <a:custGeom>
            <a:avLst/>
            <a:gdLst/>
            <a:ahLst/>
            <a:rect l="l" t="t" r="r" b="b"/>
            <a:pathLst>
              <a:path w="152" h="864">
                <a:moveTo>
                  <a:pt x="152" y="864"/>
                </a:moveTo>
                <a:cubicBezTo>
                  <a:pt x="84" y="720"/>
                  <a:pt x="16" y="576"/>
                  <a:pt x="8" y="432"/>
                </a:cubicBezTo>
                <a:cubicBezTo>
                  <a:pt x="0" y="288"/>
                  <a:pt x="52" y="144"/>
                  <a:pt x="104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flipV="1">
            <a:off x="4419720" y="3962160"/>
            <a:ext cx="380880" cy="15238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7620120" y="5867280"/>
            <a:ext cx="1143000" cy="609840"/>
          </a:xfrm>
          <a:prstGeom prst="irregularSeal1">
            <a:avLst/>
          </a:prstGeom>
          <a:gradFill rotWithShape="0">
            <a:gsLst>
              <a:gs pos="0">
                <a:srgbClr val="ff33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d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E80C0-F9A3-4C3A-8F86-1000843AC9F2}" type="slidenum">
              <a:t>4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das Short Course - Real Time 2003 - Montreal - Part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mples for hot link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4" name=""/>
          <p:cNvSpPr/>
          <p:nvPr/>
        </p:nvSpPr>
        <p:spPr>
          <a:xfrm>
            <a:off x="881640" y="1236600"/>
            <a:ext cx="2757960" cy="398880"/>
          </a:xfrm>
          <a:prstGeom prst="rect">
            <a:avLst/>
          </a:prstGeom>
          <a:solidFill>
            <a:srgbClr val="a2c2fe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eering of front-en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572000" y="1219320"/>
            <a:ext cx="3505320" cy="2329560"/>
          </a:xfrm>
          <a:prstGeom prst="rect">
            <a:avLst/>
          </a:prstGeom>
          <a:solidFill>
            <a:srgbClr val="a2c2fe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ruct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int slot_adc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int n_channel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int read_adc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} conf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if (conf.read_adc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for (i=0 ; i&lt;conf.n_channels ; i++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cami(0, conf.slot_adc, i, 0, adc[i]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…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94200" y="1981080"/>
            <a:ext cx="35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db_set_value(“/FE/Conf/Slot Adc”, 3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3962520" y="160020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572000" y="4114800"/>
            <a:ext cx="3505320" cy="2329560"/>
          </a:xfrm>
          <a:prstGeom prst="rect">
            <a:avLst/>
          </a:prstGeom>
          <a:solidFill>
            <a:srgbClr val="a2c2fe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ruct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int threshold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int threshold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} trigger_conf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trigger_conf_changed(…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camo(0,1,0,16, trigger_conf.threshold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camo(0,1,1,16, trigger_conf.threshold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480240" y="4114800"/>
            <a:ext cx="3513600" cy="398880"/>
          </a:xfrm>
          <a:prstGeom prst="rect">
            <a:avLst/>
          </a:prstGeom>
          <a:solidFill>
            <a:srgbClr val="a2c2fe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anging trigger hardwa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06720" y="5281560"/>
            <a:ext cx="376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db_set_value(“/FE/Trigger Conf/Threshold1”, 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V="1">
            <a:off x="4038480" y="4495320"/>
            <a:ext cx="7621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BB4A3-2DC9-4BDD-8BDE-FDD39315AC0C}" type="slidenum">
              <a:t>4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das Short Course - Real Time 2003 - Montreal - Part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eating ASCII representation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utomatically with ODBEdi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257800" cy="2971800"/>
          </a:xfrm>
          <a:prstGeom prst="rect">
            <a:avLst/>
          </a:prstGeom>
          <a:solidFill>
            <a:srgbClr val="a2c2fe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[local:online:R]/&gt;mkdir F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[local:online:R]/&gt;cd F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[local:online:R]/FE&gt;mkdir "Trigger Conf"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[local:online:R]/FE&gt;cd "Trigger Conf"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[local:online:R]Trigger Conf&gt;cre int Threshold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[local:online:R]Trigger Conf&gt;cre int Threshold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[local:online:R]Trigger Conf&gt;l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Threshold1                      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Threshold2                      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[local:online:R]Trigger Conf&gt;save -c conf.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[local:online:R]Trigger Conf&gt;save -s conf.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4" name=""/>
          <p:cNvSpPr/>
          <p:nvPr/>
        </p:nvSpPr>
        <p:spPr>
          <a:xfrm>
            <a:off x="6018120" y="2286000"/>
            <a:ext cx="2634480" cy="94644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typedef struct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NT       threshold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NT       threshold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 TRIGGER_CONF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195000" y="4952880"/>
            <a:ext cx="5087880" cy="1372680"/>
          </a:xfrm>
          <a:prstGeom prst="rect">
            <a:avLst/>
          </a:prstGeom>
          <a:solidFill>
            <a:srgbClr val="99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#define TRIGGER_CONF(_name) char *_name[] = {\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[.]",\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Threshold1 = INT : 0",\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Threshold2 = INT : 0",\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",\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NULL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flipV="1">
            <a:off x="5181480" y="2743200"/>
            <a:ext cx="7621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5181480" y="43434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86011-F9D9-4030-9919-99E57A4690A0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das Short Course - Real Time 2003 - Montreal - Part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low Control Syst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9" name=""/>
          <p:cNvSpPr/>
          <p:nvPr/>
        </p:nvSpPr>
        <p:spPr>
          <a:xfrm>
            <a:off x="3587760" y="1606680"/>
            <a:ext cx="2120760" cy="4787640"/>
          </a:xfrm>
          <a:prstGeom prst="rect">
            <a:avLst/>
          </a:prstGeom>
          <a:gradFill rotWithShape="0">
            <a:gsLst>
              <a:gs pos="0">
                <a:srgbClr val="00cccc"/>
              </a:gs>
              <a:gs pos="100000">
                <a:srgbClr val="008d8d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4280760" y="1096920"/>
            <a:ext cx="735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D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745080" y="1758960"/>
            <a:ext cx="1811160" cy="1892160"/>
          </a:xfrm>
          <a:prstGeom prst="rect">
            <a:avLst/>
          </a:prstGeom>
          <a:gradFill rotWithShape="0">
            <a:gsLst>
              <a:gs pos="0">
                <a:srgbClr val="cc66ff"/>
              </a:gs>
              <a:gs pos="100000">
                <a:srgbClr val="8d46b1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714480" y="1787400"/>
            <a:ext cx="1529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V dem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715560" y="2166840"/>
            <a:ext cx="1273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0] 1000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715560" y="2548080"/>
            <a:ext cx="1273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1] 1500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738600" y="2133720"/>
            <a:ext cx="1824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738600" y="2514600"/>
            <a:ext cx="1824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8600" y="2895480"/>
            <a:ext cx="1824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3738600" y="3276720"/>
            <a:ext cx="1824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3715560" y="2928960"/>
            <a:ext cx="1273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 1300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3716280" y="3311640"/>
            <a:ext cx="395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743280" y="3892680"/>
            <a:ext cx="1812960" cy="1892160"/>
          </a:xfrm>
          <a:prstGeom prst="rect">
            <a:avLst/>
          </a:prstGeom>
          <a:gradFill rotWithShape="0">
            <a:gsLst>
              <a:gs pos="0">
                <a:srgbClr val="cc66ff"/>
              </a:gs>
              <a:gs pos="100000">
                <a:srgbClr val="8d46b1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713400" y="3922560"/>
            <a:ext cx="1742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V measu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3715560" y="4302000"/>
            <a:ext cx="1273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0] 1002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15560" y="4683240"/>
            <a:ext cx="1273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1] 1498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736800" y="4267080"/>
            <a:ext cx="1825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736800" y="4648320"/>
            <a:ext cx="1825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3736800" y="5029200"/>
            <a:ext cx="1825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736800" y="5410080"/>
            <a:ext cx="1825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715560" y="5064120"/>
            <a:ext cx="1273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 1301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716280" y="5446800"/>
            <a:ext cx="395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1" name=""/>
          <p:cNvGrpSpPr/>
          <p:nvPr/>
        </p:nvGrpSpPr>
        <p:grpSpPr>
          <a:xfrm>
            <a:off x="387360" y="1378080"/>
            <a:ext cx="3346560" cy="4406760"/>
            <a:chOff x="387360" y="1378080"/>
            <a:chExt cx="3346560" cy="4406760"/>
          </a:xfrm>
        </p:grpSpPr>
        <p:sp>
          <p:nvSpPr>
            <p:cNvPr id="902" name="">
              <a:hlinkClick r:id="rId1"/>
            </p:cNvPr>
            <p:cNvSpPr/>
            <p:nvPr/>
          </p:nvSpPr>
          <p:spPr>
            <a:xfrm>
              <a:off x="387360" y="1378080"/>
              <a:ext cx="2425680" cy="44067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948240" y="1401840"/>
              <a:ext cx="1306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HV Edi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15960" y="3816360"/>
              <a:ext cx="1968480" cy="1739880"/>
            </a:xfrm>
            <a:prstGeom prst="rect">
              <a:avLst/>
            </a:prstGeom>
            <a:solidFill>
              <a:srgbClr val="00cc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66360" y="3916440"/>
              <a:ext cx="1637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hn.        H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817920" y="4297320"/>
              <a:ext cx="1594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0          10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817920" y="4678200"/>
              <a:ext cx="1594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          149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817920" y="5059440"/>
              <a:ext cx="1594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2          13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68240" y="1911240"/>
              <a:ext cx="1282680" cy="596880"/>
            </a:xfrm>
            <a:prstGeom prst="rect">
              <a:avLst/>
            </a:prstGeom>
            <a:solidFill>
              <a:srgbClr val="00cc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047960" y="2011320"/>
              <a:ext cx="7520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216160" y="1911240"/>
              <a:ext cx="216000" cy="292320"/>
            </a:xfrm>
            <a:prstGeom prst="upArrow">
              <a:avLst>
                <a:gd name="adj1" fmla="val 50000"/>
                <a:gd name="adj2" fmla="val 67660"/>
              </a:avLst>
            </a:prstGeom>
            <a:solidFill>
              <a:srgbClr val="808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216160" y="2292480"/>
              <a:ext cx="216000" cy="215640"/>
            </a:xfrm>
            <a:prstGeom prst="downArrow">
              <a:avLst>
                <a:gd name="adj1" fmla="val 50000"/>
                <a:gd name="adj2" fmla="val 50005"/>
              </a:avLst>
            </a:prstGeom>
            <a:solidFill>
              <a:srgbClr val="808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>
              <a:off x="2590560" y="4800600"/>
              <a:ext cx="1143000" cy="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590920" y="2209680"/>
              <a:ext cx="1143000" cy="152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5562720" y="1378080"/>
            <a:ext cx="3117600" cy="4254480"/>
            <a:chOff x="5562720" y="1378080"/>
            <a:chExt cx="3117600" cy="4254480"/>
          </a:xfrm>
        </p:grpSpPr>
        <p:sp>
          <p:nvSpPr>
            <p:cNvPr id="916" name=""/>
            <p:cNvSpPr/>
            <p:nvPr/>
          </p:nvSpPr>
          <p:spPr>
            <a:xfrm>
              <a:off x="6254640" y="1378080"/>
              <a:ext cx="2425680" cy="128268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757546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627960" y="1401840"/>
              <a:ext cx="1689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HV Fronte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254640" y="3587760"/>
              <a:ext cx="2425680" cy="204480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1717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381360" y="3763800"/>
              <a:ext cx="2248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HV power suppl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562720" y="2057400"/>
              <a:ext cx="1449360" cy="1601640"/>
            </a:xfrm>
            <a:custGeom>
              <a:avLst/>
              <a:gdLst/>
              <a:ahLst/>
              <a:rect l="l" t="t" r="r" b="b"/>
              <a:pathLst>
                <a:path w="913" h="1009">
                  <a:moveTo>
                    <a:pt x="0" y="192"/>
                  </a:moveTo>
                  <a:lnTo>
                    <a:pt x="240" y="0"/>
                  </a:lnTo>
                  <a:lnTo>
                    <a:pt x="912" y="0"/>
                  </a:lnTo>
                  <a:lnTo>
                    <a:pt x="912" y="1008"/>
                  </a:lnTo>
                </a:path>
              </a:pathLst>
            </a:custGeom>
            <a:noFill/>
            <a:ln cap="rnd" w="50760">
              <a:solidFill>
                <a:srgbClr val="ff33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562720" y="2286000"/>
              <a:ext cx="1220760" cy="2516040"/>
            </a:xfrm>
            <a:custGeom>
              <a:avLst/>
              <a:gdLst/>
              <a:ahLst/>
              <a:rect l="l" t="t" r="r" b="b"/>
              <a:pathLst>
                <a:path w="769" h="1585">
                  <a:moveTo>
                    <a:pt x="768" y="864"/>
                  </a:moveTo>
                  <a:lnTo>
                    <a:pt x="768" y="0"/>
                  </a:lnTo>
                  <a:lnTo>
                    <a:pt x="240" y="0"/>
                  </a:lnTo>
                  <a:lnTo>
                    <a:pt x="240" y="1584"/>
                  </a:lnTo>
                  <a:lnTo>
                    <a:pt x="0" y="1584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254000" y="2849400"/>
              <a:ext cx="922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RS23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F58C0-A17C-4B2B-BBEE-6BEE9F0EC931}" type="slidenum">
              <a:t>4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das Short Course - Real Time 2003 - Montreal - Part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ul Scherrer Institu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4572000" cy="2930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711680" cy="3141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60" name=""/>
          <p:cNvSpPr/>
          <p:nvPr/>
        </p:nvSpPr>
        <p:spPr>
          <a:xfrm flipH="1">
            <a:off x="5486400" y="1981080"/>
            <a:ext cx="838080" cy="26672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46240" y="1600200"/>
            <a:ext cx="22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90 MeV Prot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2362320" y="5486040"/>
            <a:ext cx="2286000" cy="609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2480" y="6019920"/>
            <a:ext cx="290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ynchrotron light source S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7315200" y="2743200"/>
            <a:ext cx="76320" cy="1143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58760" y="228600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ergy re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4876920"/>
            <a:ext cx="190512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55560" y="4692600"/>
            <a:ext cx="187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ton irradi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CD955-9673-46EE-8D6D-6E3F1D63D338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das Short Course - Real Time 2003 - Montreal - Part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"/>
          <p:cNvSpPr/>
          <p:nvPr/>
        </p:nvSpPr>
        <p:spPr>
          <a:xfrm>
            <a:off x="685800" y="2416320"/>
            <a:ext cx="7772400" cy="1469880"/>
          </a:xfrm>
          <a:prstGeom prst="rect">
            <a:avLst/>
          </a:prstGeom>
          <a:solidFill>
            <a:srgbClr val="a2c2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un Transi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FEEEA-6326-4BEF-9B8D-CD04123B771E}" type="slidenum">
              <a:t>5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das Short Course - Real Time 2003 - Montreal - Part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un Transi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6858000" cy="2362320"/>
          </a:xfrm>
          <a:prstGeom prst="rect">
            <a:avLst/>
          </a:prstGeom>
          <a:solidFill>
            <a:srgbClr val="a2c2fe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asurements are subdivided into “Runs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ypically one Run is logged into one data fi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ree run states: Stopped, Paused, Runn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un Transitions: Start, Stop, Pause, Resu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clients need to be synchroniz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6" name=""/>
          <p:cNvSpPr/>
          <p:nvPr/>
        </p:nvSpPr>
        <p:spPr>
          <a:xfrm>
            <a:off x="1905120" y="3733920"/>
            <a:ext cx="1371600" cy="609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u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1905120" y="4724280"/>
            <a:ext cx="1371600" cy="609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u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905120" y="5715000"/>
            <a:ext cx="1371600" cy="6094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opp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914400" y="4038480"/>
            <a:ext cx="838080" cy="1981440"/>
          </a:xfrm>
          <a:custGeom>
            <a:avLst/>
            <a:gdLst/>
            <a:ahLst/>
            <a:rect l="l" t="t" r="r" b="b"/>
            <a:pathLst>
              <a:path w="336" h="1248">
                <a:moveTo>
                  <a:pt x="336" y="1248"/>
                </a:moveTo>
                <a:cubicBezTo>
                  <a:pt x="168" y="1040"/>
                  <a:pt x="0" y="832"/>
                  <a:pt x="0" y="624"/>
                </a:cubicBezTo>
                <a:cubicBezTo>
                  <a:pt x="0" y="416"/>
                  <a:pt x="168" y="208"/>
                  <a:pt x="336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rot="16200000">
            <a:off x="631800" y="4883760"/>
            <a:ext cx="567720" cy="3070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H="1" flipV="1">
            <a:off x="3429000" y="4038480"/>
            <a:ext cx="828720" cy="1981440"/>
          </a:xfrm>
          <a:custGeom>
            <a:avLst/>
            <a:gdLst/>
            <a:ahLst/>
            <a:rect l="l" t="t" r="r" b="b"/>
            <a:pathLst>
              <a:path w="336" h="1248">
                <a:moveTo>
                  <a:pt x="336" y="1248"/>
                </a:moveTo>
                <a:cubicBezTo>
                  <a:pt x="168" y="1040"/>
                  <a:pt x="0" y="832"/>
                  <a:pt x="0" y="624"/>
                </a:cubicBezTo>
                <a:cubicBezTo>
                  <a:pt x="0" y="416"/>
                  <a:pt x="168" y="208"/>
                  <a:pt x="336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rot="16200000">
            <a:off x="3984840" y="4847400"/>
            <a:ext cx="547920" cy="3070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V="1">
            <a:off x="1600200" y="4191120"/>
            <a:ext cx="228600" cy="838080"/>
          </a:xfrm>
          <a:custGeom>
            <a:avLst/>
            <a:gdLst/>
            <a:ahLst/>
            <a:rect l="l" t="t" r="r" b="b"/>
            <a:pathLst>
              <a:path w="336" h="1248">
                <a:moveTo>
                  <a:pt x="336" y="1248"/>
                </a:moveTo>
                <a:cubicBezTo>
                  <a:pt x="168" y="1040"/>
                  <a:pt x="0" y="832"/>
                  <a:pt x="0" y="624"/>
                </a:cubicBezTo>
                <a:cubicBezTo>
                  <a:pt x="0" y="416"/>
                  <a:pt x="168" y="208"/>
                  <a:pt x="336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V="1" rot="10800000">
            <a:off x="3352320" y="4176720"/>
            <a:ext cx="228600" cy="838080"/>
          </a:xfrm>
          <a:custGeom>
            <a:avLst/>
            <a:gdLst/>
            <a:ahLst/>
            <a:rect l="l" t="t" r="r" b="b"/>
            <a:pathLst>
              <a:path w="336" h="1248">
                <a:moveTo>
                  <a:pt x="336" y="1248"/>
                </a:moveTo>
                <a:cubicBezTo>
                  <a:pt x="168" y="1040"/>
                  <a:pt x="0" y="832"/>
                  <a:pt x="0" y="624"/>
                </a:cubicBezTo>
                <a:cubicBezTo>
                  <a:pt x="0" y="416"/>
                  <a:pt x="168" y="208"/>
                  <a:pt x="336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330560" y="4419720"/>
            <a:ext cx="816120" cy="3070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su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181480" y="4056120"/>
            <a:ext cx="3124440" cy="1510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.g. run star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gger opens data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nalyzer clears hist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ront-end enables tri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184920" y="4433760"/>
            <a:ext cx="686520" cy="3070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a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7B0EC-2DA5-4BE7-A673-9189A0E9E0BB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das Short Course - Real Time 2003 - Montreal - Part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ansition Synchroniz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9" name=""/>
          <p:cNvSpPr/>
          <p:nvPr/>
        </p:nvSpPr>
        <p:spPr>
          <a:xfrm>
            <a:off x="3429000" y="4038480"/>
            <a:ext cx="2133720" cy="227340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87360" y="1143000"/>
            <a:ext cx="2425680" cy="12826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044360" y="1166760"/>
            <a:ext cx="11131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m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ent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02840" y="1852560"/>
            <a:ext cx="2471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m_transitio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587760" y="4191120"/>
            <a:ext cx="1816200" cy="1968480"/>
          </a:xfrm>
          <a:prstGeom prst="rect">
            <a:avLst/>
          </a:prstGeom>
          <a:gradFill rotWithShape="0">
            <a:gsLst>
              <a:gs pos="0">
                <a:srgbClr val="00cccc"/>
              </a:gs>
              <a:gs pos="100000">
                <a:srgbClr val="008d8d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2057400" y="2286000"/>
            <a:ext cx="1600200" cy="28195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5" name=""/>
          <p:cNvGrpSpPr/>
          <p:nvPr/>
        </p:nvGrpSpPr>
        <p:grpSpPr>
          <a:xfrm>
            <a:off x="3715200" y="5105520"/>
            <a:ext cx="1536120" cy="725760"/>
            <a:chOff x="3715200" y="5105520"/>
            <a:chExt cx="1536120" cy="725760"/>
          </a:xfrm>
        </p:grpSpPr>
        <p:sp>
          <p:nvSpPr>
            <p:cNvPr id="946" name=""/>
            <p:cNvSpPr/>
            <p:nvPr/>
          </p:nvSpPr>
          <p:spPr>
            <a:xfrm>
              <a:off x="3740040" y="5105520"/>
              <a:ext cx="1511280" cy="67284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715200" y="5128920"/>
              <a:ext cx="152784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transi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notify flag 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8" name=""/>
          <p:cNvSpPr/>
          <p:nvPr/>
        </p:nvSpPr>
        <p:spPr>
          <a:xfrm>
            <a:off x="5257800" y="2432160"/>
            <a:ext cx="2057400" cy="2287440"/>
          </a:xfrm>
          <a:custGeom>
            <a:avLst/>
            <a:gdLst/>
            <a:ahLst/>
            <a:rect l="l" t="t" r="r" b="b"/>
            <a:pathLst>
              <a:path w="1633" h="1441">
                <a:moveTo>
                  <a:pt x="0" y="1440"/>
                </a:moveTo>
                <a:lnTo>
                  <a:pt x="1632" y="1440"/>
                </a:lnTo>
                <a:lnTo>
                  <a:pt x="1632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102360" y="1143000"/>
            <a:ext cx="2425680" cy="1282680"/>
          </a:xfrm>
          <a:prstGeom prst="rect">
            <a:avLst/>
          </a:prstGeom>
          <a:gradFill rotWithShape="0">
            <a:gsLst>
              <a:gs pos="0">
                <a:srgbClr val="7f8fad"/>
              </a:gs>
              <a:gs pos="50000">
                <a:srgbClr val="a2c2fe"/>
              </a:gs>
              <a:gs pos="100000">
                <a:srgbClr val="7f8fad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759360" y="1166760"/>
            <a:ext cx="11131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m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ent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460920" y="1854360"/>
            <a:ext cx="1708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llb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971800" y="2057400"/>
            <a:ext cx="3505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5939280" y="4876920"/>
            <a:ext cx="274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m_register_transition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740040" y="4343400"/>
            <a:ext cx="1511280" cy="673200"/>
          </a:xfrm>
          <a:prstGeom prst="rect">
            <a:avLst/>
          </a:prstGeom>
          <a:solidFill>
            <a:srgbClr val="8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715920" y="4367160"/>
            <a:ext cx="15123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ran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notify flag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249800" y="5738760"/>
            <a:ext cx="395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665160" y="1676520"/>
            <a:ext cx="176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lient-Client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115160" y="345744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324480" y="4191120"/>
            <a:ext cx="3812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209680" y="3581280"/>
            <a:ext cx="38124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343400" y="2209680"/>
            <a:ext cx="38088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E64C1-5AA0-4474-A7D5-FE2F73C9A5E5}" type="slidenum">
              <a:t>5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das Short Course - Real Time 2003 - Montreal - Part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ansition examp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952880" cy="4419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#include &lt;stdio.h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#include "midas.h"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NT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tr_start(INT run_number, char *error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printf("Start run %d\n", run_number)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return CM_SUCCESS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main(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nt status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cm_connect_experiment("", "", "Frontend", 0)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/* register to be notified on START transition *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cm_register_transition(TR_START, tr_start)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/* enter event loop *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while (cm_yield(1000) != RPC_SHUTDOWN)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cm_disconnect_experiment()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"/>
          <p:cNvSpPr/>
          <p:nvPr/>
        </p:nvSpPr>
        <p:spPr>
          <a:xfrm>
            <a:off x="5654160" y="1165320"/>
            <a:ext cx="2741040" cy="1371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NT cm_transition(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NT transitio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NT run_numb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char *perror, INT strsiz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NT async_flag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NT debug_flag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7010280" y="5867280"/>
            <a:ext cx="1752840" cy="609840"/>
          </a:xfrm>
          <a:prstGeom prst="irregularSeal1">
            <a:avLst/>
          </a:prstGeom>
          <a:gradFill rotWithShape="0">
            <a:gsLst>
              <a:gs pos="0">
                <a:srgbClr val="ff33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ran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6320" y="4038480"/>
            <a:ext cx="38088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858000" y="2666880"/>
            <a:ext cx="38088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76320" y="182880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756B5-0CA6-48B5-B66E-A2A01A21E443}" type="slidenum">
              <a:t>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das Short Course - Real Time 2003 - Montreal - Part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- Post- Transi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ertain order necessary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.g. first open logging file, then enable trigg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"/>
          <p:cNvSpPr/>
          <p:nvPr/>
        </p:nvSpPr>
        <p:spPr>
          <a:xfrm>
            <a:off x="1143000" y="3048120"/>
            <a:ext cx="1371600" cy="6094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opp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581280" y="3048120"/>
            <a:ext cx="1371600" cy="60948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e-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5105520" y="3048120"/>
            <a:ext cx="1371600" cy="609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629400" y="3048120"/>
            <a:ext cx="1371600" cy="60948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st-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2057400" y="2514600"/>
            <a:ext cx="1981080" cy="457200"/>
          </a:xfrm>
          <a:custGeom>
            <a:avLst/>
            <a:gdLst/>
            <a:ahLst/>
            <a:rect l="l" t="t" r="r" b="b"/>
            <a:pathLst>
              <a:path w="1248" h="288">
                <a:moveTo>
                  <a:pt x="0" y="288"/>
                </a:moveTo>
                <a:cubicBezTo>
                  <a:pt x="232" y="144"/>
                  <a:pt x="464" y="0"/>
                  <a:pt x="672" y="0"/>
                </a:cubicBezTo>
                <a:cubicBezTo>
                  <a:pt x="880" y="0"/>
                  <a:pt x="1064" y="144"/>
                  <a:pt x="1248" y="28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4572000" y="2514600"/>
            <a:ext cx="1219320" cy="457200"/>
          </a:xfrm>
          <a:custGeom>
            <a:avLst/>
            <a:gdLst/>
            <a:ahLst/>
            <a:rect l="l" t="t" r="r" b="b"/>
            <a:pathLst>
              <a:path w="1248" h="288">
                <a:moveTo>
                  <a:pt x="0" y="288"/>
                </a:moveTo>
                <a:cubicBezTo>
                  <a:pt x="232" y="144"/>
                  <a:pt x="464" y="0"/>
                  <a:pt x="672" y="0"/>
                </a:cubicBezTo>
                <a:cubicBezTo>
                  <a:pt x="880" y="0"/>
                  <a:pt x="1064" y="144"/>
                  <a:pt x="1248" y="28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5943600" y="2514600"/>
            <a:ext cx="1219320" cy="457200"/>
          </a:xfrm>
          <a:custGeom>
            <a:avLst/>
            <a:gdLst/>
            <a:ahLst/>
            <a:rect l="l" t="t" r="r" b="b"/>
            <a:pathLst>
              <a:path w="1248" h="288">
                <a:moveTo>
                  <a:pt x="0" y="288"/>
                </a:moveTo>
                <a:cubicBezTo>
                  <a:pt x="232" y="144"/>
                  <a:pt x="464" y="0"/>
                  <a:pt x="672" y="0"/>
                </a:cubicBezTo>
                <a:cubicBezTo>
                  <a:pt x="880" y="0"/>
                  <a:pt x="1064" y="144"/>
                  <a:pt x="1248" y="28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124080" y="26668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212560" y="4419720"/>
            <a:ext cx="1787040" cy="337320"/>
          </a:xfrm>
          <a:prstGeom prst="rect">
            <a:avLst/>
          </a:prstGeom>
          <a:solidFill>
            <a:srgbClr val="ffcc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pen logging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553080" y="26668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5788800" y="4419720"/>
            <a:ext cx="1535400" cy="337320"/>
          </a:xfrm>
          <a:prstGeom prst="rect">
            <a:avLst/>
          </a:prstGeom>
          <a:solidFill>
            <a:srgbClr val="ffcc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able tri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90560" y="5475240"/>
            <a:ext cx="7684920" cy="337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nly when all clients have successfully made one transition, continue with 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2E383-26FE-4C0F-92FC-F56D07AB9FDF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das Short Course - Real Time 2003 - Montreal - Part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"/>
          <p:cNvSpPr/>
          <p:nvPr/>
        </p:nvSpPr>
        <p:spPr>
          <a:xfrm>
            <a:off x="4838760" y="143208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DAS event loop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5" name=""/>
          <p:cNvSpPr/>
          <p:nvPr/>
        </p:nvSpPr>
        <p:spPr>
          <a:xfrm>
            <a:off x="3601440" y="1143000"/>
            <a:ext cx="274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m_yield(int timeout_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3924360" y="1660680"/>
            <a:ext cx="4356720" cy="533160"/>
            <a:chOff x="3924360" y="1660680"/>
            <a:chExt cx="4356720" cy="533160"/>
          </a:xfrm>
        </p:grpSpPr>
        <p:sp>
          <p:nvSpPr>
            <p:cNvPr id="987" name=""/>
            <p:cNvSpPr/>
            <p:nvPr/>
          </p:nvSpPr>
          <p:spPr>
            <a:xfrm>
              <a:off x="3924360" y="1660680"/>
              <a:ext cx="1828800" cy="53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check for ev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6689160" y="1812960"/>
              <a:ext cx="1591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bm_request_event(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H="1">
              <a:off x="5905080" y="196524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0" name=""/>
          <p:cNvGrpSpPr/>
          <p:nvPr/>
        </p:nvGrpSpPr>
        <p:grpSpPr>
          <a:xfrm>
            <a:off x="3924360" y="2422440"/>
            <a:ext cx="4259520" cy="533520"/>
            <a:chOff x="3924360" y="2422440"/>
            <a:chExt cx="4259520" cy="533520"/>
          </a:xfrm>
        </p:grpSpPr>
        <p:sp>
          <p:nvSpPr>
            <p:cNvPr id="991" name=""/>
            <p:cNvSpPr/>
            <p:nvPr/>
          </p:nvSpPr>
          <p:spPr>
            <a:xfrm flipH="1">
              <a:off x="5905080" y="272736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924360" y="2422440"/>
              <a:ext cx="182880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check for messag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692400" y="2575080"/>
              <a:ext cx="1491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cm_msg_register(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4" name=""/>
          <p:cNvGrpSpPr/>
          <p:nvPr/>
        </p:nvGrpSpPr>
        <p:grpSpPr>
          <a:xfrm>
            <a:off x="3908520" y="3962520"/>
            <a:ext cx="4658400" cy="533160"/>
            <a:chOff x="3908520" y="3962520"/>
            <a:chExt cx="4658400" cy="533160"/>
          </a:xfrm>
        </p:grpSpPr>
        <p:sp>
          <p:nvSpPr>
            <p:cNvPr id="995" name=""/>
            <p:cNvSpPr/>
            <p:nvPr/>
          </p:nvSpPr>
          <p:spPr>
            <a:xfrm>
              <a:off x="3908520" y="3962520"/>
              <a:ext cx="1828440" cy="53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check for transi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H="1">
              <a:off x="5889240" y="4267080"/>
              <a:ext cx="685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694560" y="4114440"/>
              <a:ext cx="187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cm_register_transition(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8" name=""/>
          <p:cNvGrpSpPr/>
          <p:nvPr/>
        </p:nvGrpSpPr>
        <p:grpSpPr>
          <a:xfrm>
            <a:off x="3908520" y="3200400"/>
            <a:ext cx="4192560" cy="533160"/>
            <a:chOff x="3908520" y="3200400"/>
            <a:chExt cx="4192560" cy="533160"/>
          </a:xfrm>
        </p:grpSpPr>
        <p:sp>
          <p:nvSpPr>
            <p:cNvPr id="999" name=""/>
            <p:cNvSpPr/>
            <p:nvPr/>
          </p:nvSpPr>
          <p:spPr>
            <a:xfrm>
              <a:off x="3908520" y="3200400"/>
              <a:ext cx="1828800" cy="53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check for key upd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H="1">
              <a:off x="5889240" y="350496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667560" y="3352680"/>
              <a:ext cx="143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db_open_record(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2" name=""/>
          <p:cNvGrpSpPr/>
          <p:nvPr/>
        </p:nvGrpSpPr>
        <p:grpSpPr>
          <a:xfrm>
            <a:off x="3908520" y="4724280"/>
            <a:ext cx="4557960" cy="533520"/>
            <a:chOff x="3908520" y="4724280"/>
            <a:chExt cx="4557960" cy="533520"/>
          </a:xfrm>
        </p:grpSpPr>
        <p:sp>
          <p:nvSpPr>
            <p:cNvPr id="1003" name=""/>
            <p:cNvSpPr/>
            <p:nvPr/>
          </p:nvSpPr>
          <p:spPr>
            <a:xfrm>
              <a:off x="3908520" y="4724280"/>
              <a:ext cx="182844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check for RPC reque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H="1">
              <a:off x="5889240" y="5029200"/>
              <a:ext cx="685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6690240" y="4876920"/>
              <a:ext cx="1776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cm_register_function(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6" name=""/>
          <p:cNvSpPr/>
          <p:nvPr/>
        </p:nvSpPr>
        <p:spPr>
          <a:xfrm>
            <a:off x="2384280" y="2438280"/>
            <a:ext cx="106704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erver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384280" y="4343400"/>
            <a:ext cx="106704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ent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H="1">
            <a:off x="3526920" y="1981080"/>
            <a:ext cx="3049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H="1">
            <a:off x="3526920" y="2743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flipH="1" flipV="1">
            <a:off x="3526920" y="30481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 flipH="1">
            <a:off x="3526920" y="41911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H="1" flipV="1">
            <a:off x="3526920" y="47239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2307600" y="3046320"/>
            <a:ext cx="120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elect(timeou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2307600" y="4952880"/>
            <a:ext cx="120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elect(timeou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H="1">
            <a:off x="1545840" y="2666880"/>
            <a:ext cx="685800" cy="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H="1">
            <a:off x="1545840" y="4648320"/>
            <a:ext cx="685800" cy="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rot="16200000">
            <a:off x="734400" y="3497400"/>
            <a:ext cx="1287000" cy="276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CP/IP 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6815160" y="1371600"/>
            <a:ext cx="13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gister with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C8AEF-4073-4D52-8AFD-6296A677CC6F}" type="slidenum">
              <a:t>5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das Short Course - Real Time 2003 - Montreal - Part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"/>
          <p:cNvSpPr/>
          <p:nvPr/>
        </p:nvSpPr>
        <p:spPr>
          <a:xfrm>
            <a:off x="685800" y="2416320"/>
            <a:ext cx="7772400" cy="1469880"/>
          </a:xfrm>
          <a:prstGeom prst="rect">
            <a:avLst/>
          </a:prstGeom>
          <a:solidFill>
            <a:srgbClr val="a2c2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low Control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E10B4-FA66-4191-BBCC-523D2BAF3F2D}" type="slidenum">
              <a:t>5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das Short Course - Real Time 2003 - Montreal - Part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low Contro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low Control”: Everything not related to event-based readou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igh volta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vironment (temperature, pressur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am line magnets/sli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as systems, 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ave all slow control data with event data on tap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ccess all slow control equipment in a standardized wa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very program should have access to slow control equipment (analyzer, tool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istory system (on-line display, date-to-date query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B12AC-9C31-4E90-9F03-1F3CC4AE4D2D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das Short Course - Real Time 2003 - Montreal - Part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low Control through OD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3" name=""/>
          <p:cNvSpPr/>
          <p:nvPr/>
        </p:nvSpPr>
        <p:spPr>
          <a:xfrm>
            <a:off x="2971800" y="1600200"/>
            <a:ext cx="2133720" cy="4267080"/>
          </a:xfrm>
          <a:prstGeom prst="rect">
            <a:avLst/>
          </a:prstGeom>
          <a:gradFill rotWithShape="0">
            <a:gsLst>
              <a:gs pos="0">
                <a:srgbClr val="00cccc"/>
              </a:gs>
              <a:gs pos="100000">
                <a:srgbClr val="008d8d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671280" y="1096920"/>
            <a:ext cx="735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D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3124080" y="1752480"/>
            <a:ext cx="1828800" cy="451080"/>
          </a:xfrm>
          <a:prstGeom prst="rect">
            <a:avLst/>
          </a:prstGeom>
          <a:gradFill rotWithShape="0">
            <a:gsLst>
              <a:gs pos="0">
                <a:srgbClr val="cc66ff"/>
              </a:gs>
              <a:gs pos="100000">
                <a:srgbClr val="8d46b1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HV dem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>
            <a:hlinkClick r:id="rId1"/>
          </p:cNvPr>
          <p:cNvSpPr/>
          <p:nvPr/>
        </p:nvSpPr>
        <p:spPr>
          <a:xfrm>
            <a:off x="838080" y="1378080"/>
            <a:ext cx="1447920" cy="1746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948240" y="1401840"/>
            <a:ext cx="1306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V Edi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990720" y="2590920"/>
            <a:ext cx="1143000" cy="380880"/>
          </a:xfrm>
          <a:prstGeom prst="rect">
            <a:avLst/>
          </a:prstGeom>
          <a:solidFill>
            <a:srgbClr val="00cc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100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990720" y="1905120"/>
            <a:ext cx="831600" cy="374400"/>
          </a:xfrm>
          <a:prstGeom prst="rect">
            <a:avLst/>
          </a:prstGeom>
          <a:solidFill>
            <a:srgbClr val="00cc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1974960" y="1822320"/>
            <a:ext cx="215640" cy="292320"/>
          </a:xfrm>
          <a:prstGeom prst="upArrow">
            <a:avLst>
              <a:gd name="adj1" fmla="val 50000"/>
              <a:gd name="adj2" fmla="val 67773"/>
            </a:avLst>
          </a:prstGeom>
          <a:solidFill>
            <a:srgbClr val="8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1974960" y="2203560"/>
            <a:ext cx="215640" cy="21564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8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H="1">
            <a:off x="2133360" y="2514600"/>
            <a:ext cx="990360" cy="30492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 flipV="1">
            <a:off x="2209680" y="1981080"/>
            <a:ext cx="914400" cy="152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5486400" y="1600200"/>
            <a:ext cx="1593720" cy="60336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V Fron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620120" y="1447920"/>
            <a:ext cx="990360" cy="9842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V pow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sup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3124080" y="2286000"/>
            <a:ext cx="1828800" cy="450720"/>
          </a:xfrm>
          <a:prstGeom prst="rect">
            <a:avLst/>
          </a:prstGeom>
          <a:gradFill rotWithShape="0">
            <a:gsLst>
              <a:gs pos="0">
                <a:srgbClr val="cc66ff"/>
              </a:gs>
              <a:gs pos="100000">
                <a:srgbClr val="8d46b1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HV measu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4952880" y="1904760"/>
            <a:ext cx="533520" cy="759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7086600" y="1905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486400" y="3048120"/>
            <a:ext cx="1593720" cy="60300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ron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7620120" y="2514600"/>
            <a:ext cx="990360" cy="6094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7620120" y="3352680"/>
            <a:ext cx="990360" cy="60984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flipH="1">
            <a:off x="7086600" y="28195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 flipH="1" flipV="1">
            <a:off x="7086600" y="342864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124080" y="3124080"/>
            <a:ext cx="1828800" cy="685800"/>
          </a:xfrm>
          <a:prstGeom prst="rect">
            <a:avLst/>
          </a:prstGeom>
          <a:gradFill rotWithShape="0">
            <a:gsLst>
              <a:gs pos="0">
                <a:srgbClr val="cc66ff"/>
              </a:gs>
              <a:gs pos="100000">
                <a:srgbClr val="8d46b1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4952880" y="2057400"/>
            <a:ext cx="457200" cy="45720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H="1">
            <a:off x="4952880" y="3352680"/>
            <a:ext cx="533520" cy="152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7620120" y="6019920"/>
            <a:ext cx="53316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7463880" y="6095880"/>
            <a:ext cx="9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Hot-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9" name=""/>
          <p:cNvGrpSpPr/>
          <p:nvPr/>
        </p:nvGrpSpPr>
        <p:grpSpPr>
          <a:xfrm>
            <a:off x="838080" y="3429000"/>
            <a:ext cx="1447560" cy="1746360"/>
            <a:chOff x="838080" y="3429000"/>
            <a:chExt cx="1447560" cy="1746360"/>
          </a:xfrm>
        </p:grpSpPr>
        <p:sp>
          <p:nvSpPr>
            <p:cNvPr id="1050" name="">
              <a:hlinkClick r:id="rId2"/>
            </p:cNvPr>
            <p:cNvSpPr/>
            <p:nvPr/>
          </p:nvSpPr>
          <p:spPr>
            <a:xfrm>
              <a:off x="838080" y="3429000"/>
              <a:ext cx="1447560" cy="174636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Temperatu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Displ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914040" y="4038480"/>
              <a:ext cx="1295640" cy="9907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990360" y="4241880"/>
              <a:ext cx="1157400" cy="406440"/>
            </a:xfrm>
            <a:custGeom>
              <a:avLst/>
              <a:gdLst/>
              <a:ahLst/>
              <a:rect l="l" t="t" r="r" b="b"/>
              <a:pathLst>
                <a:path w="729" h="256">
                  <a:moveTo>
                    <a:pt x="0" y="256"/>
                  </a:moveTo>
                  <a:lnTo>
                    <a:pt x="48" y="208"/>
                  </a:lnTo>
                  <a:lnTo>
                    <a:pt x="97" y="187"/>
                  </a:lnTo>
                  <a:lnTo>
                    <a:pt x="146" y="104"/>
                  </a:lnTo>
                  <a:lnTo>
                    <a:pt x="187" y="125"/>
                  </a:lnTo>
                  <a:lnTo>
                    <a:pt x="229" y="166"/>
                  </a:lnTo>
                  <a:lnTo>
                    <a:pt x="250" y="243"/>
                  </a:lnTo>
                  <a:lnTo>
                    <a:pt x="298" y="201"/>
                  </a:lnTo>
                  <a:lnTo>
                    <a:pt x="326" y="146"/>
                  </a:lnTo>
                  <a:lnTo>
                    <a:pt x="382" y="180"/>
                  </a:lnTo>
                  <a:lnTo>
                    <a:pt x="430" y="229"/>
                  </a:lnTo>
                  <a:lnTo>
                    <a:pt x="465" y="173"/>
                  </a:lnTo>
                  <a:lnTo>
                    <a:pt x="514" y="104"/>
                  </a:lnTo>
                  <a:lnTo>
                    <a:pt x="548" y="62"/>
                  </a:lnTo>
                  <a:lnTo>
                    <a:pt x="611" y="90"/>
                  </a:lnTo>
                  <a:lnTo>
                    <a:pt x="632" y="48"/>
                  </a:lnTo>
                  <a:lnTo>
                    <a:pt x="687" y="35"/>
                  </a:lnTo>
                  <a:lnTo>
                    <a:pt x="729" y="0"/>
                  </a:lnTo>
                </a:path>
              </a:pathLst>
            </a:custGeom>
            <a:noFill/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990360" y="49528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V="1">
              <a:off x="990360" y="41148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5" name=""/>
          <p:cNvSpPr/>
          <p:nvPr/>
        </p:nvSpPr>
        <p:spPr>
          <a:xfrm>
            <a:off x="3124080" y="4648320"/>
            <a:ext cx="1828800" cy="457200"/>
          </a:xfrm>
          <a:prstGeom prst="rect">
            <a:avLst/>
          </a:prstGeom>
          <a:gradFill rotWithShape="0">
            <a:gsLst>
              <a:gs pos="0">
                <a:srgbClr val="cc66ff"/>
              </a:gs>
              <a:gs pos="100000">
                <a:srgbClr val="8d46b1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Beamline de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3124080" y="5181480"/>
            <a:ext cx="1828800" cy="457200"/>
          </a:xfrm>
          <a:prstGeom prst="rect">
            <a:avLst/>
          </a:prstGeom>
          <a:gradFill rotWithShape="0">
            <a:gsLst>
              <a:gs pos="0">
                <a:srgbClr val="cc66ff"/>
              </a:gs>
              <a:gs pos="100000">
                <a:srgbClr val="8d46b1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Beamline measu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486400" y="4724280"/>
            <a:ext cx="1593720" cy="60336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PICS Fron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4952880" y="4876920"/>
            <a:ext cx="533520" cy="759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H="1">
            <a:off x="4952880" y="5105520"/>
            <a:ext cx="533520" cy="30456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7086600" y="5029200"/>
            <a:ext cx="6858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7864920" y="486576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H="1">
            <a:off x="2209680" y="3505320"/>
            <a:ext cx="914400" cy="76176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>
            <a:hlinkClick r:id="rId3"/>
          </p:cNvPr>
          <p:cNvSpPr/>
          <p:nvPr/>
        </p:nvSpPr>
        <p:spPr>
          <a:xfrm>
            <a:off x="838080" y="5867280"/>
            <a:ext cx="1447920" cy="38124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z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V="1">
            <a:off x="2286000" y="4876560"/>
            <a:ext cx="838080" cy="1143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962520" y="5943600"/>
            <a:ext cx="0" cy="45720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002480" y="6019920"/>
            <a:ext cx="239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py image to datastre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9EEE0-6FA1-4773-A948-11BA531EE908}" type="slidenum">
              <a:t>5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das Short Course - Real Time 2003 - Montreal - Part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ree-layer driver concep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8" name=""/>
          <p:cNvSpPr/>
          <p:nvPr/>
        </p:nvSpPr>
        <p:spPr>
          <a:xfrm>
            <a:off x="380880" y="2209680"/>
            <a:ext cx="1828800" cy="91440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755e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ass Dr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1295280" y="18288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685800" y="990720"/>
            <a:ext cx="1219320" cy="8380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O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80880" y="3733920"/>
            <a:ext cx="1828800" cy="9144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vice Dr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380880" y="5257800"/>
            <a:ext cx="1828800" cy="914400"/>
          </a:xfrm>
          <a:prstGeom prst="rect">
            <a:avLst/>
          </a:prstGeom>
          <a:gradFill rotWithShape="0">
            <a:gsLst>
              <a:gs pos="0">
                <a:srgbClr val="66ff99"/>
              </a:gs>
              <a:gs pos="100000">
                <a:srgbClr val="2f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us Dr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1295280" y="4648320"/>
            <a:ext cx="0" cy="6094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362320" y="2222640"/>
            <a:ext cx="2743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nnects to O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level functionality (ramping, limits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676520" y="31528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t chan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et chan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362320" y="376236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enerate commands for specific de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1676520" y="467676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r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2362320" y="525780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 command to de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1295280" y="31240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4426920" y="1447920"/>
            <a:ext cx="456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db_set_value(“/HV/Demand[5]”, 100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5959080" y="2438280"/>
            <a:ext cx="21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t_channel(5, 100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6375240" y="3854520"/>
            <a:ext cx="139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R5 V1000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585480" y="5257800"/>
            <a:ext cx="808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S2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P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9343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6934320" y="3048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693432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0EFD1-A900-4A20-8D94-D564449033C6}" type="slidenum">
              <a:t>5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das Short Course - Real Time 2003 - Montreal - Part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641840" y="1371600"/>
            <a:ext cx="4010040" cy="4876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92120" y="1371600"/>
            <a:ext cx="3868920" cy="487692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45680"/>
            <a:ext cx="7772400" cy="544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2054160"/>
            <a:ext cx="381636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nal structu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mote Procedure Call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uffer Manag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nline Databas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low Control Syste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istory Syste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arm Syste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ramework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ronten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alyz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53160" y="2057400"/>
            <a:ext cx="36813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line dem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stall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figur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unning a small experime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tilities and usa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nown deploy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vanced featur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ustomization of run control and monitor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pecial front-end featur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vanced online dem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1866960" y="16002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art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132960" y="160020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art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7B4E1-39AF-40CF-94BB-90537FA6240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das Short Course - Real Time 2003 - Montreal - Part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10552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s driver does not have to know anything about specific dev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vice driver does not have to know how to physically connect to dev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s driver does not have to know anything about dev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yers can be exchanged easi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vice driver very si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w features in class driver are inherited by all devices automatical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s driver can encapsulate slow control data in events for tap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3B38C-A247-4A4B-A42C-8DE795B69F39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das Short Course - Real Time 2003 - Montreal - Part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low Control Driv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0" name=""/>
          <p:cNvSpPr/>
          <p:nvPr/>
        </p:nvSpPr>
        <p:spPr>
          <a:xfrm>
            <a:off x="533520" y="1447920"/>
            <a:ext cx="2438280" cy="1479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Available devic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eCroy H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Keithley DAS c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pics Channel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513360" y="3733920"/>
            <a:ext cx="2625120" cy="231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blem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vices are read 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quentially, slow de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y block oth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&gt; “slowdev” class dri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&gt; separate front-e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&gt; faster de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577040" y="1600200"/>
            <a:ext cx="2741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midas/drivers/class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midas/drivers/device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midas/drivers/bus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495680" y="4057560"/>
            <a:ext cx="83844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ront-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5562720" y="5353200"/>
            <a:ext cx="1218960" cy="6094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Back-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715000" y="4057560"/>
            <a:ext cx="8380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ront-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934320" y="4057560"/>
            <a:ext cx="8380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ront-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5029200" y="5124600"/>
            <a:ext cx="2286000" cy="10666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4343400" y="3828960"/>
            <a:ext cx="1143000" cy="990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562720" y="3828960"/>
            <a:ext cx="2361960" cy="990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876920" y="4591080"/>
            <a:ext cx="838080" cy="8380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6095880" y="459108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H="1">
            <a:off x="6552720" y="4591080"/>
            <a:ext cx="762120" cy="8380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V="1">
            <a:off x="4876920" y="3371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4875120" y="3533760"/>
            <a:ext cx="474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RS23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flipV="1">
            <a:off x="6111720" y="33620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6109920" y="3524400"/>
            <a:ext cx="474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RS23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flipV="1">
            <a:off x="7346880" y="3352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7333560" y="3514680"/>
            <a:ext cx="42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GPI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5006520" y="5924520"/>
            <a:ext cx="36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4336560" y="4591080"/>
            <a:ext cx="36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555520" y="4591080"/>
            <a:ext cx="36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95837-9035-486B-9FE5-B91823034BC0}" type="slidenum">
              <a:t>6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das Short Course - Real Time 2003 - Montreal - Part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riting your own device driv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3" name=""/>
          <p:cNvSpPr/>
          <p:nvPr/>
        </p:nvSpPr>
        <p:spPr>
          <a:xfrm>
            <a:off x="559800" y="1187280"/>
            <a:ext cx="5941440" cy="5204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NT lrs1440_set(LRS1440_INFO *info, INT channel, float val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char  str[80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sprintf(str, "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W%04.0f C%02d\r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", value, channel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BD_PUTS(str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BD_GETS(str, sizeof(str), "\r\n\r\n", 100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return FE_SUCCES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NT lrs1440_get(LRS1440_INFO *info, INT channel, float *pval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nt   valu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char  str[256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sprintf(str, "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R V C%02d\r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", channel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BD_PUTS(str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BD_GETS(str, sizeof(str), "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Act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", 100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BD_GETS(str, sizeof(str), "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\r\n\r\n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", 100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sscanf(str+1, "%d", &amp;valu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*pvalue = (float) valu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return FE_SUCCES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6705720" y="1201680"/>
            <a:ext cx="2133360" cy="3152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se existing driver as temp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mplement device specific comma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ut device specific settings in C 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se BD_XXX routines for commun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7B689-1A0B-42FC-B825-DE3F382928DB}" type="slidenum">
              <a:t>6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das Short Course - Real Time 2003 - Montreal - Part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114440" y="1752480"/>
            <a:ext cx="1600200" cy="6098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VEdi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16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3652920" cy="3672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17" name="" descr=""/>
          <p:cNvPicPr/>
          <p:nvPr/>
        </p:nvPicPr>
        <p:blipFill>
          <a:blip r:embed="rId2"/>
          <a:stretch/>
        </p:blipFill>
        <p:spPr>
          <a:xfrm>
            <a:off x="6095880" y="685800"/>
            <a:ext cx="2867040" cy="4648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18" name=""/>
          <p:cNvSpPr/>
          <p:nvPr/>
        </p:nvSpPr>
        <p:spPr>
          <a:xfrm>
            <a:off x="3895560" y="609480"/>
            <a:ext cx="1543320" cy="3373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indows/MF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1084320" y="5334120"/>
            <a:ext cx="412200" cy="3373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Q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7367400" y="5410080"/>
            <a:ext cx="1506600" cy="3373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eb 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1" name="" descr=""/>
          <p:cNvPicPr/>
          <p:nvPr/>
        </p:nvPicPr>
        <p:blipFill>
          <a:blip r:embed="rId3"/>
          <a:stretch/>
        </p:blipFill>
        <p:spPr>
          <a:xfrm>
            <a:off x="1600200" y="2635200"/>
            <a:ext cx="5410080" cy="38228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22" name=""/>
          <p:cNvSpPr/>
          <p:nvPr/>
        </p:nvSpPr>
        <p:spPr>
          <a:xfrm>
            <a:off x="275760" y="5791320"/>
            <a:ext cx="1297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ndreas S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P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C++ class libr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B6F36-EFB4-4EC1-BAF8-B541427ECA04}" type="slidenum">
              <a:t>6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das Short Course - Real Time 2003 - Montreal - Part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SCB syst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24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610480" cy="4959360"/>
          </a:xfrm>
          <a:prstGeom prst="rect">
            <a:avLst/>
          </a:prstGeom>
          <a:ln w="0">
            <a:noFill/>
          </a:ln>
        </p:spPr>
      </p:pic>
      <p:sp>
        <p:nvSpPr>
          <p:cNvPr id="1125" name=""/>
          <p:cNvSpPr/>
          <p:nvPr/>
        </p:nvSpPr>
        <p:spPr>
          <a:xfrm flipH="1">
            <a:off x="304920" y="1295280"/>
            <a:ext cx="91440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16360" y="685800"/>
            <a:ext cx="1191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PC parall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flipH="1">
            <a:off x="6553080" y="1295280"/>
            <a:ext cx="53352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6827760" y="990720"/>
            <a:ext cx="143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us powe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304920" y="2438280"/>
            <a:ext cx="3581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8-bit Microcontroller (Cygnal/Analog Devic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x12-bit DAC, 8x12-bit AD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 programmable, Flash EEP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S-485 @ 115kBau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p to 65536 nodes on 500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ode cost: ~50 CN$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SI designed cards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2224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nalog in 0-10V, 4-20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2224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igital in/out (24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2224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20V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2224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rmocou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2224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T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2224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V regulator(2400V/1m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flipH="1" flipV="1">
            <a:off x="6477120" y="4266720"/>
            <a:ext cx="457200" cy="3049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636960" y="4495680"/>
            <a:ext cx="214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output indicator 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5780160" y="4876920"/>
            <a:ext cx="218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emperature sen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 flipH="1" flipV="1">
            <a:off x="6400440" y="4419360"/>
            <a:ext cx="1522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 flipH="1" flipV="1">
            <a:off x="4571640" y="4952880"/>
            <a:ext cx="11430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5410080" y="2774880"/>
            <a:ext cx="60984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6019920" y="2774880"/>
            <a:ext cx="121896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DR 16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 rot="16200000">
            <a:off x="5676840" y="240012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5320800" y="2330280"/>
            <a:ext cx="7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 By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6095880" y="3200400"/>
            <a:ext cx="60984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CK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6705720" y="3200400"/>
            <a:ext cx="60948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7315200" y="3200400"/>
            <a:ext cx="6094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C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5638680" y="33526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7238880" y="2774880"/>
            <a:ext cx="60984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CH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7848720" y="2774880"/>
            <a:ext cx="6094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C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6158160" y="2198520"/>
            <a:ext cx="1029600" cy="33732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tocol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6049440" y="3657600"/>
            <a:ext cx="189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~1000 reads / se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7620120" y="5867280"/>
            <a:ext cx="1143000" cy="609840"/>
          </a:xfrm>
          <a:prstGeom prst="irregularSeal1">
            <a:avLst/>
          </a:prstGeom>
          <a:gradFill rotWithShape="0">
            <a:gsLst>
              <a:gs pos="0">
                <a:srgbClr val="ff33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E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92129-F74C-4563-AA62-63AFED671239}" type="slidenum">
              <a:t>6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das Short Course - Real Time 2003 - Montreal - Part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"/>
          <p:cNvSpPr/>
          <p:nvPr/>
        </p:nvSpPr>
        <p:spPr>
          <a:xfrm>
            <a:off x="685800" y="2416320"/>
            <a:ext cx="7772400" cy="1469880"/>
          </a:xfrm>
          <a:prstGeom prst="rect">
            <a:avLst/>
          </a:prstGeom>
          <a:solidFill>
            <a:srgbClr val="a2c2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istory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FE7E0-DBE7-494E-B4AC-876DF1FB2617}" type="slidenum">
              <a:t>6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das Short Course - Real Time 2003 - Montreal - Part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istory syst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quirem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ant to store slow control data in database over yea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nline display of trend lin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base queries: “Show temperature last May”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ast write/searc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ndard databases like MySQL are “overkill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 need for record locking, delete records, edit record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PU overhea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IDAS history syst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mall set of C functi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vents are linearly written to files, one file per da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les contain event defini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ple query fun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 gets only written when changing (hot-link) and when event is written to data strea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94A1B-AB3E-400F-890F-FCF7F45ADC94}" type="slidenum">
              <a:t>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das Short Course - Real Time 2003 - Montreal - Part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istory File Structu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2" name=""/>
          <p:cNvSpPr/>
          <p:nvPr/>
        </p:nvSpPr>
        <p:spPr>
          <a:xfrm>
            <a:off x="914400" y="1600200"/>
            <a:ext cx="18288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event 1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914400" y="1905120"/>
            <a:ext cx="1828800" cy="304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v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914400" y="2209680"/>
            <a:ext cx="18288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v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914400" y="2514600"/>
            <a:ext cx="18288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v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914400" y="2819520"/>
            <a:ext cx="1828800" cy="3045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event 2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914400" y="3124080"/>
            <a:ext cx="1828800" cy="3049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v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914400" y="3429000"/>
            <a:ext cx="18288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v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914400" y="3733920"/>
            <a:ext cx="1828800" cy="3045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v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914400" y="4038480"/>
            <a:ext cx="1828800" cy="3049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v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914400" y="4343400"/>
            <a:ext cx="18288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v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914400" y="4648320"/>
            <a:ext cx="1828800" cy="3045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v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914400" y="4952880"/>
            <a:ext cx="1828800" cy="3049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event 2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914400" y="5257800"/>
            <a:ext cx="1828800" cy="3049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v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914400" y="5562720"/>
            <a:ext cx="1828800" cy="304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v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657600" y="1600200"/>
            <a:ext cx="18288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event 1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3657600" y="2209680"/>
            <a:ext cx="18288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v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3657600" y="2819520"/>
            <a:ext cx="1828800" cy="304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v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3657600" y="1905120"/>
            <a:ext cx="1828800" cy="3045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event 2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3657600" y="3124080"/>
            <a:ext cx="1828800" cy="3049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v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657600" y="3429000"/>
            <a:ext cx="18288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v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3657600" y="3733920"/>
            <a:ext cx="1828800" cy="3045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v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3657600" y="4038480"/>
            <a:ext cx="1828800" cy="3049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v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657600" y="4343400"/>
            <a:ext cx="18288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v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3657600" y="4648320"/>
            <a:ext cx="1828800" cy="3045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v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3657600" y="5257800"/>
            <a:ext cx="1828800" cy="3049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v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3657600" y="5562720"/>
            <a:ext cx="1828800" cy="304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v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3657600" y="2514600"/>
            <a:ext cx="1828800" cy="3049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v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3657600" y="4952880"/>
            <a:ext cx="18288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v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6400800" y="1600200"/>
            <a:ext cx="18288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event 1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6400800" y="2209680"/>
            <a:ext cx="18288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v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400800" y="2819520"/>
            <a:ext cx="1828800" cy="304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v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6400800" y="1905120"/>
            <a:ext cx="1828800" cy="3045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event 2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6400800" y="3124080"/>
            <a:ext cx="1828800" cy="3049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v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6400800" y="3429000"/>
            <a:ext cx="18288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v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6400800" y="3733920"/>
            <a:ext cx="1828800" cy="3045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v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6400800" y="4038480"/>
            <a:ext cx="1828800" cy="3049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v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6400800" y="4343400"/>
            <a:ext cx="18288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v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6400800" y="4648320"/>
            <a:ext cx="1828800" cy="3045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v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6400800" y="5257800"/>
            <a:ext cx="1828800" cy="3049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v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6400800" y="5562720"/>
            <a:ext cx="1828800" cy="304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v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6400800" y="2514600"/>
            <a:ext cx="1828800" cy="3049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v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6400800" y="4952880"/>
            <a:ext cx="18288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v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1111320" y="11872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030516.h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3889440" y="12193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030517.h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6667560" y="125100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030518.h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036800" y="6084720"/>
            <a:ext cx="567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vent definition can change during lifetime of experi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 flipH="1" flipV="1">
            <a:off x="2819520" y="5181120"/>
            <a:ext cx="3808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BBB61-710E-40FD-94C0-E547D1B0FC81}" type="slidenum">
              <a:t>6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das Short Course - Real Time 2003 - Montreal - Part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istory Usa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1676160" y="1142640"/>
            <a:ext cx="5715000" cy="152388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istory written by mlogg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lag in front-end / slow control front-en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nk in OD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splay settings (panels) in OD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1" name=""/>
          <p:cNvSpPr/>
          <p:nvPr/>
        </p:nvSpPr>
        <p:spPr>
          <a:xfrm>
            <a:off x="1400400" y="2935440"/>
            <a:ext cx="6101640" cy="3397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Key name                        Type    #Val  Size  Last Opn Mode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---------------------------------------------------------------------------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History                         DI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Links                       DI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0" lang="en-US" sz="700" spc="-1" strike="noStrike">
                <a:solidFill>
                  <a:srgbClr val="ff0000"/>
                </a:solidFill>
                <a:latin typeface="Lucida Console"/>
              </a:rPr>
              <a:t>System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                DI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0" lang="en-US" sz="700" spc="-1" strike="noStrike">
                <a:solidFill>
                  <a:srgbClr val="ff0000"/>
                </a:solidFill>
                <a:latin typeface="Lucida Console"/>
              </a:rPr>
              <a:t>Trigger per sec.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  LINK    1     46    1h   0   RWD  /Equipment/Trigger/Statistics/Events per sec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0" lang="en-US" sz="700" spc="-1" strike="noStrike">
                <a:solidFill>
                  <a:srgbClr val="ff0000"/>
                </a:solidFill>
                <a:latin typeface="Lucida Console"/>
              </a:rPr>
              <a:t>Trigger kBytes per s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LINK    1     46    1h   0   RWD  /Equipment/Trigger/Statistics/kBytes per sec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Display                     DI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0" lang="en-US" sz="700" spc="-1" strike="noStrike">
                <a:solidFill>
                  <a:srgbClr val="3333cc"/>
                </a:solidFill>
                <a:latin typeface="Lucida Console"/>
              </a:rPr>
              <a:t>Trigger rate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          DI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Variables           STRING  2     64    1h   0   RW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                                      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[0]             </a:t>
            </a:r>
            <a:r>
              <a:rPr b="0" lang="en-US" sz="700" spc="-1" strike="noStrike">
                <a:solidFill>
                  <a:srgbClr val="3333cc"/>
                </a:solidFill>
                <a:latin typeface="Lucida Console"/>
              </a:rPr>
              <a:t>System:Trigger per sec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                                      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[1]             </a:t>
            </a:r>
            <a:r>
              <a:rPr b="0" lang="en-US" sz="700" spc="-1" strike="noStrike">
                <a:solidFill>
                  <a:srgbClr val="3333cc"/>
                </a:solidFill>
                <a:latin typeface="Lucida Console"/>
              </a:rPr>
              <a:t>System:Trigger kB per sec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Time Scale          STRING  1     32    1h   0   RWD  1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Factor              FLOAT   2     4     1h   0   RW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                                      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[0]             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                                      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[1]             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Offset              FLOAT   2     4     1h   0   RW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                                      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[0]             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                                      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[1]             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Timescale           STRING  1     32    1h   0   RWD  1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Zero ylow           BOOL    1     4     1h   0   RWD  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Show run markers    BOOL    1     4     1h   0   RWD  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Buttons             STRING  7     32    1h   0   RW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                                      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[0]             10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                                      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[1]             1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                                      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[2]             3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                                      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[3]             12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                                      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[4]             24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                                      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[5]             3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                                      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[6]             7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Log axis            BOOL    1     4     1h   0   RWD  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990720" y="2057400"/>
            <a:ext cx="1066680" cy="1571760"/>
          </a:xfrm>
          <a:custGeom>
            <a:avLst/>
            <a:gdLst/>
            <a:ahLst/>
            <a:rect l="l" t="t" r="r" b="b"/>
            <a:pathLst>
              <a:path w="672" h="960">
                <a:moveTo>
                  <a:pt x="432" y="0"/>
                </a:moveTo>
                <a:lnTo>
                  <a:pt x="0" y="0"/>
                </a:lnTo>
                <a:lnTo>
                  <a:pt x="0" y="960"/>
                </a:lnTo>
                <a:lnTo>
                  <a:pt x="672" y="960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943600" y="3809880"/>
            <a:ext cx="228600" cy="2438640"/>
          </a:xfrm>
          <a:custGeom>
            <a:avLst/>
            <a:gdLst>
              <a:gd name="textAreaLeft" fmla="*/ 0 w 228600"/>
              <a:gd name="textAreaRight" fmla="*/ 82440 w 22860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6019920" y="2438280"/>
            <a:ext cx="1981080" cy="2590920"/>
          </a:xfrm>
          <a:custGeom>
            <a:avLst/>
            <a:gdLst/>
            <a:ahLst/>
            <a:rect l="l" t="t" r="r" b="b"/>
            <a:pathLst>
              <a:path w="1248" h="1680">
                <a:moveTo>
                  <a:pt x="0" y="0"/>
                </a:moveTo>
                <a:lnTo>
                  <a:pt x="1248" y="0"/>
                </a:lnTo>
                <a:lnTo>
                  <a:pt x="1248" y="1680"/>
                </a:lnTo>
                <a:lnTo>
                  <a:pt x="240" y="16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C08EB-D708-4D41-94E5-73F5B5759E79}" type="slidenum">
              <a:t>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das Short Course - Real Time 2003 - Montreal - Part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play configur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06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3605400" cy="3716280"/>
          </a:xfrm>
          <a:prstGeom prst="rect">
            <a:avLst/>
          </a:prstGeom>
          <a:ln w="0">
            <a:noFill/>
          </a:ln>
        </p:spPr>
      </p:pic>
      <p:pic>
        <p:nvPicPr>
          <p:cNvPr id="1207" name="" descr=""/>
          <p:cNvPicPr/>
          <p:nvPr/>
        </p:nvPicPr>
        <p:blipFill>
          <a:blip r:embed="rId2"/>
          <a:stretch/>
        </p:blipFill>
        <p:spPr>
          <a:xfrm>
            <a:off x="4343400" y="2438280"/>
            <a:ext cx="4495680" cy="3702240"/>
          </a:xfrm>
          <a:prstGeom prst="rect">
            <a:avLst/>
          </a:prstGeom>
          <a:ln w="0">
            <a:noFill/>
          </a:ln>
        </p:spPr>
      </p:pic>
      <p:sp>
        <p:nvSpPr>
          <p:cNvPr id="1208" name=""/>
          <p:cNvSpPr/>
          <p:nvPr/>
        </p:nvSpPr>
        <p:spPr>
          <a:xfrm>
            <a:off x="4096080" y="1284120"/>
            <a:ext cx="2577960" cy="337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eb based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2410200" y="5638680"/>
            <a:ext cx="1793160" cy="337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sulting 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7620120" y="5867280"/>
            <a:ext cx="1143000" cy="609840"/>
          </a:xfrm>
          <a:prstGeom prst="irregularSeal1">
            <a:avLst/>
          </a:prstGeom>
          <a:gradFill rotWithShape="0">
            <a:gsLst>
              <a:gs pos="0">
                <a:srgbClr val="ff33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E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203CD-5D86-402A-B415-70C32E658870}" type="slidenum">
              <a:t>6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das Short Course - Real Time 2003 - Montreal - Part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y MIDAS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2584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ulfill needs of certain experiments (~thousand channels, ~MB data rat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orporated slow control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grated data analysis (histogramming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perating system independ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rdware independ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ick install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exible, useful for other experi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sy application programm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ee (GPL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F5D68-94BB-42AE-B5F5-FBFC40A9DFB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das Short Course - Real Time 2003 - Montreal - Part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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emperature Displa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12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5943600" cy="4819680"/>
          </a:xfrm>
          <a:prstGeom prst="rect">
            <a:avLst/>
          </a:prstGeom>
          <a:ln w="0">
            <a:noFill/>
          </a:ln>
        </p:spPr>
      </p:pic>
      <p:sp>
        <p:nvSpPr>
          <p:cNvPr id="1213" name=""/>
          <p:cNvSpPr/>
          <p:nvPr/>
        </p:nvSpPr>
        <p:spPr>
          <a:xfrm>
            <a:off x="6324480" y="1219320"/>
            <a:ext cx="2621160" cy="2770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isplay through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mhttp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if images generated dynamically in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mchart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utility for strip-chart 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Query with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mh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rite spee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000 events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Query over one month in ~10s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ABFB1-79CF-424E-A474-93E4FE455220}" type="slidenum">
              <a:t>7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das Short Course - Real Time 2003 - Montreal - Part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"/>
          <p:cNvSpPr/>
          <p:nvPr/>
        </p:nvSpPr>
        <p:spPr>
          <a:xfrm>
            <a:off x="685800" y="2416320"/>
            <a:ext cx="7772400" cy="1469880"/>
          </a:xfrm>
          <a:prstGeom prst="rect">
            <a:avLst/>
          </a:prstGeom>
          <a:solidFill>
            <a:srgbClr val="a2c2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larm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7E7BF-8E40-415D-9AE2-F0ED168B35C3}" type="slidenum">
              <a:t>7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das Short Course - Real Time 2003 - Montreal - Part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DAS Alarm Syst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arms are an important issue in experi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arm System incorporated in MIDAS librar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&gt; every client does alarm chec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 types of alar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DB value &lt;, &gt;, =, !=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gram stopp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iodic alarm (-&gt; shift checks, change L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nal alarms: Triggered by user code al_trigger_alarm(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arm triggers alarm “class” (Warning, Alarm, …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rite system message (-&gt; speaker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rite elog messa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op ru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ecute command (-&gt; pager, SM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A3501-5F8D-404F-9FCF-93FF5EC805FA}" type="slidenum">
              <a:t>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das Short Course - Real Time 2003 - Montreal - Part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arm exampl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18" name="" descr=""/>
          <p:cNvPicPr/>
          <p:nvPr/>
        </p:nvPicPr>
        <p:blipFill>
          <a:blip r:embed="rId1"/>
          <a:stretch/>
        </p:blipFill>
        <p:spPr>
          <a:xfrm>
            <a:off x="685800" y="1177920"/>
            <a:ext cx="7772400" cy="4390920"/>
          </a:xfrm>
          <a:prstGeom prst="rect">
            <a:avLst/>
          </a:prstGeom>
          <a:ln w="0">
            <a:noFill/>
          </a:ln>
        </p:spPr>
      </p:pic>
      <p:sp>
        <p:nvSpPr>
          <p:cNvPr id="1219" name=""/>
          <p:cNvSpPr/>
          <p:nvPr/>
        </p:nvSpPr>
        <p:spPr>
          <a:xfrm>
            <a:off x="6847560" y="2244600"/>
            <a:ext cx="2036880" cy="3373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eck value in O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H="1">
            <a:off x="6477120" y="2625840"/>
            <a:ext cx="45720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952920" y="5749920"/>
            <a:ext cx="1855440" cy="3373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gram stopp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V="1">
            <a:off x="1752480" y="4149360"/>
            <a:ext cx="381240" cy="1523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7088760" y="4724280"/>
            <a:ext cx="1312920" cy="33732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set ala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V="1">
            <a:off x="7848720" y="4149360"/>
            <a:ext cx="75960" cy="4222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7620120" y="5867280"/>
            <a:ext cx="1143000" cy="609840"/>
          </a:xfrm>
          <a:prstGeom prst="irregularSeal1">
            <a:avLst/>
          </a:prstGeom>
          <a:gradFill rotWithShape="0">
            <a:gsLst>
              <a:gs pos="0">
                <a:srgbClr val="ff33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E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4485960" y="5902200"/>
            <a:ext cx="1555200" cy="3373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riodic ala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flipV="1">
            <a:off x="5334120" y="5257440"/>
            <a:ext cx="7617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674C6-A17D-4701-B389-C6BF767F6C6F}" type="slidenum">
              <a:t>7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das Short Course - Real Time 2003 - Montreal - Part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"/>
          <p:cNvSpPr/>
          <p:nvPr/>
        </p:nvSpPr>
        <p:spPr>
          <a:xfrm>
            <a:off x="685800" y="2416320"/>
            <a:ext cx="7772400" cy="1469880"/>
          </a:xfrm>
          <a:prstGeom prst="rect">
            <a:avLst/>
          </a:prstGeom>
          <a:solidFill>
            <a:srgbClr val="a2c2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lectronic Logboo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1346C-D76B-45E8-AC7F-BEBF52014470}" type="slidenum">
              <a:t>7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das Short Course - Real Time 2003 - Montreal - Part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O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y give up paper logbook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mote access (remote shifts, expert off-sit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sy cop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archab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utomatic logbook entries (analyzer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b interface built into mhttpd (no CGI!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mple flat file database (one file per day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mage attachments (scanner, digital camera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ndalone ELOG package (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http://midas.psi.ch/elo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erie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cellent tool once experiment is in stable oper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 setting up experiments, still some paper need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CDF1A-D9EB-47F7-AA3C-86C0A11DA139}" type="slidenum">
              <a:t>7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das Short Course - Real Time 2003 - Montreal - Part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OG examp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32" name="" descr=""/>
          <p:cNvPicPr/>
          <p:nvPr/>
        </p:nvPicPr>
        <p:blipFill>
          <a:blip r:embed="rId1"/>
          <a:stretch/>
        </p:blipFill>
        <p:spPr>
          <a:xfrm>
            <a:off x="3048120" y="1600200"/>
            <a:ext cx="4821120" cy="4070520"/>
          </a:xfrm>
          <a:prstGeom prst="rect">
            <a:avLst/>
          </a:prstGeom>
          <a:ln w="0">
            <a:noFill/>
          </a:ln>
        </p:spPr>
      </p:pic>
      <p:sp>
        <p:nvSpPr>
          <p:cNvPr id="1233" name=""/>
          <p:cNvSpPr/>
          <p:nvPr/>
        </p:nvSpPr>
        <p:spPr>
          <a:xfrm>
            <a:off x="2362320" y="35053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514080" y="3352680"/>
            <a:ext cx="187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AW screendu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 flipH="1">
            <a:off x="5943600" y="1447920"/>
            <a:ext cx="45720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4772160" y="1066680"/>
            <a:ext cx="341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un number automatically filled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B9669-B57D-42EE-93E8-E272579FD52C}" type="slidenum">
              <a:t>7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das Short Course - Real Time 2003 - Montreal - Part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OG for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38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4114800" cy="3479760"/>
          </a:xfrm>
          <a:prstGeom prst="rect">
            <a:avLst/>
          </a:prstGeom>
          <a:ln w="0">
            <a:noFill/>
          </a:ln>
        </p:spPr>
      </p:pic>
      <p:pic>
        <p:nvPicPr>
          <p:cNvPr id="1239" name="" descr=""/>
          <p:cNvPicPr/>
          <p:nvPr/>
        </p:nvPicPr>
        <p:blipFill>
          <a:blip r:embed="rId2"/>
          <a:stretch/>
        </p:blipFill>
        <p:spPr>
          <a:xfrm>
            <a:off x="4191120" y="3352680"/>
            <a:ext cx="4800600" cy="3060720"/>
          </a:xfrm>
          <a:prstGeom prst="rect">
            <a:avLst/>
          </a:prstGeom>
          <a:ln w="0">
            <a:noFill/>
          </a:ln>
        </p:spPr>
      </p:pic>
      <p:sp>
        <p:nvSpPr>
          <p:cNvPr id="1240" name=""/>
          <p:cNvSpPr/>
          <p:nvPr/>
        </p:nvSpPr>
        <p:spPr>
          <a:xfrm>
            <a:off x="4633920" y="1219320"/>
            <a:ext cx="3333240" cy="5806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m to be filled out every shi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m items defined in O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669680" y="5902200"/>
            <a:ext cx="2555280" cy="337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sulting ELOG 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3F707-EA27-44E3-947A-73B5FAFF405C}" type="slidenum">
              <a:t>7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das Short Course - Real Time 2003 - Montreal - Part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2" name="" descr=""/>
          <p:cNvPicPr/>
          <p:nvPr/>
        </p:nvPicPr>
        <p:blipFill>
          <a:blip r:embed="rId1"/>
          <a:stretch/>
        </p:blipFill>
        <p:spPr>
          <a:xfrm>
            <a:off x="3840120" y="1154160"/>
            <a:ext cx="3627360" cy="5181480"/>
          </a:xfrm>
          <a:prstGeom prst="rect">
            <a:avLst/>
          </a:prstGeom>
          <a:ln w="0">
            <a:noFill/>
          </a:ln>
        </p:spPr>
      </p:pic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utomatic ELOG entr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4" name=""/>
          <p:cNvSpPr/>
          <p:nvPr/>
        </p:nvSpPr>
        <p:spPr>
          <a:xfrm flipH="1">
            <a:off x="6873480" y="2438280"/>
            <a:ext cx="1127160" cy="696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7485120" y="2133720"/>
            <a:ext cx="148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dified HV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533520" y="1371600"/>
            <a:ext cx="3124080" cy="303588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MT ADC spectra have peak in spect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pectra are cross-correlated with stored spectra, if enough statistics (~6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ain deviation is calcul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V is adjusted automaticall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analyzer writes to OD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LOG entry is produc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09C15-6FDA-446E-8ECD-D99C1AA814CD}" type="slidenum">
              <a:t>7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das Short Course - Real Time 2003 - Montreal - Part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ndalone ELO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48" name="" descr=""/>
          <p:cNvPicPr/>
          <p:nvPr/>
        </p:nvPicPr>
        <p:blipFill>
          <a:blip r:embed="rId1"/>
          <a:stretch/>
        </p:blipFill>
        <p:spPr>
          <a:xfrm>
            <a:off x="1108080" y="1143000"/>
            <a:ext cx="6927840" cy="5181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49" name=""/>
          <p:cNvSpPr/>
          <p:nvPr/>
        </p:nvSpPr>
        <p:spPr>
          <a:xfrm>
            <a:off x="7620120" y="5867280"/>
            <a:ext cx="1143000" cy="609840"/>
          </a:xfrm>
          <a:prstGeom prst="irregularSeal1">
            <a:avLst/>
          </a:prstGeom>
          <a:gradFill rotWithShape="0">
            <a:gsLst>
              <a:gs pos="0">
                <a:srgbClr val="ff33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E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3F177-85B2-4A28-96B9-A16780ACA977}" type="slidenum">
              <a:t>7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das Short Course - Real Time 2003 - Montreal - Part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 is MIDAS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Q Framewor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vent transport (multiple producers &amp; consumer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entral configur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rontend and analyzer framewor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You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have to write “user code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 library + applic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ains logging, slow control, alarm system, electronic logbook: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ximum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tegrated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a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quisition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itable for small tests/experiments to medium size experiments, not (?) for HEP experi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 to be confused with ESO-Midas, Midas/UK, Auto service… Let’s call it “MIDAS/PSI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FBFC1-1E60-4F95-9D7D-F069A9C701B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das Short Course - Real Time 2003 - Montreal - Part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"/>
          <p:cNvSpPr/>
          <p:nvPr/>
        </p:nvSpPr>
        <p:spPr>
          <a:xfrm>
            <a:off x="685800" y="2416320"/>
            <a:ext cx="7772400" cy="1469880"/>
          </a:xfrm>
          <a:prstGeom prst="rect">
            <a:avLst/>
          </a:prstGeom>
          <a:solidFill>
            <a:srgbClr val="a2c2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rontend Frame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1A186-DED2-4365-BFD3-73AB83431B69}" type="slidenum">
              <a:t>8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das Short Course - Real Time 2003 - Montreal - Part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mple” Front-e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2" name=""/>
          <p:cNvSpPr/>
          <p:nvPr/>
        </p:nvSpPr>
        <p:spPr>
          <a:xfrm>
            <a:off x="157320" y="762120"/>
            <a:ext cx="4082400" cy="56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#include &lt;stdio.h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#include "midas.h"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#include "msystem.h"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INT running;     /* stopped:0, started:1 *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INT serial = 0;   /* event serial number *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INT run_number = 0;        /* run number *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HNDLE hBuf;  /* buffer handle for events *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Lucida Console"/>
              </a:rPr>
              <a:t>INT tr_start(INT rn, char *erro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Lucida Console"/>
              </a:rPr>
              <a:t>{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ff3300"/>
                </a:solidFill>
                <a:latin typeface="Lucida Console"/>
              </a:rPr>
              <a:t>printf("Start run %d\n", rn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ff3300"/>
                </a:solidFill>
                <a:latin typeface="Lucida Console"/>
              </a:rPr>
              <a:t>serial = 0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ff3300"/>
                </a:solidFill>
                <a:latin typeface="Lucida Console"/>
              </a:rPr>
              <a:t>run_number = rn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ff3300"/>
                </a:solidFill>
                <a:latin typeface="Lucida Console"/>
              </a:rPr>
              <a:t>running = TRUE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ff3300"/>
                </a:solidFill>
                <a:latin typeface="Lucida Console"/>
              </a:rPr>
              <a:t>return CM_SUCCESS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Lucida Console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Lucida Console"/>
              </a:rPr>
              <a:t>INT tr_stop(INT rn, char *erro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Lucida Console"/>
              </a:rPr>
              <a:t>{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ff3300"/>
                </a:solidFill>
                <a:latin typeface="Lucida Console"/>
              </a:rPr>
              <a:t>running = FALSE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ff3300"/>
                </a:solidFill>
                <a:latin typeface="Lucida Console"/>
              </a:rPr>
              <a:t>rpc_flush_event(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ff3300"/>
                </a:solidFill>
                <a:latin typeface="Lucida Console"/>
              </a:rPr>
              <a:t>bm_flush_cache(hBuf, SYNC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ff3300"/>
                </a:solidFill>
                <a:latin typeface="Lucida Console"/>
              </a:rPr>
              <a:t>printf("Stop run %d\n", rn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ff3300"/>
                </a:solidFill>
                <a:latin typeface="Lucida Console"/>
              </a:rPr>
              <a:t>return CM_SUCCESS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Lucida Console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main(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INT           status, size=1000, id=0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DWORD         last_time=0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char          event[2000]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char          host_name[256]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char          dash[] = "-\\|/"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printf("Host to connect: "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ss_gets(host_name, 256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/* now connect to server *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status = cm_connect_experiment(host_name, "", "MiniFE", NULL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if (status != CM_SUCCES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return 1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ff3300"/>
                </a:solidFill>
                <a:latin typeface="Lucida Console"/>
              </a:rPr>
              <a:t>cm_register_transition(TR_START, tr_start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ff3300"/>
                </a:solidFill>
                <a:latin typeface="Lucida Console"/>
              </a:rPr>
              <a:t>cm_register_transition(TR_STOP, tr_stop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4458960" y="762120"/>
            <a:ext cx="4386960" cy="5569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/* open event bufer and set cache size *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bm_open_buffer(EVENT_BUFFER_NAME, EVENT_BUFFER_SIZE, &amp;hBuf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bm_set_cache_size(hBuf, 0, 100000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if (!runn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/* if run is not started, call yield with a timeout of 1s *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status = cm_yield(1000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if (status == RPC_SHUTDOWN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break;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el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/* during run call yield with 0 timeout once each 300 ms *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if (ss_millitime() - last_time &gt; 30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printf("%c\r", dash[id++ % 4]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fflush(stdout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status = cm_yield(0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if (status == RPC_SHUTDOWN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last_time = ss_millitime(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Lucida Console"/>
              </a:rPr>
              <a:t>    </a:t>
            </a:r>
            <a:r>
              <a:rPr b="0" lang="en-US" sz="800" spc="-1" strike="noStrike">
                <a:solidFill>
                  <a:srgbClr val="3333cc"/>
                </a:solidFill>
                <a:latin typeface="Lucida Console"/>
              </a:rPr>
              <a:t>/* if run is started, send event *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Lucida Console"/>
              </a:rPr>
              <a:t>    </a:t>
            </a:r>
            <a:r>
              <a:rPr b="0" lang="en-US" sz="800" spc="-1" strike="noStrike">
                <a:solidFill>
                  <a:srgbClr val="3333cc"/>
                </a:solidFill>
                <a:latin typeface="Lucida Console"/>
              </a:rPr>
              <a:t>if (runn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Lucida Console"/>
              </a:rPr>
              <a:t>      </a:t>
            </a:r>
            <a:r>
              <a:rPr b="0" lang="en-US" sz="800" spc="-1" strike="noStrike">
                <a:solidFill>
                  <a:srgbClr val="3333cc"/>
                </a:solidFill>
                <a:latin typeface="Lucida Console"/>
              </a:rPr>
              <a:t>{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Lucida Console"/>
              </a:rPr>
              <a:t>      </a:t>
            </a:r>
            <a:r>
              <a:rPr b="0" lang="en-US" sz="800" spc="-1" strike="noStrike">
                <a:solidFill>
                  <a:srgbClr val="3333cc"/>
                </a:solidFill>
                <a:latin typeface="Lucida Console"/>
              </a:rPr>
              <a:t>/* compose event header, empty event *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Lucida Console"/>
              </a:rPr>
              <a:t>      </a:t>
            </a:r>
            <a:r>
              <a:rPr b="0" lang="en-US" sz="800" spc="-1" strike="noStrike">
                <a:solidFill>
                  <a:srgbClr val="3333cc"/>
                </a:solidFill>
                <a:latin typeface="Lucida Console"/>
              </a:rPr>
              <a:t>bm_compose_event((EVENT_HEADER *) event, 1, 1, size, serial++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Lucida Console"/>
              </a:rPr>
              <a:t>      </a:t>
            </a:r>
            <a:r>
              <a:rPr b="0" lang="en-US" sz="800" spc="-1" strike="noStrike">
                <a:solidFill>
                  <a:srgbClr val="3333cc"/>
                </a:solidFill>
                <a:latin typeface="Lucida Console"/>
              </a:rPr>
              <a:t>/* send event *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Lucida Console"/>
              </a:rPr>
              <a:t>      </a:t>
            </a:r>
            <a:r>
              <a:rPr b="0" lang="en-US" sz="800" spc="-1" strike="noStrike">
                <a:solidFill>
                  <a:srgbClr val="3333cc"/>
                </a:solidFill>
                <a:latin typeface="Lucida Console"/>
              </a:rPr>
              <a:t>rpc_send_event(hBuf, event, size+sizeof(EVENT_HEADER), SYNC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Lucida Console"/>
              </a:rPr>
              <a:t>      </a:t>
            </a:r>
            <a:r>
              <a:rPr b="0" lang="en-US" sz="800" spc="-1" strike="noStrike">
                <a:solidFill>
                  <a:srgbClr val="3333cc"/>
                </a:solidFill>
                <a:latin typeface="Lucida Console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} while (TRUE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cm_disconnect_experiment(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return 1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7620120" y="5867280"/>
            <a:ext cx="1143000" cy="609840"/>
          </a:xfrm>
          <a:prstGeom prst="irregularSeal1">
            <a:avLst/>
          </a:prstGeom>
          <a:gradFill rotWithShape="0">
            <a:gsLst>
              <a:gs pos="0">
                <a:srgbClr val="ff33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inife.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0C4DB-EB4E-4B4D-B7A5-0AF26A16C120}" type="slidenum">
              <a:t>8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das Short Course - Real Time 2003 - Montreal - Part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ront-end Framewor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33920" cy="502920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pdate event statistics (events/s, kb/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pport for interrupt/polled/periodic/slow control ev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pen buffer, send ev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nd event samples to ODB for inspec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op run after number of events receiv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corporate slow control syst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NAF functional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57" name=""/>
          <p:cNvGrpSpPr/>
          <p:nvPr/>
        </p:nvGrpSpPr>
        <p:grpSpPr>
          <a:xfrm>
            <a:off x="4800600" y="1143000"/>
            <a:ext cx="3733920" cy="5029200"/>
            <a:chOff x="4800600" y="1143000"/>
            <a:chExt cx="3733920" cy="5029200"/>
          </a:xfrm>
        </p:grpSpPr>
        <p:sp>
          <p:nvSpPr>
            <p:cNvPr id="1258" name=""/>
            <p:cNvSpPr/>
            <p:nvPr/>
          </p:nvSpPr>
          <p:spPr>
            <a:xfrm>
              <a:off x="5486400" y="1600200"/>
              <a:ext cx="2743200" cy="45720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Trigger event decla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486400" y="2057400"/>
              <a:ext cx="2743200" cy="45720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Scaler event decla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486400" y="5334120"/>
              <a:ext cx="2743200" cy="457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Scaler read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486400" y="4800600"/>
              <a:ext cx="2743200" cy="457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Trigger event read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715000" y="2971800"/>
              <a:ext cx="838080" cy="4572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B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7010280" y="2971800"/>
              <a:ext cx="838440" cy="4572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E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486400" y="3886200"/>
              <a:ext cx="2743200" cy="457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Check for trigger ev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800600" y="1143000"/>
              <a:ext cx="3733920" cy="5029200"/>
            </a:xfrm>
            <a:custGeom>
              <a:avLst/>
              <a:gdLst/>
              <a:ahLst/>
              <a:rect l="l" t="t" r="r" b="b"/>
              <a:pathLst>
                <a:path w="2352" h="3168">
                  <a:moveTo>
                    <a:pt x="2160" y="0"/>
                  </a:moveTo>
                  <a:lnTo>
                    <a:pt x="0" y="0"/>
                  </a:lnTo>
                  <a:lnTo>
                    <a:pt x="0" y="3168"/>
                  </a:lnTo>
                  <a:lnTo>
                    <a:pt x="2352" y="3168"/>
                  </a:lnTo>
                  <a:lnTo>
                    <a:pt x="2352" y="2976"/>
                  </a:lnTo>
                  <a:lnTo>
                    <a:pt x="384" y="2976"/>
                  </a:lnTo>
                  <a:lnTo>
                    <a:pt x="384" y="2256"/>
                  </a:lnTo>
                  <a:lnTo>
                    <a:pt x="2160" y="2256"/>
                  </a:lnTo>
                  <a:lnTo>
                    <a:pt x="2160" y="2112"/>
                  </a:lnTo>
                  <a:lnTo>
                    <a:pt x="384" y="2112"/>
                  </a:lnTo>
                  <a:lnTo>
                    <a:pt x="384" y="1680"/>
                  </a:lnTo>
                  <a:lnTo>
                    <a:pt x="2160" y="1680"/>
                  </a:lnTo>
                  <a:lnTo>
                    <a:pt x="2160" y="1488"/>
                  </a:lnTo>
                  <a:lnTo>
                    <a:pt x="384" y="1488"/>
                  </a:lnTo>
                  <a:lnTo>
                    <a:pt x="384" y="1104"/>
                  </a:lnTo>
                  <a:lnTo>
                    <a:pt x="2160" y="1104"/>
                  </a:lnTo>
                  <a:lnTo>
                    <a:pt x="2160" y="912"/>
                  </a:lnTo>
                  <a:lnTo>
                    <a:pt x="384" y="912"/>
                  </a:lnTo>
                  <a:lnTo>
                    <a:pt x="384" y="240"/>
                  </a:lnTo>
                  <a:lnTo>
                    <a:pt x="2352" y="240"/>
                  </a:lnTo>
                  <a:lnTo>
                    <a:pt x="2352" y="0"/>
                  </a:lnTo>
                  <a:lnTo>
                    <a:pt x="2112" y="0"/>
                  </a:lnTo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 rot="16200000">
              <a:off x="4101120" y="3339720"/>
              <a:ext cx="207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Framewor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506DD-CCDC-461D-97B8-A2A3990F4682}" type="slidenum">
              <a:t>8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das Short Course - Real Time 2003 - Montreal - Part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ront-end user co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8" name=""/>
          <p:cNvSpPr/>
          <p:nvPr/>
        </p:nvSpPr>
        <p:spPr>
          <a:xfrm>
            <a:off x="485640" y="914400"/>
            <a:ext cx="3914640" cy="5315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#include &lt;stdio.h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#include &lt;stdlib.h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#include "midas.h"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#include "mcstd.h"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/*-- Equipment list --*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EQUIPMENT equipment[] = {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700" spc="-1" strike="noStrike">
                <a:solidFill>
                  <a:srgbClr val="3333cc"/>
                </a:solidFill>
                <a:latin typeface="Lucida Console"/>
              </a:rPr>
              <a:t>{ "Trigger",              /* equipment name *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333cc"/>
                </a:solidFill>
                <a:latin typeface="Lucida Console"/>
              </a:rPr>
              <a:t>    </a:t>
            </a:r>
            <a:r>
              <a:rPr b="0" lang="en-US" sz="700" spc="-1" strike="noStrike">
                <a:solidFill>
                  <a:srgbClr val="3333cc"/>
                </a:solidFill>
                <a:latin typeface="Lucida Console"/>
              </a:rPr>
              <a:t>{ 1, 0,                 /* event ID, trigger mask *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333cc"/>
                </a:solidFill>
                <a:latin typeface="Lucida Console"/>
              </a:rPr>
              <a:t>      </a:t>
            </a:r>
            <a:r>
              <a:rPr b="0" lang="en-US" sz="700" spc="-1" strike="noStrike">
                <a:solidFill>
                  <a:srgbClr val="3333cc"/>
                </a:solidFill>
                <a:latin typeface="Lucida Console"/>
              </a:rPr>
              <a:t>"SYSTEM",             /* event buffer *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333cc"/>
                </a:solidFill>
                <a:latin typeface="Lucida Console"/>
              </a:rPr>
              <a:t>      </a:t>
            </a:r>
            <a:r>
              <a:rPr b="0" lang="en-US" sz="700" spc="-1" strike="noStrike">
                <a:solidFill>
                  <a:srgbClr val="3333cc"/>
                </a:solidFill>
                <a:latin typeface="Lucida Console"/>
              </a:rPr>
              <a:t>EQ_POLLED,            /* equipment type *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333cc"/>
                </a:solidFill>
                <a:latin typeface="Lucida Console"/>
              </a:rPr>
              <a:t>      </a:t>
            </a:r>
            <a:r>
              <a:rPr b="0" lang="en-US" sz="700" spc="-1" strike="noStrike">
                <a:solidFill>
                  <a:srgbClr val="3333cc"/>
                </a:solidFill>
                <a:latin typeface="Lucida Console"/>
              </a:rPr>
              <a:t>LAM_SOURCE(0,0xFFFFFF),/* event source crate 0, all stations *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333cc"/>
                </a:solidFill>
                <a:latin typeface="Lucida Console"/>
              </a:rPr>
              <a:t>      </a:t>
            </a:r>
            <a:r>
              <a:rPr b="0" lang="en-US" sz="700" spc="-1" strike="noStrike">
                <a:solidFill>
                  <a:srgbClr val="3333cc"/>
                </a:solidFill>
                <a:latin typeface="Lucida Console"/>
              </a:rPr>
              <a:t>"MIDAS",              /* format *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333cc"/>
                </a:solidFill>
                <a:latin typeface="Lucida Console"/>
              </a:rPr>
              <a:t>      </a:t>
            </a:r>
            <a:r>
              <a:rPr b="0" lang="en-US" sz="700" spc="-1" strike="noStrike">
                <a:solidFill>
                  <a:srgbClr val="3333cc"/>
                </a:solidFill>
                <a:latin typeface="Lucida Console"/>
              </a:rPr>
              <a:t>TRUE,                 /* enabled *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333cc"/>
                </a:solidFill>
                <a:latin typeface="Lucida Console"/>
              </a:rPr>
              <a:t>      </a:t>
            </a:r>
            <a:r>
              <a:rPr b="0" lang="en-US" sz="700" spc="-1" strike="noStrike">
                <a:solidFill>
                  <a:srgbClr val="3333cc"/>
                </a:solidFill>
                <a:latin typeface="Lucida Console"/>
              </a:rPr>
              <a:t>RO_RUNNING |          /* read only when running *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333cc"/>
                </a:solidFill>
                <a:latin typeface="Lucida Console"/>
              </a:rPr>
              <a:t>      </a:t>
            </a:r>
            <a:r>
              <a:rPr b="0" lang="en-US" sz="700" spc="-1" strike="noStrike">
                <a:solidFill>
                  <a:srgbClr val="3333cc"/>
                </a:solidFill>
                <a:latin typeface="Lucida Console"/>
              </a:rPr>
              <a:t>RO_ODB,               /* and update ODB *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333cc"/>
                </a:solidFill>
                <a:latin typeface="Lucida Console"/>
              </a:rPr>
              <a:t>      </a:t>
            </a:r>
            <a:r>
              <a:rPr b="0" lang="en-US" sz="700" spc="-1" strike="noStrike">
                <a:solidFill>
                  <a:srgbClr val="3333cc"/>
                </a:solidFill>
                <a:latin typeface="Lucida Console"/>
              </a:rPr>
              <a:t>500,                  /* poll for 500ms *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333cc"/>
                </a:solidFill>
                <a:latin typeface="Lucida Console"/>
              </a:rPr>
              <a:t>      </a:t>
            </a:r>
            <a:r>
              <a:rPr b="0" lang="en-US" sz="700" spc="-1" strike="noStrike">
                <a:solidFill>
                  <a:srgbClr val="3333cc"/>
                </a:solidFill>
                <a:latin typeface="Lucida Console"/>
              </a:rPr>
              <a:t>0,                    /* stop run after this event limit *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333cc"/>
                </a:solidFill>
                <a:latin typeface="Lucida Console"/>
              </a:rPr>
              <a:t>      </a:t>
            </a:r>
            <a:r>
              <a:rPr b="0" lang="en-US" sz="700" spc="-1" strike="noStrike">
                <a:solidFill>
                  <a:srgbClr val="3333cc"/>
                </a:solidFill>
                <a:latin typeface="Lucida Console"/>
              </a:rPr>
              <a:t>0,                    /* number of sub events *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333cc"/>
                </a:solidFill>
                <a:latin typeface="Lucida Console"/>
              </a:rPr>
              <a:t>      </a:t>
            </a:r>
            <a:r>
              <a:rPr b="0" lang="en-US" sz="700" spc="-1" strike="noStrike">
                <a:solidFill>
                  <a:srgbClr val="3333cc"/>
                </a:solidFill>
                <a:latin typeface="Lucida Console"/>
              </a:rPr>
              <a:t>0,                    /* don't log history *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333cc"/>
                </a:solidFill>
                <a:latin typeface="Lucida Console"/>
              </a:rPr>
              <a:t>      </a:t>
            </a:r>
            <a:r>
              <a:rPr b="0" lang="en-US" sz="700" spc="-1" strike="noStrike">
                <a:solidFill>
                  <a:srgbClr val="3333cc"/>
                </a:solidFill>
                <a:latin typeface="Lucida Console"/>
              </a:rPr>
              <a:t>"", "", "", }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333cc"/>
                </a:solidFill>
                <a:latin typeface="Lucida Console"/>
              </a:rPr>
              <a:t>    </a:t>
            </a:r>
            <a:r>
              <a:rPr b="0" lang="en-US" sz="700" spc="-1" strike="noStrike">
                <a:solidFill>
                  <a:srgbClr val="3333cc"/>
                </a:solidFill>
                <a:latin typeface="Lucida Console"/>
              </a:rPr>
              <a:t>read_trigger_event,     /* readout routine *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333cc"/>
                </a:solidFill>
                <a:latin typeface="Lucida Console"/>
              </a:rPr>
              <a:t>    </a:t>
            </a:r>
            <a:r>
              <a:rPr b="0" lang="en-US" sz="700" spc="-1" strike="noStrike">
                <a:solidFill>
                  <a:srgbClr val="3333cc"/>
                </a:solidFill>
                <a:latin typeface="Lucida Console"/>
              </a:rPr>
              <a:t>NULL, NULL, NULL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333cc"/>
                </a:solidFill>
                <a:latin typeface="Lucida Console"/>
              </a:rPr>
              <a:t>}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Lucida Console"/>
              </a:rPr>
              <a:t>  </a:t>
            </a:r>
            <a:r>
              <a:rPr b="0" lang="en-US" sz="700" spc="-1" strike="noStrike">
                <a:solidFill>
                  <a:srgbClr val="ff0000"/>
                </a:solidFill>
                <a:latin typeface="Lucida Console"/>
              </a:rPr>
              <a:t>{ "Scaler",             /* equipment name *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0" lang="en-US" sz="700" spc="-1" strike="noStrike">
                <a:solidFill>
                  <a:srgbClr val="ff0000"/>
                </a:solidFill>
                <a:latin typeface="Lucida Console"/>
              </a:rPr>
              <a:t>{ 2, 0,                 /* event ID, trigger mask *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Lucida Console"/>
              </a:rPr>
              <a:t>      </a:t>
            </a:r>
            <a:r>
              <a:rPr b="0" lang="en-US" sz="700" spc="-1" strike="noStrike">
                <a:solidFill>
                  <a:srgbClr val="ff0000"/>
                </a:solidFill>
                <a:latin typeface="Lucida Console"/>
              </a:rPr>
              <a:t>"SYSTEM",             /* event buffer *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Lucida Console"/>
              </a:rPr>
              <a:t>      </a:t>
            </a:r>
            <a:r>
              <a:rPr b="0" lang="en-US" sz="700" spc="-1" strike="noStrike">
                <a:solidFill>
                  <a:srgbClr val="ff0000"/>
                </a:solidFill>
                <a:latin typeface="Lucida Console"/>
              </a:rPr>
              <a:t>EQ_PERIODIC |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Lucida Console"/>
              </a:rPr>
              <a:t>      </a:t>
            </a:r>
            <a:r>
              <a:rPr b="0" lang="en-US" sz="700" spc="-1" strike="noStrike">
                <a:solidFill>
                  <a:srgbClr val="ff0000"/>
                </a:solidFill>
                <a:latin typeface="Lucida Console"/>
              </a:rPr>
              <a:t>EQ_MANUAL_TRIG,       /* equipment type *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Lucida Console"/>
              </a:rPr>
              <a:t>      </a:t>
            </a:r>
            <a:r>
              <a:rPr b="0" lang="en-US" sz="700" spc="-1" strike="noStrike">
                <a:solidFill>
                  <a:srgbClr val="ff0000"/>
                </a:solidFill>
                <a:latin typeface="Lucida Console"/>
              </a:rPr>
              <a:t>0,                    /* event source *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Lucida Console"/>
              </a:rPr>
              <a:t>      </a:t>
            </a:r>
            <a:r>
              <a:rPr b="0" lang="en-US" sz="700" spc="-1" strike="noStrike">
                <a:solidFill>
                  <a:srgbClr val="ff0000"/>
                </a:solidFill>
                <a:latin typeface="Lucida Console"/>
              </a:rPr>
              <a:t>"MIDAS",              /* format *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Lucida Console"/>
              </a:rPr>
              <a:t>      </a:t>
            </a:r>
            <a:r>
              <a:rPr b="0" lang="en-US" sz="700" spc="-1" strike="noStrike">
                <a:solidFill>
                  <a:srgbClr val="ff0000"/>
                </a:solidFill>
                <a:latin typeface="Lucida Console"/>
              </a:rPr>
              <a:t>TRUE,                 /* enabled *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Lucida Console"/>
              </a:rPr>
              <a:t>      </a:t>
            </a:r>
            <a:r>
              <a:rPr b="0" lang="en-US" sz="700" spc="-1" strike="noStrike">
                <a:solidFill>
                  <a:srgbClr val="ff0000"/>
                </a:solidFill>
                <a:latin typeface="Lucida Console"/>
              </a:rPr>
              <a:t>RO_RUNNING |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Lucida Console"/>
              </a:rPr>
              <a:t>      </a:t>
            </a:r>
            <a:r>
              <a:rPr b="0" lang="en-US" sz="700" spc="-1" strike="noStrike">
                <a:solidFill>
                  <a:srgbClr val="ff0000"/>
                </a:solidFill>
                <a:latin typeface="Lucida Console"/>
              </a:rPr>
              <a:t>RO_TRANSITIONS |      /* read when running and on transitions *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Lucida Console"/>
              </a:rPr>
              <a:t>      </a:t>
            </a:r>
            <a:r>
              <a:rPr b="0" lang="en-US" sz="700" spc="-1" strike="noStrike">
                <a:solidFill>
                  <a:srgbClr val="ff0000"/>
                </a:solidFill>
                <a:latin typeface="Lucida Console"/>
              </a:rPr>
              <a:t>RO_ODB,               /* and update ODB *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Lucida Console"/>
              </a:rPr>
              <a:t>      </a:t>
            </a:r>
            <a:r>
              <a:rPr b="0" lang="en-US" sz="700" spc="-1" strike="noStrike">
                <a:solidFill>
                  <a:srgbClr val="ff0000"/>
                </a:solidFill>
                <a:latin typeface="Lucida Console"/>
              </a:rPr>
              <a:t>10000,                /* read every 10 sec *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Lucida Console"/>
              </a:rPr>
              <a:t>      </a:t>
            </a:r>
            <a:r>
              <a:rPr b="0" lang="en-US" sz="700" spc="-1" strike="noStrike">
                <a:solidFill>
                  <a:srgbClr val="ff0000"/>
                </a:solidFill>
                <a:latin typeface="Lucida Console"/>
              </a:rPr>
              <a:t>0,                    /* stop run after this event limit *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Lucida Console"/>
              </a:rPr>
              <a:t>      </a:t>
            </a:r>
            <a:r>
              <a:rPr b="0" lang="en-US" sz="700" spc="-1" strike="noStrike">
                <a:solidFill>
                  <a:srgbClr val="ff0000"/>
                </a:solidFill>
                <a:latin typeface="Lucida Console"/>
              </a:rPr>
              <a:t>0,                    /* number of sub events *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Lucida Console"/>
              </a:rPr>
              <a:t>      </a:t>
            </a:r>
            <a:r>
              <a:rPr b="0" lang="en-US" sz="700" spc="-1" strike="noStrike">
                <a:solidFill>
                  <a:srgbClr val="ff0000"/>
                </a:solidFill>
                <a:latin typeface="Lucida Console"/>
              </a:rPr>
              <a:t>1,                    /* log history *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Lucida Console"/>
              </a:rPr>
              <a:t>      </a:t>
            </a:r>
            <a:r>
              <a:rPr b="0" lang="en-US" sz="700" spc="-1" strike="noStrike">
                <a:solidFill>
                  <a:srgbClr val="ff0000"/>
                </a:solidFill>
                <a:latin typeface="Lucida Console"/>
              </a:rPr>
              <a:t>"", "", "", }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0" lang="en-US" sz="700" spc="-1" strike="noStrike">
                <a:solidFill>
                  <a:srgbClr val="ff0000"/>
                </a:solidFill>
                <a:latin typeface="Lucida Console"/>
              </a:rPr>
              <a:t>read_scaler_event,    /* readout routine *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0" lang="en-US" sz="700" spc="-1" strike="noStrike">
                <a:solidFill>
                  <a:srgbClr val="ff0000"/>
                </a:solidFill>
                <a:latin typeface="Lucida Console"/>
              </a:rPr>
              <a:t>NULL, NULL, NULL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Lucida Console"/>
              </a:rPr>
              <a:t>}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{ "" }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}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4829040" y="1066680"/>
            <a:ext cx="3914640" cy="5102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INT frontend_init() {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return SUCCESS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INT frontend_exit() {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return SUCCESS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INT begin_of_run(INT run_number, char *error) {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return SUCCESS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INT end_of_run(INT run_number, char *error) {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return SUCCESS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INT frontend_loop() {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return SUCCESS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/*------------------------------------------------------------------*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333cc"/>
                </a:solidFill>
                <a:latin typeface="Lucida Console"/>
              </a:rPr>
              <a:t>INT poll_event(INT source, INT count, BOOL test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333cc"/>
                </a:solidFill>
                <a:latin typeface="Lucida Console"/>
              </a:rPr>
              <a:t>{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333cc"/>
                </a:solidFill>
                <a:latin typeface="Lucida Console"/>
              </a:rPr>
              <a:t>int   i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333cc"/>
                </a:solidFill>
                <a:latin typeface="Lucida Console"/>
              </a:rPr>
              <a:t>DWORD lam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333cc"/>
                </a:solidFill>
                <a:latin typeface="Lucida Console"/>
              </a:rPr>
              <a:t>  </a:t>
            </a:r>
            <a:r>
              <a:rPr b="0" lang="en-US" sz="700" spc="-1" strike="noStrike">
                <a:solidFill>
                  <a:srgbClr val="3333cc"/>
                </a:solidFill>
                <a:latin typeface="Lucida Console"/>
              </a:rPr>
              <a:t>for (i=0 ; i&lt;count ; i++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333cc"/>
                </a:solidFill>
                <a:latin typeface="Lucida Console"/>
              </a:rPr>
              <a:t>    </a:t>
            </a:r>
            <a:r>
              <a:rPr b="0" lang="en-US" sz="700" spc="-1" strike="noStrike">
                <a:solidFill>
                  <a:srgbClr val="3333cc"/>
                </a:solidFill>
                <a:latin typeface="Lucida Console"/>
              </a:rPr>
              <a:t>{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333cc"/>
                </a:solidFill>
                <a:latin typeface="Lucida Console"/>
              </a:rPr>
              <a:t>    </a:t>
            </a:r>
            <a:r>
              <a:rPr b="0" lang="en-US" sz="700" spc="-1" strike="noStrike">
                <a:solidFill>
                  <a:srgbClr val="3333cc"/>
                </a:solidFill>
                <a:latin typeface="Lucida Console"/>
              </a:rPr>
              <a:t>cam_lam_read(LAM_SOURCE_CRATE(source), &amp;lam)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333cc"/>
                </a:solidFill>
                <a:latin typeface="Lucida Console"/>
              </a:rPr>
              <a:t>    </a:t>
            </a:r>
            <a:r>
              <a:rPr b="0" lang="en-US" sz="700" spc="-1" strike="noStrike">
                <a:solidFill>
                  <a:srgbClr val="3333cc"/>
                </a:solidFill>
                <a:latin typeface="Lucida Console"/>
              </a:rPr>
              <a:t>if (lam &amp; LAM_SOURCE_STATION(source)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333cc"/>
                </a:solidFill>
                <a:latin typeface="Lucida Console"/>
              </a:rPr>
              <a:t>      </a:t>
            </a:r>
            <a:r>
              <a:rPr b="0" lang="en-US" sz="700" spc="-1" strike="noStrike">
                <a:solidFill>
                  <a:srgbClr val="3333cc"/>
                </a:solidFill>
                <a:latin typeface="Lucida Console"/>
              </a:rPr>
              <a:t>if (!test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333cc"/>
                </a:solidFill>
                <a:latin typeface="Lucida Console"/>
              </a:rPr>
              <a:t>        </a:t>
            </a:r>
            <a:r>
              <a:rPr b="0" lang="en-US" sz="700" spc="-1" strike="noStrike">
                <a:solidFill>
                  <a:srgbClr val="3333cc"/>
                </a:solidFill>
                <a:latin typeface="Lucida Console"/>
              </a:rPr>
              <a:t>return lam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333cc"/>
                </a:solidFill>
                <a:latin typeface="Lucida Console"/>
              </a:rPr>
              <a:t>    </a:t>
            </a:r>
            <a:r>
              <a:rPr b="0" lang="en-US" sz="700" spc="-1" strike="noStrike">
                <a:solidFill>
                  <a:srgbClr val="3333cc"/>
                </a:solidFill>
                <a:latin typeface="Lucida Console"/>
              </a:rPr>
              <a:t>}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333cc"/>
                </a:solidFill>
                <a:latin typeface="Lucida Console"/>
              </a:rPr>
              <a:t>  </a:t>
            </a:r>
            <a:r>
              <a:rPr b="0" lang="en-US" sz="700" spc="-1" strike="noStrike">
                <a:solidFill>
                  <a:srgbClr val="3333cc"/>
                </a:solidFill>
                <a:latin typeface="Lucida Console"/>
              </a:rPr>
              <a:t>return 0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333cc"/>
                </a:solidFill>
                <a:latin typeface="Lucida Console"/>
              </a:rPr>
              <a:t>}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333cc"/>
                </a:solidFill>
                <a:latin typeface="Lucida Console"/>
              </a:rPr>
              <a:t>INT read_trigger_event(char *pevent, INT off) {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333cc"/>
                </a:solidFill>
                <a:latin typeface="Lucida Console"/>
              </a:rPr>
              <a:t>  </a:t>
            </a:r>
            <a:r>
              <a:rPr b="0" lang="en-US" sz="700" spc="-1" strike="noStrike">
                <a:solidFill>
                  <a:srgbClr val="3333cc"/>
                </a:solidFill>
                <a:latin typeface="Lucida Console"/>
              </a:rPr>
              <a:t>return 0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333cc"/>
                </a:solidFill>
                <a:latin typeface="Lucida Console"/>
              </a:rPr>
              <a:t>}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Lucida Console"/>
              </a:rPr>
              <a:t>INT </a:t>
            </a:r>
            <a:r>
              <a:rPr b="0" lang="en-US" sz="700" spc="-1" strike="noStrike">
                <a:solidFill>
                  <a:srgbClr val="ff3300"/>
                </a:solidFill>
                <a:latin typeface="Lucida Console"/>
              </a:rPr>
              <a:t>read_scaler_event(char</a:t>
            </a:r>
            <a:r>
              <a:rPr b="0" lang="en-US" sz="700" spc="-1" strike="noStrike">
                <a:solidFill>
                  <a:srgbClr val="ff0000"/>
                </a:solidFill>
                <a:latin typeface="Lucida Console"/>
              </a:rPr>
              <a:t> *pevent, INT off) {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Lucida Console"/>
              </a:rPr>
              <a:t>  </a:t>
            </a:r>
            <a:r>
              <a:rPr b="0" lang="en-US" sz="700" spc="-1" strike="noStrike">
                <a:solidFill>
                  <a:srgbClr val="ff0000"/>
                </a:solidFill>
                <a:latin typeface="Lucida Console"/>
              </a:rPr>
              <a:t>return 0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Lucida Console"/>
              </a:rPr>
              <a:t>}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1828800" y="5638680"/>
            <a:ext cx="2971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1828800" y="3505320"/>
            <a:ext cx="2971800" cy="19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A3234-EF5F-414F-A388-0176A1092071}" type="slidenum">
              <a:t>8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das Short Course - Real Time 2003 - Montreal - Part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eating bank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3" name=""/>
          <p:cNvSpPr/>
          <p:nvPr/>
        </p:nvSpPr>
        <p:spPr>
          <a:xfrm>
            <a:off x="1081800" y="1306440"/>
            <a:ext cx="3350880" cy="4474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INT read_trigger_event(char *pevent, INT offse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ADC0_BANK *adc0_bank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WORD      *pdata, a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bk_init(pevent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/* create structured ADC0 bank *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bk_create(pevent, "ADC0", TID_STRUCT, &amp;adc0_bank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pdata = (WORD *)adc0_bank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/* read CAMAC adcs *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cami(CRATE, SLOT_ADC, 0, 0, &amp;adc0_bank-&gt;adc0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cami(CRATE, SLOT_ADC, 1, 0, &amp;adc0_bank-&gt;adc1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cami(CRATE, SLOT_ADC, 2, 0, &amp;adc0_bank-&gt;adc2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cami(CRATE, SLOT_ADC, 3, 0, &amp;adc0_bank-&gt;adc3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/* clear ADC *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camc(CRATE, SLOT_ADC, 0, 9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bk_close(pevent, pdata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/* create variable length TDC bank *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bk_create(pevent, "TDC0", TID_WORD, &amp;pdata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/* read CAMAC TDC until no Q *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cam16i_rq(CRATE, SLOT_TDC, 0, 0, &amp;pdata, 96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/* clear TDC *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camc(CRATE, SLOT_TDC, 0, 9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bk_close(pevent, pdata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return bk_size(pevent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4648320" y="2286000"/>
            <a:ext cx="228600" cy="1676520"/>
          </a:xfrm>
          <a:custGeom>
            <a:avLst/>
            <a:gdLst>
              <a:gd name="textAreaLeft" fmla="*/ 0 w 228600"/>
              <a:gd name="textAreaRight" fmla="*/ 82440 w 2286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5036400" y="2940120"/>
            <a:ext cx="170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ructured ba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5500800" y="1295280"/>
            <a:ext cx="1217160" cy="8240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typedef struct {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WORD      adc0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WORD      adc1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WORD      adc2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WORD      adc3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} ADC0_BANK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4648320" y="4191120"/>
            <a:ext cx="228600" cy="129528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5096520" y="4495680"/>
            <a:ext cx="160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ank w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ariable leng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012E0-2EA8-4A12-8D6E-7D324616E16F}" type="slidenum">
              <a:t>8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das Short Course - Real Time 2003 - Montreal - Part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rontend control through OD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0" name=""/>
          <p:cNvSpPr/>
          <p:nvPr/>
        </p:nvSpPr>
        <p:spPr>
          <a:xfrm>
            <a:off x="1286640" y="1211400"/>
            <a:ext cx="6581520" cy="5082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[local:online:S]/&gt;cd Equipment/Trigger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[local:online:S]Trigger&gt;ls -l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Key name                        Type    #Val  Size  Last Opn Mode Val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--------------------------------------------------------------------------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Trigger                         D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8000"/>
                </a:solidFill>
                <a:latin typeface="Lucida Console"/>
              </a:rPr>
              <a:t>    </a:t>
            </a:r>
            <a:r>
              <a:rPr b="0" lang="en-US" sz="800" spc="-1" strike="noStrike">
                <a:solidFill>
                  <a:srgbClr val="008000"/>
                </a:solidFill>
                <a:latin typeface="Lucida Console"/>
              </a:rPr>
              <a:t>Variables                   D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8000"/>
                </a:solidFill>
                <a:latin typeface="Lucida Console"/>
              </a:rPr>
              <a:t>        </a:t>
            </a:r>
            <a:r>
              <a:rPr b="0" lang="en-US" sz="800" spc="-1" strike="noStrike">
                <a:solidFill>
                  <a:srgbClr val="008000"/>
                </a:solidFill>
                <a:latin typeface="Lucida Console"/>
              </a:rPr>
              <a:t>ADC0                    D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8000"/>
                </a:solidFill>
                <a:latin typeface="Lucida Console"/>
              </a:rPr>
              <a:t>            </a:t>
            </a:r>
            <a:r>
              <a:rPr b="0" lang="en-US" sz="800" spc="-1" strike="noStrike">
                <a:solidFill>
                  <a:srgbClr val="008000"/>
                </a:solidFill>
                <a:latin typeface="Lucida Console"/>
              </a:rPr>
              <a:t>adc0                WORD    1     2     1h   0   RWD  2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8000"/>
                </a:solidFill>
                <a:latin typeface="Lucida Console"/>
              </a:rPr>
              <a:t>            </a:t>
            </a:r>
            <a:r>
              <a:rPr b="0" lang="en-US" sz="800" spc="-1" strike="noStrike">
                <a:solidFill>
                  <a:srgbClr val="008000"/>
                </a:solidFill>
                <a:latin typeface="Lucida Console"/>
              </a:rPr>
              <a:t>adc1                WORD    1     2     1h   0   RWD  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8000"/>
                </a:solidFill>
                <a:latin typeface="Lucida Console"/>
              </a:rPr>
              <a:t>            </a:t>
            </a:r>
            <a:r>
              <a:rPr b="0" lang="en-US" sz="800" spc="-1" strike="noStrike">
                <a:solidFill>
                  <a:srgbClr val="008000"/>
                </a:solidFill>
                <a:latin typeface="Lucida Console"/>
              </a:rPr>
              <a:t>adc2                WORD    1     2     1h   0   RWD  4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8000"/>
                </a:solidFill>
                <a:latin typeface="Lucida Console"/>
              </a:rPr>
              <a:t>            </a:t>
            </a:r>
            <a:r>
              <a:rPr b="0" lang="en-US" sz="800" spc="-1" strike="noStrike">
                <a:solidFill>
                  <a:srgbClr val="008000"/>
                </a:solidFill>
                <a:latin typeface="Lucida Console"/>
              </a:rPr>
              <a:t>adc3                WORD    1     2     1h   0   RWD  57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8000"/>
                </a:solidFill>
                <a:latin typeface="Lucida Console"/>
              </a:rPr>
              <a:t>        </a:t>
            </a:r>
            <a:r>
              <a:rPr b="0" lang="en-US" sz="800" spc="-1" strike="noStrike">
                <a:solidFill>
                  <a:srgbClr val="008000"/>
                </a:solidFill>
                <a:latin typeface="Lucida Console"/>
              </a:rPr>
              <a:t>TDC0                    WORD    1     2     1h   0   RWD 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8000"/>
                </a:solidFill>
                <a:latin typeface="Lucida Console"/>
              </a:rPr>
              <a:t>                                        </a:t>
            </a:r>
            <a:r>
              <a:rPr b="0" lang="en-US" sz="800" spc="-1" strike="noStrike">
                <a:solidFill>
                  <a:srgbClr val="008000"/>
                </a:solidFill>
                <a:latin typeface="Lucida Console"/>
              </a:rPr>
              <a:t>[0]             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8000"/>
                </a:solidFill>
                <a:latin typeface="Lucida Console"/>
              </a:rPr>
              <a:t>                                        </a:t>
            </a:r>
            <a:r>
              <a:rPr b="0" lang="en-US" sz="800" spc="-1" strike="noStrike">
                <a:solidFill>
                  <a:srgbClr val="008000"/>
                </a:solidFill>
                <a:latin typeface="Lucida Console"/>
              </a:rPr>
              <a:t>[1]             1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8000"/>
                </a:solidFill>
                <a:latin typeface="Lucida Console"/>
              </a:rPr>
              <a:t>                                        </a:t>
            </a:r>
            <a:r>
              <a:rPr b="0" lang="en-US" sz="800" spc="-1" strike="noStrike">
                <a:solidFill>
                  <a:srgbClr val="008000"/>
                </a:solidFill>
                <a:latin typeface="Lucida Console"/>
              </a:rPr>
              <a:t>[2]             1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8000"/>
                </a:solidFill>
                <a:latin typeface="Lucida Console"/>
              </a:rPr>
              <a:t>                                        </a:t>
            </a:r>
            <a:r>
              <a:rPr b="0" lang="en-US" sz="800" spc="-1" strike="noStrike">
                <a:solidFill>
                  <a:srgbClr val="008000"/>
                </a:solidFill>
                <a:latin typeface="Lucida Console"/>
              </a:rPr>
              <a:t>[3]             22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8000"/>
                </a:solidFill>
                <a:latin typeface="Lucida Console"/>
              </a:rPr>
              <a:t>        </a:t>
            </a:r>
            <a:r>
              <a:rPr b="0" lang="en-US" sz="800" spc="-1" strike="noStrike">
                <a:solidFill>
                  <a:srgbClr val="008000"/>
                </a:solidFill>
                <a:latin typeface="Lucida Console"/>
              </a:rPr>
              <a:t>ASUM                    D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8000"/>
                </a:solidFill>
                <a:latin typeface="Lucida Console"/>
              </a:rPr>
              <a:t>            </a:t>
            </a:r>
            <a:r>
              <a:rPr b="0" lang="en-US" sz="800" spc="-1" strike="noStrike">
                <a:solidFill>
                  <a:srgbClr val="008000"/>
                </a:solidFill>
                <a:latin typeface="Lucida Console"/>
              </a:rPr>
              <a:t>Sum                 FLOAT   1     4     3h   0   RWD  13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8000"/>
                </a:solidFill>
                <a:latin typeface="Lucida Console"/>
              </a:rPr>
              <a:t>            </a:t>
            </a:r>
            <a:r>
              <a:rPr b="0" lang="en-US" sz="800" spc="-1" strike="noStrike">
                <a:solidFill>
                  <a:srgbClr val="008000"/>
                </a:solidFill>
                <a:latin typeface="Lucida Console"/>
              </a:rPr>
              <a:t>Average             FLOAT   1     4     3h   0   RWD  329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0" lang="en-US" sz="800" spc="-1" strike="noStrike">
                <a:solidFill>
                  <a:srgbClr val="ff0000"/>
                </a:solidFill>
                <a:latin typeface="Lucida Console"/>
              </a:rPr>
              <a:t>Settings                    D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Lucida Console"/>
              </a:rPr>
              <a:t>        </a:t>
            </a:r>
            <a:r>
              <a:rPr b="0" lang="en-US" sz="800" spc="-1" strike="noStrike">
                <a:solidFill>
                  <a:srgbClr val="ff0000"/>
                </a:solidFill>
                <a:latin typeface="Lucida Console"/>
              </a:rPr>
              <a:t>CAMAC slot              BYTE    1     1     3h   0   RWD 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Lucida Console"/>
              </a:rPr>
              <a:t>    </a:t>
            </a:r>
            <a:r>
              <a:rPr b="0" lang="en-US" sz="800" spc="-1" strike="noStrike">
                <a:solidFill>
                  <a:srgbClr val="3333cc"/>
                </a:solidFill>
                <a:latin typeface="Lucida Console"/>
              </a:rPr>
              <a:t>Common                      D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Lucida Console"/>
              </a:rPr>
              <a:t>        </a:t>
            </a:r>
            <a:r>
              <a:rPr b="0" lang="en-US" sz="800" spc="-1" strike="noStrike">
                <a:solidFill>
                  <a:srgbClr val="3333cc"/>
                </a:solidFill>
                <a:latin typeface="Lucida Console"/>
              </a:rPr>
              <a:t>Event ID                WORD    1     2     1h   0   RWD 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Lucida Console"/>
              </a:rPr>
              <a:t>        </a:t>
            </a:r>
            <a:r>
              <a:rPr b="0" lang="en-US" sz="800" spc="-1" strike="noStrike">
                <a:solidFill>
                  <a:srgbClr val="3333cc"/>
                </a:solidFill>
                <a:latin typeface="Lucida Console"/>
              </a:rPr>
              <a:t>Trigger mask            WORD    1     2     1h   0   RWD 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Lucida Console"/>
              </a:rPr>
              <a:t>        </a:t>
            </a:r>
            <a:r>
              <a:rPr b="0" lang="en-US" sz="800" spc="-1" strike="noStrike">
                <a:solidFill>
                  <a:srgbClr val="3333cc"/>
                </a:solidFill>
                <a:latin typeface="Lucida Console"/>
              </a:rPr>
              <a:t>Buffer                  STRING  1     32    1h   0   RWD  SYST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Lucida Console"/>
              </a:rPr>
              <a:t>        </a:t>
            </a:r>
            <a:r>
              <a:rPr b="0" lang="en-US" sz="800" spc="-1" strike="noStrike">
                <a:solidFill>
                  <a:srgbClr val="3333cc"/>
                </a:solidFill>
                <a:latin typeface="Lucida Console"/>
              </a:rPr>
              <a:t>Type                    INT     1     4     1h   0   RWD 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Lucida Console"/>
              </a:rPr>
              <a:t>        </a:t>
            </a:r>
            <a:r>
              <a:rPr b="0" lang="en-US" sz="800" spc="-1" strike="noStrike">
                <a:solidFill>
                  <a:srgbClr val="3333cc"/>
                </a:solidFill>
                <a:latin typeface="Lucida Console"/>
              </a:rPr>
              <a:t>Source                  INT     1     4     1h   0   RWD  167772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Lucida Console"/>
              </a:rPr>
              <a:t>        </a:t>
            </a:r>
            <a:r>
              <a:rPr b="0" lang="en-US" sz="800" spc="-1" strike="noStrike">
                <a:solidFill>
                  <a:srgbClr val="3333cc"/>
                </a:solidFill>
                <a:latin typeface="Lucida Console"/>
              </a:rPr>
              <a:t>Format                  STRING  1     8     1h   0   RWD  MID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Lucida Console"/>
              </a:rPr>
              <a:t>        </a:t>
            </a:r>
            <a:r>
              <a:rPr b="0" lang="en-US" sz="800" spc="-1" strike="noStrike">
                <a:solidFill>
                  <a:srgbClr val="3333cc"/>
                </a:solidFill>
                <a:latin typeface="Lucida Console"/>
              </a:rPr>
              <a:t>Enabled                 BOOL    1     4     1h   0   RWD  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Lucida Console"/>
              </a:rPr>
              <a:t>        </a:t>
            </a:r>
            <a:r>
              <a:rPr b="0" lang="en-US" sz="800" spc="-1" strike="noStrike">
                <a:solidFill>
                  <a:srgbClr val="3333cc"/>
                </a:solidFill>
                <a:latin typeface="Lucida Console"/>
              </a:rPr>
              <a:t>Read on                 INT     1     4     1h   0   RWD  25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Lucida Console"/>
              </a:rPr>
              <a:t>        </a:t>
            </a:r>
            <a:r>
              <a:rPr b="0" lang="en-US" sz="800" spc="-1" strike="noStrike">
                <a:solidFill>
                  <a:srgbClr val="3333cc"/>
                </a:solidFill>
                <a:latin typeface="Lucida Console"/>
              </a:rPr>
              <a:t>Period                  INT     1     4     1h   0   RWD  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Lucida Console"/>
              </a:rPr>
              <a:t>        </a:t>
            </a:r>
            <a:r>
              <a:rPr b="0" lang="en-US" sz="800" spc="-1" strike="noStrike">
                <a:solidFill>
                  <a:srgbClr val="3333cc"/>
                </a:solidFill>
                <a:latin typeface="Lucida Console"/>
              </a:rPr>
              <a:t>Event limit             DOUBLE  1     8     1h   0   RWD  1e+0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Lucida Console"/>
              </a:rPr>
              <a:t>        </a:t>
            </a:r>
            <a:r>
              <a:rPr b="0" lang="en-US" sz="800" spc="-1" strike="noStrike">
                <a:solidFill>
                  <a:srgbClr val="3333cc"/>
                </a:solidFill>
                <a:latin typeface="Lucida Console"/>
              </a:rPr>
              <a:t>Num subevents           DWORD   1     4     1h   0   RWD 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Lucida Console"/>
              </a:rPr>
              <a:t>        </a:t>
            </a:r>
            <a:r>
              <a:rPr b="0" lang="en-US" sz="800" spc="-1" strike="noStrike">
                <a:solidFill>
                  <a:srgbClr val="3333cc"/>
                </a:solidFill>
                <a:latin typeface="Lucida Console"/>
              </a:rPr>
              <a:t>Log history             INT     1     4     1h   0   RWD 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Lucida Console"/>
              </a:rPr>
              <a:t>        </a:t>
            </a:r>
            <a:r>
              <a:rPr b="0" lang="en-US" sz="800" spc="-1" strike="noStrike">
                <a:solidFill>
                  <a:srgbClr val="3333cc"/>
                </a:solidFill>
                <a:latin typeface="Lucida Console"/>
              </a:rPr>
              <a:t>Frontend host           STRING  1     32    1h   0   RWD  pc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Lucida Console"/>
              </a:rPr>
              <a:t>        </a:t>
            </a:r>
            <a:r>
              <a:rPr b="0" lang="en-US" sz="800" spc="-1" strike="noStrike">
                <a:solidFill>
                  <a:srgbClr val="3333cc"/>
                </a:solidFill>
                <a:latin typeface="Lucida Console"/>
              </a:rPr>
              <a:t>Frontend name           STRING  1     32    1h   0   RWD  Sample Fronte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Lucida Console"/>
              </a:rPr>
              <a:t>        </a:t>
            </a:r>
            <a:r>
              <a:rPr b="0" lang="en-US" sz="800" spc="-1" strike="noStrike">
                <a:solidFill>
                  <a:srgbClr val="3333cc"/>
                </a:solidFill>
                <a:latin typeface="Lucida Console"/>
              </a:rPr>
              <a:t>Frontend file name      STRING  1     256   1h   0   RWD  c:\midas\examples\experiment\frontend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Statistics                  D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Events sent             DOUBLE  1     8     0s   0   RWD  1542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Events per sec.         DOUBLE  1     8     0s   0   RWD  13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kBytes per sec.         DOUBLE  1     8     0s   0   RWD  12.2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6031080" y="212580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6352200" y="2065320"/>
            <a:ext cx="10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mic Sans MS"/>
              </a:rPr>
              <a:t>structu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mic Sans MS"/>
              </a:rPr>
              <a:t>ba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6411960" y="3954600"/>
            <a:ext cx="228600" cy="1752480"/>
          </a:xfrm>
          <a:custGeom>
            <a:avLst/>
            <a:gdLst>
              <a:gd name="textAreaLeft" fmla="*/ 0 w 228600"/>
              <a:gd name="textAreaRight" fmla="*/ 82440 w 22860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6609240" y="4564080"/>
            <a:ext cx="1221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Equi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 flipH="1">
            <a:off x="5878080" y="509760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 flipH="1">
            <a:off x="5878080" y="474984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6031080" y="273528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6319440" y="2658960"/>
            <a:ext cx="118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mic Sans MS"/>
              </a:rPr>
              <a:t>vari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mic Sans MS"/>
              </a:rPr>
              <a:t>length ba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C6AAD-01E3-486A-856C-C0520EA13FA2}" type="slidenum">
              <a:t>8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das Short Course - Real Time 2003 - Montreal - Part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rdware Acces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3276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ndardized hardware access layer makes front-end independent of interfa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cstd.h &amp; esone.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cam8i(const int c, const int n, const int a, const int f, BYTE *d);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cam16i_r(const int c, const int n, const int a, const int f, WORD **d, const int r);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cam16i_sn(const int c, const int n, const int a, const int f, WORD **d, const int r);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vmestd.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vme_open, vme_ioctl, vme_close, vme_read, vme_write, vme_mmap, vme_unma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fbstd.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fb_frd, fb_frc, fb_fwd, fb_fwc, …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1" name=""/>
          <p:cNvSpPr/>
          <p:nvPr/>
        </p:nvSpPr>
        <p:spPr>
          <a:xfrm>
            <a:off x="3657600" y="4724280"/>
            <a:ext cx="182880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vme_read(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2064600" y="4844880"/>
            <a:ext cx="140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ser FE 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1905120" y="5638680"/>
            <a:ext cx="1752480" cy="4572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bt_read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789480" y="571500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t617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5562720" y="5638680"/>
            <a:ext cx="2438280" cy="4572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read(“/dev/vme”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4795560" y="5715000"/>
            <a:ext cx="64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in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 flipH="1">
            <a:off x="3276720" y="5334120"/>
            <a:ext cx="838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4952880" y="533412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E995D-BE89-42BE-A085-3B091AC762AA}" type="slidenum">
              <a:t>8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das Short Course - Real Time 2003 - Montreal - Part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quipment Typ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181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iod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calers, 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rup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igger ev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adout in interrupt routi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ual buffer event transfer to front-end framewor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ll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igger ev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r-supplied polling routi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adout routine can be debugg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aster response time than interrupt on dedicated front-en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lowcontro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V, environment, beam line, 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ad by slow control system driver architectu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51D1B-A8C8-454F-8B97-42F5810549CF}" type="slidenum">
              <a:t>8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das Short Course - Real Time 2003 - Montreal - Part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quipment Defini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2" name=""/>
          <p:cNvSpPr/>
          <p:nvPr/>
        </p:nvSpPr>
        <p:spPr>
          <a:xfrm>
            <a:off x="5105520" y="1251000"/>
            <a:ext cx="3886200" cy="4474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#include "</a:t>
            </a:r>
            <a:r>
              <a:rPr b="0" lang="en-US" sz="800" spc="-1" strike="noStrike">
                <a:solidFill>
                  <a:srgbClr val="ff3300"/>
                </a:solidFill>
                <a:latin typeface="Lucida Console"/>
              </a:rPr>
              <a:t>class/hv.h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"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Lucida Console"/>
              </a:rPr>
              <a:t>#include "device/lrs1440.h"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Lucida Console"/>
              </a:rPr>
              <a:t>#include "device/lrs4032.h"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#include "bus/rs232.h"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/* device driver list *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Lucida Console"/>
              </a:rPr>
              <a:t>DEVICE_DRIVER hv_driver[] = {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3333cc"/>
                </a:solidFill>
                <a:latin typeface="Lucida Console"/>
              </a:rPr>
              <a:t>{ “LRS1440", lrs1440, 8, rs232 }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3333cc"/>
                </a:solidFill>
                <a:latin typeface="Lucida Console"/>
              </a:rPr>
              <a:t>{ “LRS4032", lrs4032, 4, rs232 }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3333cc"/>
                </a:solidFill>
                <a:latin typeface="Lucida Console"/>
              </a:rPr>
              <a:t>{ "" 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Lucida Console"/>
              </a:rPr>
              <a:t>}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EQUIPMENT equipment[] = {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{ "HV",                 /* equipment name *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{ </a:t>
            </a:r>
            <a:r>
              <a:rPr b="0" lang="en-US" sz="800" spc="-1" strike="noStrike">
                <a:solidFill>
                  <a:srgbClr val="00cc66"/>
                </a:solidFill>
                <a:latin typeface="Lucida Console"/>
              </a:rPr>
              <a:t>3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, 0,                 /* event ID, trigger mask *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"SYSTEM",             /* event buffer *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800" spc="-1" strike="noStrike">
                <a:solidFill>
                  <a:srgbClr val="00cc66"/>
                </a:solidFill>
                <a:latin typeface="Lucida Console"/>
              </a:rPr>
              <a:t>EQ_SLOW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,              /* equipment type *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0,                    /* event source *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"FIXED",              /* format *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TRUE,                 /* enabled *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RO_RUNNING |          /* read when running *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RO_TRANSITIONS,       /* and on transitions *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60000,                /* read every 60 sec *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0,                    /* event limit *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0,                    /* number of sub events *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1,                    /* log history every event *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"", "", "", }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800" spc="-1" strike="noStrike">
                <a:solidFill>
                  <a:srgbClr val="ff3300"/>
                </a:solidFill>
                <a:latin typeface="Lucida Console"/>
              </a:rPr>
              <a:t>cd_hv_read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,           /* readout routine *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800" spc="-1" strike="noStrike">
                <a:solidFill>
                  <a:srgbClr val="ff3300"/>
                </a:solidFill>
                <a:latin typeface="Lucida Console"/>
              </a:rPr>
              <a:t>cd_hv,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            /* class driver main routine *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800" spc="-1" strike="noStrike">
                <a:solidFill>
                  <a:srgbClr val="3333cc"/>
                </a:solidFill>
                <a:latin typeface="Lucida Console"/>
              </a:rPr>
              <a:t>hv_driver,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        /* device driver list *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NULL,                 /* init string *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}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{ "" 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}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4876920" y="2089080"/>
            <a:ext cx="501480" cy="2971800"/>
          </a:xfrm>
          <a:custGeom>
            <a:avLst/>
            <a:gdLst/>
            <a:ahLst/>
            <a:rect l="l" t="t" r="r" b="b"/>
            <a:pathLst>
              <a:path w="336" h="2304">
                <a:moveTo>
                  <a:pt x="336" y="2304"/>
                </a:moveTo>
                <a:lnTo>
                  <a:pt x="0" y="2304"/>
                </a:lnTo>
                <a:lnTo>
                  <a:pt x="0" y="0"/>
                </a:lnTo>
                <a:lnTo>
                  <a:pt x="192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68560" y="1258920"/>
            <a:ext cx="4447800" cy="4839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EQUIPMENT equipment[] = {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{ "Trigger",            /* equipment name *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{ </a:t>
            </a:r>
            <a:r>
              <a:rPr b="0" lang="en-US" sz="800" spc="-1" strike="noStrike">
                <a:solidFill>
                  <a:srgbClr val="00cc66"/>
                </a:solidFill>
                <a:latin typeface="Lucida Console"/>
              </a:rPr>
              <a:t>1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, 0,                 /* event ID, trigger mask *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"SYSTEM",             /* event buffer *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800" spc="-1" strike="noStrike">
                <a:solidFill>
                  <a:srgbClr val="00cc66"/>
                </a:solidFill>
                <a:latin typeface="Lucida Console"/>
              </a:rPr>
              <a:t>EQ_POLLED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,            /* equipment type *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LAM_SOURCE(0,0xFFFFFF),/* event source crate 0, all stations *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"MIDAS",              /* format *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TRUE,                 /* enabled *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RO_RUNNING |          /* read only when running *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RO_ODB,               /* and update ODB *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500,                  /* poll for 500ms *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0,                    /* stop run after this event limit *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0,                    /* number of sub events *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0,                    /* don't log history *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"", "", "", }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800" spc="-1" strike="noStrike">
                <a:solidFill>
                  <a:srgbClr val="ff3300"/>
                </a:solidFill>
                <a:latin typeface="Lucida Console"/>
              </a:rPr>
              <a:t>read_trigger_event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,   /* readout routine *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NULL, NULL, NULL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}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{ "Scaler",             /* equipment name *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{ </a:t>
            </a:r>
            <a:r>
              <a:rPr b="0" lang="en-US" sz="800" spc="-1" strike="noStrike">
                <a:solidFill>
                  <a:srgbClr val="00cc66"/>
                </a:solidFill>
                <a:latin typeface="Lucida Console"/>
              </a:rPr>
              <a:t>2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, 0,                 /* event ID, trigger mask *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"SYSTEM",             /* event buffer *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800" spc="-1" strike="noStrike">
                <a:solidFill>
                  <a:srgbClr val="00cc66"/>
                </a:solidFill>
                <a:latin typeface="Lucida Console"/>
              </a:rPr>
              <a:t>EQ_PERIODIC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,          /* equipment type *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0,                    /* event source *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"MIDAS",              /* format *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TRUE,                 /* enabled *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RO_RUNNING |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RO_TRANSITIONS |      /* read when running and on transitions *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RO_ODB,               /* and update ODB *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10000,                /* read every 10 sec *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0,                    /* stop run after this event limit *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0,                    /* number of sub events *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0,                    /* log history *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"", "", "", }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800" spc="-1" strike="noStrike">
                <a:solidFill>
                  <a:srgbClr val="ff3300"/>
                </a:solidFill>
                <a:latin typeface="Lucida Console"/>
              </a:rPr>
              <a:t>read_scaler_event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,    /* readout routine *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NULL, NULL, NULL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}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}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353160" y="934920"/>
            <a:ext cx="169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olled, Periodi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5259960" y="914400"/>
            <a:ext cx="135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lowcontrol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C0CE7-1509-4B62-8CFE-CC533042D668}" type="slidenum">
              <a:t>8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das Short Course - Real Time 2003 - Montreal - Part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"/>
          <p:cNvSpPr/>
          <p:nvPr/>
        </p:nvSpPr>
        <p:spPr>
          <a:xfrm>
            <a:off x="685800" y="2416320"/>
            <a:ext cx="7772400" cy="1469880"/>
          </a:xfrm>
          <a:prstGeom prst="rect">
            <a:avLst/>
          </a:prstGeom>
          <a:solidFill>
            <a:srgbClr val="a2c2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alyzer Frame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9A580-C33A-4046-B5B8-E33841538392}" type="slidenum">
              <a:t>8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das Short Course - Real Time 2003 - Montreal - Part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 is MIDAS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~100.000 lines of C co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ptimized for event-based DAQ, typically nuclear and particle physic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ains driver library for CAMAC, VME, FASTBU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DAS is free and under the GP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wo “main” developers (S. Ritt and P. Amaudruz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port by PSI and TRIUM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"/>
          <p:cNvSpPr/>
          <p:nvPr/>
        </p:nvSpPr>
        <p:spPr>
          <a:xfrm>
            <a:off x="4650120" y="4876920"/>
            <a:ext cx="353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http://midas.triumf.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amaudruz@triumf.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79640" y="4876920"/>
            <a:ext cx="307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http://midas.psi.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Stefan.ritt@psi.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D067B-9759-40EB-935A-74BC6D50CE7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das Short Course - Real Time 2003 - Montreal - Part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DAS analyzer framework (mana.c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omatically receive ev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line (buffer manager), request only certain ev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ffline (read from *.mid fil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rite statistics to OD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nerate hist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BOOK histos and online N-tuples (shared memory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OT histos (socket server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ffli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rite *.rz file with RWNT or CWNT and histo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rite *.root file with TTree and histo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ular concep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t parameters (e.g. calibration constants) from OD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23169-367C-4F06-A03C-F1271C602ED8}" type="slidenum">
              <a:t>9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das Short Course - Real Time 2003 - Montreal - Part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ular concep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11" name="" descr=""/>
          <p:cNvPicPr/>
          <p:nvPr/>
        </p:nvPicPr>
        <p:blipFill>
          <a:blip r:embed="rId1"/>
          <a:stretch/>
        </p:blipFill>
        <p:spPr>
          <a:xfrm>
            <a:off x="1752480" y="1143000"/>
            <a:ext cx="5610240" cy="2886120"/>
          </a:xfrm>
          <a:prstGeom prst="rect">
            <a:avLst/>
          </a:prstGeom>
          <a:ln w="0">
            <a:noFill/>
          </a:ln>
        </p:spPr>
      </p:pic>
      <p:sp>
        <p:nvSpPr>
          <p:cNvPr id="1312" name=""/>
          <p:cNvSpPr/>
          <p:nvPr/>
        </p:nvSpPr>
        <p:spPr>
          <a:xfrm>
            <a:off x="228600" y="4038480"/>
            <a:ext cx="426708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nline data arrives in ban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vents get extended with “calculated” banks by analysis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ach module is independent of oth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pically first calibration modules, finally “physics” modules calculating particle proper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4572000" y="4038480"/>
            <a:ext cx="4267080" cy="23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llaboration agrees on common low-level calibration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-level modules get personal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r-bank switch for N-tuple cre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ach module has its own parameters (mapped to OD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arameters can be changed off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BBA1F-61F2-4E13-B780-3EF0F25CA8A2}" type="slidenum">
              <a:t>9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das Short Course - Real Time 2003 - Montreal - Part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alyzer Examp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5" name=""/>
          <p:cNvSpPr/>
          <p:nvPr/>
        </p:nvSpPr>
        <p:spPr>
          <a:xfrm>
            <a:off x="514080" y="1211400"/>
            <a:ext cx="4021200" cy="5082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ANA_MODULE *</a:t>
            </a:r>
            <a:r>
              <a:rPr b="0" lang="en-US" sz="800" spc="-1" strike="noStrike">
                <a:solidFill>
                  <a:srgbClr val="ff0000"/>
                </a:solidFill>
                <a:latin typeface="Lucida Console"/>
              </a:rPr>
              <a:t>trigger_module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[] = {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&amp;adc_calib_module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&amp;adc_summing_module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NU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}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/*-- Bank definitions --*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ASUM_BANK_STR(asum_bank_str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ADC0_BANK_STR(ana_adc0_bank_str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BANK_LIST </a:t>
            </a:r>
            <a:r>
              <a:rPr b="0" lang="en-US" sz="800" spc="-1" strike="noStrike">
                <a:solidFill>
                  <a:srgbClr val="3333cc"/>
                </a:solidFill>
                <a:latin typeface="Lucida Console"/>
              </a:rPr>
              <a:t>ana_trigger_bank_list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[] = {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/* online banks *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{ "ADC0", TID_STRUCT, sizeof(ADC0_BANK), ana_adc0_bank_str }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{ "TDC0", TID_WORD, N_TDC, NULL }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/* calculated banks *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{ "CADC", TID_FLOAT, N_ADC, NULL }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{ "ASUM", TID_STRUCT, sizeof(ASUM_BANK), asum_bank_str }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{ "" }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}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/*-- Event request list --*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ANALYZE_REQUEST analyze_request[] = {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{ "Trigger",            /* equipment name *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{ 1,                    /* event ID *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TRIGGER_ALL,          /* trigger mask *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800" spc="-1" strike="noStrike">
                <a:solidFill>
                  <a:srgbClr val="008000"/>
                </a:solidFill>
                <a:latin typeface="Lucida Console"/>
              </a:rPr>
              <a:t>GET_SOME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,             /* get some events *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"SYSTEM",             /* event buffer *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TRUE,                 /* enabled *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"", "", }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NULL,                 /* analyzer routine *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800" spc="-1" strike="noStrike">
                <a:solidFill>
                  <a:srgbClr val="ff0000"/>
                </a:solidFill>
                <a:latin typeface="Lucida Console"/>
              </a:rPr>
              <a:t>trigger_module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,       /* module list *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800" spc="-1" strike="noStrike">
                <a:solidFill>
                  <a:srgbClr val="3333cc"/>
                </a:solidFill>
                <a:latin typeface="Lucida Console"/>
              </a:rPr>
              <a:t>ana_trigger_bank_list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,/* bank list *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1000,                 /* RWNT buffer size *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TRUE,                 /* Use tests for this event *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}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}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5131080" y="1224000"/>
            <a:ext cx="3434400" cy="5102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cc9900"/>
                </a:solidFill>
                <a:latin typeface="Lucida Console"/>
              </a:rPr>
              <a:t>ADC_SUMMING_PARAM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700" spc="-1" strike="noStrike">
                <a:solidFill>
                  <a:srgbClr val="cc9900"/>
                </a:solidFill>
                <a:latin typeface="Lucida Console"/>
              </a:rPr>
              <a:t>adc_summing_param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ADC_SUMMING_PARAM_STR(adc_summing_param_str)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ANA_MODULE adc_summing_module = {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"ADC summing",                 /* module name           *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333cc"/>
                </a:solidFill>
                <a:latin typeface="Lucida Console"/>
              </a:rPr>
              <a:t>  </a:t>
            </a:r>
            <a:r>
              <a:rPr b="0" lang="en-US" sz="700" spc="-1" strike="noStrike">
                <a:solidFill>
                  <a:srgbClr val="3333cc"/>
                </a:solidFill>
                <a:latin typeface="Lucida Console"/>
              </a:rPr>
              <a:t>adc_summing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,                   /* event routine         *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700" spc="-1" strike="noStrike">
                <a:solidFill>
                  <a:srgbClr val="ff0000"/>
                </a:solidFill>
                <a:latin typeface="Lucida Console"/>
              </a:rPr>
              <a:t>adc_summing_init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,              /* init routine          *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&amp;</a:t>
            </a:r>
            <a:r>
              <a:rPr b="0" lang="en-US" sz="700" spc="-1" strike="noStrike">
                <a:solidFill>
                  <a:srgbClr val="cc9900"/>
                </a:solidFill>
                <a:latin typeface="Lucida Console"/>
              </a:rPr>
              <a:t>adc_summing_param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,            /* parameter structure   *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sizeof(adc_summing_param),     /* structure size        *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adc_summing_param_str,         /* initial parameters    *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}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static TH1F *</a:t>
            </a:r>
            <a:r>
              <a:rPr b="0" lang="en-US" sz="700" spc="-1" strike="noStrike">
                <a:solidFill>
                  <a:srgbClr val="008000"/>
                </a:solidFill>
                <a:latin typeface="Lucida Console"/>
              </a:rPr>
              <a:t>gAdcSumHist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INT </a:t>
            </a:r>
            <a:r>
              <a:rPr b="0" lang="en-US" sz="700" spc="-1" strike="noStrike">
                <a:solidFill>
                  <a:srgbClr val="ff0000"/>
                </a:solidFill>
                <a:latin typeface="Lucida Console"/>
              </a:rPr>
              <a:t>adc_summing_init(void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) {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/* book ADCSUM histo *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700" spc="-1" strike="noStrike">
                <a:solidFill>
                  <a:srgbClr val="008000"/>
                </a:solidFill>
                <a:latin typeface="Lucida Console"/>
              </a:rPr>
              <a:t>gAdcSumHist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= new TH1F("ADCSUM", "ADC sum", 500, 0, 10000)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return SUCCESS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INT </a:t>
            </a:r>
            <a:r>
              <a:rPr b="0" lang="en-US" sz="700" spc="-1" strike="noStrike">
                <a:solidFill>
                  <a:srgbClr val="3333cc"/>
                </a:solidFill>
                <a:latin typeface="Lucida Console"/>
              </a:rPr>
              <a:t>adc_summing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(EVENT_HEADER *pheader, void *pevent) {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INT          i, j, n_adc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float        *cadc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ASUM_BANK    *asum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/* locate CADC bank, create ASUM bank *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n_adc = bk_locate(pevent, "CADC", &amp;cadc)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bk_create(pevent, "ASUM", TID_STRUCT, &amp;asum)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/* sum all channels above threashold *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asum-&gt;sum = 0.f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for (i=j=0 ; i&lt;n_adc ; i++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if (cadc[i] &gt; </a:t>
            </a:r>
            <a:r>
              <a:rPr b="0" lang="en-US" sz="700" spc="-1" strike="noStrike">
                <a:solidFill>
                  <a:srgbClr val="cc9900"/>
                </a:solidFill>
                <a:latin typeface="Lucida Console"/>
              </a:rPr>
              <a:t>adc_summing_param.adc_threshold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) {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asum-&gt;sum += cadc[i]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j++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/* calculate ADC average *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asum-&gt;average = j &gt; 0 ? asum-&gt;sum / j : 0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/* fill sum histo *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700" spc="-1" strike="noStrike">
                <a:solidFill>
                  <a:srgbClr val="008000"/>
                </a:solidFill>
                <a:latin typeface="Lucida Console"/>
              </a:rPr>
              <a:t>gAdcSumHist-&gt;Fill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(asum-&gt;sum, 1)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/* close calculated bank *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bk_close(pevent, asum+1)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return SUCCESS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1981080" y="1600200"/>
            <a:ext cx="2819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4876920" y="1600200"/>
            <a:ext cx="228600" cy="8380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667440" y="82224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alyzer.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6365880" y="838080"/>
            <a:ext cx="13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csum.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3B9E1-1FD5-451D-8712-3A294FCFC81F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das Short Course - Real Time 2003 - Montreal - Part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"/>
          <p:cNvSpPr/>
          <p:nvPr/>
        </p:nvSpPr>
        <p:spPr>
          <a:xfrm>
            <a:off x="3657600" y="5060880"/>
            <a:ext cx="182880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648320" y="5137200"/>
            <a:ext cx="609480" cy="380880"/>
          </a:xfrm>
          <a:prstGeom prst="flowChartPunchedTap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CAD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886200" y="5137200"/>
            <a:ext cx="533520" cy="380880"/>
          </a:xfrm>
          <a:prstGeom prst="flowChartPunchedTap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D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3657600" y="1066680"/>
            <a:ext cx="1828800" cy="914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ffline analys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6" name=""/>
          <p:cNvSpPr/>
          <p:nvPr/>
        </p:nvSpPr>
        <p:spPr>
          <a:xfrm>
            <a:off x="3733920" y="1568520"/>
            <a:ext cx="533160" cy="291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D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4267080" y="1568520"/>
            <a:ext cx="533520" cy="291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D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800600" y="1568520"/>
            <a:ext cx="609480" cy="291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2330640" y="137160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un123.m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3886200" y="2394000"/>
            <a:ext cx="1295280" cy="68580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naly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6095880" y="2317680"/>
            <a:ext cx="1371600" cy="9144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O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4800600" y="1447920"/>
            <a:ext cx="1600200" cy="1098360"/>
          </a:xfrm>
          <a:custGeom>
            <a:avLst/>
            <a:gdLst/>
            <a:ahLst/>
            <a:rect l="l" t="t" r="r" b="b"/>
            <a:pathLst>
              <a:path w="864" h="672">
                <a:moveTo>
                  <a:pt x="0" y="0"/>
                </a:moveTo>
                <a:lnTo>
                  <a:pt x="0" y="672"/>
                </a:lnTo>
                <a:lnTo>
                  <a:pt x="864" y="672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4800600" y="3613320"/>
            <a:ext cx="533520" cy="304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CAD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5334120" y="3613320"/>
            <a:ext cx="533160" cy="304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MW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5" name=""/>
          <p:cNvGrpSpPr/>
          <p:nvPr/>
        </p:nvGrpSpPr>
        <p:grpSpPr>
          <a:xfrm>
            <a:off x="3200400" y="3613320"/>
            <a:ext cx="1600200" cy="304200"/>
            <a:chOff x="3200400" y="3613320"/>
            <a:chExt cx="1600200" cy="304200"/>
          </a:xfrm>
        </p:grpSpPr>
        <p:sp>
          <p:nvSpPr>
            <p:cNvPr id="1336" name=""/>
            <p:cNvSpPr/>
            <p:nvPr/>
          </p:nvSpPr>
          <p:spPr>
            <a:xfrm>
              <a:off x="3200400" y="3613320"/>
              <a:ext cx="533520" cy="304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AD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3733920" y="3613320"/>
              <a:ext cx="533160" cy="304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TD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4267080" y="3613320"/>
              <a:ext cx="533520" cy="304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PC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9" name=""/>
          <p:cNvSpPr/>
          <p:nvPr/>
        </p:nvSpPr>
        <p:spPr>
          <a:xfrm>
            <a:off x="3962520" y="39178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5105520" y="39178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4572000" y="2057400"/>
            <a:ext cx="0" cy="336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4572000" y="307980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2360880" y="5029200"/>
            <a:ext cx="109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un123.r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994680" y="2470320"/>
            <a:ext cx="275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nalyzer read online ban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nd adds calculated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609480" y="4022640"/>
            <a:ext cx="297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lected banks a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nverted to N-tupl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nd written to output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5562720" y="53658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400800" y="4984920"/>
            <a:ext cx="167652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A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5257800" y="2774880"/>
            <a:ext cx="762120" cy="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513720" y="6111720"/>
            <a:ext cx="391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analyzer –i run123.mid –o run123.r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3733920" y="1143000"/>
            <a:ext cx="1676160" cy="2919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ODB du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2349720" y="52578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un123.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55EB6-C827-423D-86FA-9158884BD8A2}" type="slidenum">
              <a:t>9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das Short Course - Real Time 2003 - Montreal - Part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ibration consta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3" name=""/>
          <p:cNvSpPr/>
          <p:nvPr/>
        </p:nvSpPr>
        <p:spPr>
          <a:xfrm>
            <a:off x="914400" y="1752480"/>
            <a:ext cx="1828800" cy="60984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naly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3733920" y="1600200"/>
            <a:ext cx="1371600" cy="9144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O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2895480" y="2057400"/>
            <a:ext cx="762120" cy="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5254560" y="1676520"/>
            <a:ext cx="3594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/analyzer/parameters/ADC su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ADC threshold =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3429000" y="3048120"/>
            <a:ext cx="1981080" cy="533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un123.m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4419720" y="25146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4464360" y="2590920"/>
            <a:ext cx="99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lo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914400" y="990720"/>
            <a:ext cx="182880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914400" y="3800520"/>
            <a:ext cx="182880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ff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914400" y="4952880"/>
            <a:ext cx="1828800" cy="60984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naly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3733920" y="4800600"/>
            <a:ext cx="1371600" cy="9144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O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895480" y="5257800"/>
            <a:ext cx="762120" cy="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380880" y="365760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419720" y="35812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4494600" y="4038480"/>
            <a:ext cx="98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naly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629400" y="4648320"/>
            <a:ext cx="1219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calib.o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 flipH="1">
            <a:off x="5105160" y="525780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511920" y="6111720"/>
            <a:ext cx="530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analyzer –i run123.mid –o run123.rz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–c calib.o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5655960" y="5029200"/>
            <a:ext cx="3289680" cy="459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[/Analyzer/Parameters/ADC summing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ADC threshold = FLOAT :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5841720" y="3429000"/>
            <a:ext cx="2893320" cy="8240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riginal online constants 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aded from *.mid file bu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n be overloa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69AF2-49BB-4914-A925-6310413C1C7B}" type="slidenum">
              <a:t>9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das Short Course - Real Time 2003 - Montreal - Part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DB sections for analyz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74" name=""/>
          <p:cNvGraphicFramePr/>
          <p:nvPr/>
        </p:nvGraphicFramePr>
        <p:xfrm>
          <a:off x="685800" y="1143000"/>
          <a:ext cx="7772400" cy="482616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/Equipment/&lt;name&gt;/Variab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tains the event definition of a specific event. [name] can be "trigger", "scaler", "hv" and so on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/Runinf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tains information about the current run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/Analyzer/Module Switches/&lt;module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nable switches for all modules. A "0" switches a module off during analysis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/Analyzer/Parameters/&lt;module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tains parameters for all analyzer modules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/Analyzer/Bank Switch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utput flags for all banks. A "1" indicates that the given bank should be included in the analyzer output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/Analyzer/Outp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fo about the analyzer output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02173-6BC8-45D8-8CFB-4E236849E898}" type="slidenum">
              <a:t>9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das Short Course - Real Time 2003 - Montreal - Part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 structure – ODB mapp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6" name=""/>
          <p:cNvSpPr/>
          <p:nvPr/>
        </p:nvSpPr>
        <p:spPr>
          <a:xfrm>
            <a:off x="533520" y="1042920"/>
            <a:ext cx="1168200" cy="368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ron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7361280" y="1042920"/>
            <a:ext cx="1105920" cy="368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alyz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380880" y="1752480"/>
            <a:ext cx="1371600" cy="1140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typedef struct {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WORD   adc0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WORD   adc1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WORD   adc2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WORD   adc3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} ADC0_BANK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171160" y="1143000"/>
            <a:ext cx="4752720" cy="155412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/Equipment/Trigger/Variables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Key name                        Type    #Val  Size  Last Opn Mode Val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--------------------------------------------------------------------------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Variables                       D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ADC0                        D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adc0                    WORD    1     2     22h  0   RWD  8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adc1                    WORD    1     2     22h  0   RWD  1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adc2                    WORD    1     2     22h  0   RWD  7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adc3                    WORD    1     2     22h  0   RWD  64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ASUM                        D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Sum                     FLOAT   1     4     4h   0   RWD  425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Average                 FLOAT   1     4     4h   0   RWD  141.8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7162920" y="1828800"/>
            <a:ext cx="1371600" cy="770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typedef struct {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float   sum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float   average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} ADC0_BANK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 flipV="1">
            <a:off x="1828800" y="2057040"/>
            <a:ext cx="609480" cy="228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 flipV="1">
            <a:off x="6705720" y="2209320"/>
            <a:ext cx="380880" cy="304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2144160" y="3048120"/>
            <a:ext cx="4752720" cy="70236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/Equipment/Trigger/Settings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Key name                        Type    #Val  Size  Last Opn Mode Val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--------------------------------------------------------------------------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ADC slot                        WORD    1     2     22h  0   RWD   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TDC slot                        WORD    1     2     22h  0   RWD   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380880" y="3352680"/>
            <a:ext cx="1371600" cy="770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typedef struct {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WORD   adc_slo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WORD   tdc_slo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} TRIGGER_SETTINGS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 flipV="1">
            <a:off x="1676520" y="3657240"/>
            <a:ext cx="457200" cy="152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2144160" y="4114800"/>
            <a:ext cx="4752720" cy="70236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/Analyzer/Parameters/ADC summing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Key name                        Type    #Val  Size  Last Opn Mode Val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--------------------------------------------------------------------------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ADC threshold                   FLOAT   1     2     22h  0   RWD   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Pedestal                        FLOAT   1     2     22h  0   RWD   -3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7238880" y="4038480"/>
            <a:ext cx="1600200" cy="770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typedef struct {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float adc threshold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float pedestal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} ADC_SUMMING_PARAM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 flipV="1">
            <a:off x="6705720" y="4419360"/>
            <a:ext cx="609480" cy="228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380880" y="5181480"/>
            <a:ext cx="4038840" cy="1078200"/>
          </a:xfrm>
          <a:prstGeom prst="rect">
            <a:avLst/>
          </a:prstGeom>
          <a:solidFill>
            <a:srgbClr val="99ccff"/>
          </a:solidFill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reate ODB en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ter “make” in ODBEd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600" spc="-1" strike="noStrike">
                <a:solidFill>
                  <a:srgbClr val="800000"/>
                </a:solidFill>
                <a:latin typeface="Comic Sans MS"/>
              </a:rPr>
              <a:t>experim.h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” is automatically cre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6700680" y="5454720"/>
            <a:ext cx="10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e als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5709960" y="5791320"/>
            <a:ext cx="3129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http://pibeta.web.psi.ch/handbook/analyzer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68ED1-098D-483C-AE92-354662970B60}" type="slidenum">
              <a:t>9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das Short Course - Real Time 2003 - Montreal - Part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"/>
          <p:cNvSpPr/>
          <p:nvPr/>
        </p:nvSpPr>
        <p:spPr>
          <a:xfrm>
            <a:off x="3657600" y="3581280"/>
            <a:ext cx="1828800" cy="274320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simple experiment,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nt-end +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lyzer +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gger are combined in single proc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oid overhead of inter-process communic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ly single process needs to be start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advantage: crashing analyzer stops DAQ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5" name=""/>
          <p:cNvSpPr/>
          <p:nvPr/>
        </p:nvSpPr>
        <p:spPr>
          <a:xfrm>
            <a:off x="4038480" y="3809880"/>
            <a:ext cx="1067040" cy="457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ront-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4038480" y="4724280"/>
            <a:ext cx="106704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naly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4038480" y="5638680"/>
            <a:ext cx="106704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4572000" y="4267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4572000" y="5181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5181480" y="4952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6094800" y="478944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A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5181480" y="5867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048360" y="570384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un123.m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276720" y="40384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2182320" y="3854520"/>
            <a:ext cx="110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ard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3809880" y="3657600"/>
            <a:ext cx="762120" cy="2514600"/>
          </a:xfrm>
          <a:custGeom>
            <a:avLst/>
            <a:gdLst/>
            <a:ahLst/>
            <a:rect l="l" t="t" r="r" b="b"/>
            <a:pathLst>
              <a:path w="480" h="1584">
                <a:moveTo>
                  <a:pt x="480" y="1536"/>
                </a:moveTo>
                <a:lnTo>
                  <a:pt x="480" y="1584"/>
                </a:lnTo>
                <a:lnTo>
                  <a:pt x="0" y="1584"/>
                </a:lnTo>
                <a:lnTo>
                  <a:pt x="0" y="0"/>
                </a:lnTo>
                <a:lnTo>
                  <a:pt x="480" y="0"/>
                </a:lnTo>
                <a:lnTo>
                  <a:pt x="480" y="9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A9E56-D687-41DB-98E6-5BBAB528CFDD}" type="slidenum">
              <a:t>9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das Short Course - Real Time 2003 - Montreal - Part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istogram” readou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8098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vent-based readou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DC/TDC read by fronten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lled/interrupt even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alyzer does histogram filling in softwa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47960" y="1143000"/>
            <a:ext cx="38098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istogram readou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istograms filled in hardwa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eriodic even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alyzer displays histo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0" name=""/>
          <p:cNvSpPr/>
          <p:nvPr/>
        </p:nvSpPr>
        <p:spPr>
          <a:xfrm>
            <a:off x="1447920" y="3762360"/>
            <a:ext cx="4572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2209680" y="3762360"/>
            <a:ext cx="4572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D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1828800" y="4295880"/>
            <a:ext cx="457200" cy="304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1523880" y="5819760"/>
            <a:ext cx="1067040" cy="457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naly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6172200" y="3762360"/>
            <a:ext cx="4572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6934320" y="3762360"/>
            <a:ext cx="4572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D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6553080" y="4981680"/>
            <a:ext cx="457200" cy="304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6248520" y="5819760"/>
            <a:ext cx="1066680" cy="457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naly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8" name=""/>
          <p:cNvGrpSpPr/>
          <p:nvPr/>
        </p:nvGrpSpPr>
        <p:grpSpPr>
          <a:xfrm>
            <a:off x="6477120" y="4295880"/>
            <a:ext cx="609480" cy="465120"/>
            <a:chOff x="6477120" y="4295880"/>
            <a:chExt cx="609480" cy="465120"/>
          </a:xfrm>
        </p:grpSpPr>
        <p:sp>
          <p:nvSpPr>
            <p:cNvPr id="1419" name=""/>
            <p:cNvSpPr/>
            <p:nvPr/>
          </p:nvSpPr>
          <p:spPr>
            <a:xfrm>
              <a:off x="6477120" y="4295880"/>
              <a:ext cx="609480" cy="46512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6505920" y="4324680"/>
              <a:ext cx="551520" cy="407160"/>
            </a:xfrm>
            <a:custGeom>
              <a:avLst/>
              <a:gdLst/>
              <a:ahLst/>
              <a:rect l="l" t="t" r="r" b="b"/>
              <a:pathLst>
                <a:path w="912" h="672">
                  <a:moveTo>
                    <a:pt x="0" y="624"/>
                  </a:moveTo>
                  <a:lnTo>
                    <a:pt x="0" y="336"/>
                  </a:lnTo>
                  <a:lnTo>
                    <a:pt x="48" y="336"/>
                  </a:lnTo>
                  <a:lnTo>
                    <a:pt x="48" y="480"/>
                  </a:lnTo>
                  <a:lnTo>
                    <a:pt x="96" y="480"/>
                  </a:lnTo>
                  <a:lnTo>
                    <a:pt x="96" y="192"/>
                  </a:lnTo>
                  <a:lnTo>
                    <a:pt x="144" y="192"/>
                  </a:lnTo>
                  <a:lnTo>
                    <a:pt x="144" y="288"/>
                  </a:lnTo>
                  <a:lnTo>
                    <a:pt x="192" y="288"/>
                  </a:lnTo>
                  <a:lnTo>
                    <a:pt x="192" y="144"/>
                  </a:lnTo>
                  <a:lnTo>
                    <a:pt x="240" y="144"/>
                  </a:lnTo>
                  <a:lnTo>
                    <a:pt x="240" y="48"/>
                  </a:lnTo>
                  <a:lnTo>
                    <a:pt x="288" y="48"/>
                  </a:lnTo>
                  <a:lnTo>
                    <a:pt x="288" y="0"/>
                  </a:lnTo>
                  <a:lnTo>
                    <a:pt x="336" y="0"/>
                  </a:lnTo>
                  <a:lnTo>
                    <a:pt x="336" y="192"/>
                  </a:lnTo>
                  <a:lnTo>
                    <a:pt x="384" y="192"/>
                  </a:lnTo>
                  <a:lnTo>
                    <a:pt x="384" y="144"/>
                  </a:lnTo>
                  <a:lnTo>
                    <a:pt x="432" y="144"/>
                  </a:lnTo>
                  <a:lnTo>
                    <a:pt x="432" y="384"/>
                  </a:lnTo>
                  <a:lnTo>
                    <a:pt x="480" y="384"/>
                  </a:lnTo>
                  <a:lnTo>
                    <a:pt x="480" y="336"/>
                  </a:lnTo>
                  <a:lnTo>
                    <a:pt x="528" y="336"/>
                  </a:lnTo>
                  <a:lnTo>
                    <a:pt x="528" y="384"/>
                  </a:lnTo>
                  <a:lnTo>
                    <a:pt x="576" y="384"/>
                  </a:lnTo>
                  <a:lnTo>
                    <a:pt x="576" y="480"/>
                  </a:lnTo>
                  <a:lnTo>
                    <a:pt x="624" y="480"/>
                  </a:lnTo>
                  <a:lnTo>
                    <a:pt x="624" y="576"/>
                  </a:lnTo>
                  <a:lnTo>
                    <a:pt x="672" y="576"/>
                  </a:lnTo>
                  <a:lnTo>
                    <a:pt x="672" y="528"/>
                  </a:lnTo>
                  <a:lnTo>
                    <a:pt x="720" y="528"/>
                  </a:lnTo>
                  <a:lnTo>
                    <a:pt x="720" y="576"/>
                  </a:lnTo>
                  <a:lnTo>
                    <a:pt x="768" y="576"/>
                  </a:lnTo>
                  <a:lnTo>
                    <a:pt x="768" y="624"/>
                  </a:lnTo>
                  <a:lnTo>
                    <a:pt x="816" y="624"/>
                  </a:lnTo>
                  <a:lnTo>
                    <a:pt x="816" y="576"/>
                  </a:lnTo>
                  <a:lnTo>
                    <a:pt x="864" y="576"/>
                  </a:lnTo>
                  <a:lnTo>
                    <a:pt x="864" y="624"/>
                  </a:lnTo>
                  <a:lnTo>
                    <a:pt x="912" y="624"/>
                  </a:lnTo>
                  <a:lnTo>
                    <a:pt x="912" y="672"/>
                  </a:lnTo>
                  <a:lnTo>
                    <a:pt x="0" y="672"/>
                  </a:lnTo>
                  <a:lnTo>
                    <a:pt x="0" y="6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1" name=""/>
          <p:cNvGrpSpPr/>
          <p:nvPr/>
        </p:nvGrpSpPr>
        <p:grpSpPr>
          <a:xfrm>
            <a:off x="3124080" y="5743440"/>
            <a:ext cx="762120" cy="581040"/>
            <a:chOff x="3124080" y="5743440"/>
            <a:chExt cx="762120" cy="581040"/>
          </a:xfrm>
        </p:grpSpPr>
        <p:sp>
          <p:nvSpPr>
            <p:cNvPr id="1422" name=""/>
            <p:cNvSpPr/>
            <p:nvPr/>
          </p:nvSpPr>
          <p:spPr>
            <a:xfrm>
              <a:off x="3124080" y="5743440"/>
              <a:ext cx="762120" cy="58104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3160080" y="5779440"/>
              <a:ext cx="689400" cy="508680"/>
            </a:xfrm>
            <a:custGeom>
              <a:avLst/>
              <a:gdLst/>
              <a:ahLst/>
              <a:rect l="l" t="t" r="r" b="b"/>
              <a:pathLst>
                <a:path w="912" h="672">
                  <a:moveTo>
                    <a:pt x="0" y="624"/>
                  </a:moveTo>
                  <a:lnTo>
                    <a:pt x="0" y="336"/>
                  </a:lnTo>
                  <a:lnTo>
                    <a:pt x="48" y="336"/>
                  </a:lnTo>
                  <a:lnTo>
                    <a:pt x="48" y="480"/>
                  </a:lnTo>
                  <a:lnTo>
                    <a:pt x="96" y="480"/>
                  </a:lnTo>
                  <a:lnTo>
                    <a:pt x="96" y="192"/>
                  </a:lnTo>
                  <a:lnTo>
                    <a:pt x="144" y="192"/>
                  </a:lnTo>
                  <a:lnTo>
                    <a:pt x="144" y="288"/>
                  </a:lnTo>
                  <a:lnTo>
                    <a:pt x="192" y="288"/>
                  </a:lnTo>
                  <a:lnTo>
                    <a:pt x="192" y="144"/>
                  </a:lnTo>
                  <a:lnTo>
                    <a:pt x="240" y="144"/>
                  </a:lnTo>
                  <a:lnTo>
                    <a:pt x="240" y="48"/>
                  </a:lnTo>
                  <a:lnTo>
                    <a:pt x="288" y="48"/>
                  </a:lnTo>
                  <a:lnTo>
                    <a:pt x="288" y="0"/>
                  </a:lnTo>
                  <a:lnTo>
                    <a:pt x="336" y="0"/>
                  </a:lnTo>
                  <a:lnTo>
                    <a:pt x="336" y="192"/>
                  </a:lnTo>
                  <a:lnTo>
                    <a:pt x="384" y="192"/>
                  </a:lnTo>
                  <a:lnTo>
                    <a:pt x="384" y="144"/>
                  </a:lnTo>
                  <a:lnTo>
                    <a:pt x="432" y="144"/>
                  </a:lnTo>
                  <a:lnTo>
                    <a:pt x="432" y="384"/>
                  </a:lnTo>
                  <a:lnTo>
                    <a:pt x="480" y="384"/>
                  </a:lnTo>
                  <a:lnTo>
                    <a:pt x="480" y="336"/>
                  </a:lnTo>
                  <a:lnTo>
                    <a:pt x="528" y="336"/>
                  </a:lnTo>
                  <a:lnTo>
                    <a:pt x="528" y="384"/>
                  </a:lnTo>
                  <a:lnTo>
                    <a:pt x="576" y="384"/>
                  </a:lnTo>
                  <a:lnTo>
                    <a:pt x="576" y="480"/>
                  </a:lnTo>
                  <a:lnTo>
                    <a:pt x="624" y="480"/>
                  </a:lnTo>
                  <a:lnTo>
                    <a:pt x="624" y="576"/>
                  </a:lnTo>
                  <a:lnTo>
                    <a:pt x="672" y="576"/>
                  </a:lnTo>
                  <a:lnTo>
                    <a:pt x="672" y="528"/>
                  </a:lnTo>
                  <a:lnTo>
                    <a:pt x="720" y="528"/>
                  </a:lnTo>
                  <a:lnTo>
                    <a:pt x="720" y="576"/>
                  </a:lnTo>
                  <a:lnTo>
                    <a:pt x="768" y="576"/>
                  </a:lnTo>
                  <a:lnTo>
                    <a:pt x="768" y="624"/>
                  </a:lnTo>
                  <a:lnTo>
                    <a:pt x="816" y="624"/>
                  </a:lnTo>
                  <a:lnTo>
                    <a:pt x="816" y="576"/>
                  </a:lnTo>
                  <a:lnTo>
                    <a:pt x="864" y="576"/>
                  </a:lnTo>
                  <a:lnTo>
                    <a:pt x="864" y="624"/>
                  </a:lnTo>
                  <a:lnTo>
                    <a:pt x="912" y="624"/>
                  </a:lnTo>
                  <a:lnTo>
                    <a:pt x="912" y="672"/>
                  </a:lnTo>
                  <a:lnTo>
                    <a:pt x="0" y="672"/>
                  </a:lnTo>
                  <a:lnTo>
                    <a:pt x="0" y="6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4" name=""/>
          <p:cNvSpPr/>
          <p:nvPr/>
        </p:nvSpPr>
        <p:spPr>
          <a:xfrm>
            <a:off x="1676520" y="40672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 flipH="1">
            <a:off x="2209320" y="40672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2057400" y="460044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2590920" y="604836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8" name=""/>
          <p:cNvGrpSpPr/>
          <p:nvPr/>
        </p:nvGrpSpPr>
        <p:grpSpPr>
          <a:xfrm>
            <a:off x="7848720" y="5743440"/>
            <a:ext cx="761760" cy="581040"/>
            <a:chOff x="7848720" y="5743440"/>
            <a:chExt cx="761760" cy="581040"/>
          </a:xfrm>
        </p:grpSpPr>
        <p:sp>
          <p:nvSpPr>
            <p:cNvPr id="1429" name=""/>
            <p:cNvSpPr/>
            <p:nvPr/>
          </p:nvSpPr>
          <p:spPr>
            <a:xfrm>
              <a:off x="7848720" y="5743440"/>
              <a:ext cx="761760" cy="58104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7884720" y="5779440"/>
              <a:ext cx="689040" cy="508680"/>
            </a:xfrm>
            <a:custGeom>
              <a:avLst/>
              <a:gdLst/>
              <a:ahLst/>
              <a:rect l="l" t="t" r="r" b="b"/>
              <a:pathLst>
                <a:path w="912" h="672">
                  <a:moveTo>
                    <a:pt x="0" y="624"/>
                  </a:moveTo>
                  <a:lnTo>
                    <a:pt x="0" y="336"/>
                  </a:lnTo>
                  <a:lnTo>
                    <a:pt x="48" y="336"/>
                  </a:lnTo>
                  <a:lnTo>
                    <a:pt x="48" y="480"/>
                  </a:lnTo>
                  <a:lnTo>
                    <a:pt x="96" y="480"/>
                  </a:lnTo>
                  <a:lnTo>
                    <a:pt x="96" y="192"/>
                  </a:lnTo>
                  <a:lnTo>
                    <a:pt x="144" y="192"/>
                  </a:lnTo>
                  <a:lnTo>
                    <a:pt x="144" y="288"/>
                  </a:lnTo>
                  <a:lnTo>
                    <a:pt x="192" y="288"/>
                  </a:lnTo>
                  <a:lnTo>
                    <a:pt x="192" y="144"/>
                  </a:lnTo>
                  <a:lnTo>
                    <a:pt x="240" y="144"/>
                  </a:lnTo>
                  <a:lnTo>
                    <a:pt x="240" y="48"/>
                  </a:lnTo>
                  <a:lnTo>
                    <a:pt x="288" y="48"/>
                  </a:lnTo>
                  <a:lnTo>
                    <a:pt x="288" y="0"/>
                  </a:lnTo>
                  <a:lnTo>
                    <a:pt x="336" y="0"/>
                  </a:lnTo>
                  <a:lnTo>
                    <a:pt x="336" y="192"/>
                  </a:lnTo>
                  <a:lnTo>
                    <a:pt x="384" y="192"/>
                  </a:lnTo>
                  <a:lnTo>
                    <a:pt x="384" y="144"/>
                  </a:lnTo>
                  <a:lnTo>
                    <a:pt x="432" y="144"/>
                  </a:lnTo>
                  <a:lnTo>
                    <a:pt x="432" y="384"/>
                  </a:lnTo>
                  <a:lnTo>
                    <a:pt x="480" y="384"/>
                  </a:lnTo>
                  <a:lnTo>
                    <a:pt x="480" y="336"/>
                  </a:lnTo>
                  <a:lnTo>
                    <a:pt x="528" y="336"/>
                  </a:lnTo>
                  <a:lnTo>
                    <a:pt x="528" y="384"/>
                  </a:lnTo>
                  <a:lnTo>
                    <a:pt x="576" y="384"/>
                  </a:lnTo>
                  <a:lnTo>
                    <a:pt x="576" y="480"/>
                  </a:lnTo>
                  <a:lnTo>
                    <a:pt x="624" y="480"/>
                  </a:lnTo>
                  <a:lnTo>
                    <a:pt x="624" y="576"/>
                  </a:lnTo>
                  <a:lnTo>
                    <a:pt x="672" y="576"/>
                  </a:lnTo>
                  <a:lnTo>
                    <a:pt x="672" y="528"/>
                  </a:lnTo>
                  <a:lnTo>
                    <a:pt x="720" y="528"/>
                  </a:lnTo>
                  <a:lnTo>
                    <a:pt x="720" y="576"/>
                  </a:lnTo>
                  <a:lnTo>
                    <a:pt x="768" y="576"/>
                  </a:lnTo>
                  <a:lnTo>
                    <a:pt x="768" y="624"/>
                  </a:lnTo>
                  <a:lnTo>
                    <a:pt x="816" y="624"/>
                  </a:lnTo>
                  <a:lnTo>
                    <a:pt x="816" y="576"/>
                  </a:lnTo>
                  <a:lnTo>
                    <a:pt x="864" y="576"/>
                  </a:lnTo>
                  <a:lnTo>
                    <a:pt x="864" y="624"/>
                  </a:lnTo>
                  <a:lnTo>
                    <a:pt x="912" y="624"/>
                  </a:lnTo>
                  <a:lnTo>
                    <a:pt x="912" y="672"/>
                  </a:lnTo>
                  <a:lnTo>
                    <a:pt x="0" y="672"/>
                  </a:lnTo>
                  <a:lnTo>
                    <a:pt x="0" y="6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1" name=""/>
          <p:cNvSpPr/>
          <p:nvPr/>
        </p:nvSpPr>
        <p:spPr>
          <a:xfrm>
            <a:off x="7315200" y="60483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6400800" y="40672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 flipH="1">
            <a:off x="7010280" y="40672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6781680" y="4753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6781680" y="528624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1295280" y="3686040"/>
            <a:ext cx="1524240" cy="457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6019920" y="3686040"/>
            <a:ext cx="1523880" cy="1143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2133360" y="4890960"/>
            <a:ext cx="622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dc/td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6859080" y="5362560"/>
            <a:ext cx="572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hi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475920" y="4876920"/>
            <a:ext cx="13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events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4514400" y="4114800"/>
            <a:ext cx="13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events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5475600" y="5378400"/>
            <a:ext cx="116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&lt;1 event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58783-6061-4F04-8AC7-78C04C74617F}" type="slidenum">
              <a:t>9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das Short Course - Real Time 2003 - Montreal - Part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line Dem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t tar file from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Lucida Console"/>
                <a:hlinkClick r:id="rId1"/>
              </a:rPr>
              <a:t>http://midas.psi.ch/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pack tar fil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tar xzvf midas-x.tar.gz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ile MIDA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mak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tall MIDA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make install → /usr/loc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fine Experiment(s)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/etc/expta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able mserv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/etc/services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/etc/xinetd.d/mid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ile experimen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examples/experiment&gt; mak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un experimen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fronte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analyz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mlogg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mhttp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rmid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A24A6-7974-413D-8E81-E5E236DC5939}" type="slidenum">
              <a:t>9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das Short Course - Real Time 2003 - Montreal - Part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2T14:37:37Z</dcterms:created>
  <dc:creator>Stefan Ritt</dc:creator>
  <dc:description/>
  <dc:language>en-US</dc:language>
  <cp:lastModifiedBy>PSIUser</cp:lastModifiedBy>
  <dcterms:modified xsi:type="dcterms:W3CDTF">2004-04-14T11:59:36Z</dcterms:modified>
  <cp:revision>125</cp:revision>
  <dc:subject/>
  <dc:title>MIDAS short course Part I</dc:title>
</cp:coreProperties>
</file>