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809880" y="1828800"/>
            <a:ext cx="236232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237200" y="146988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lin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370400" y="2563920"/>
            <a:ext cx="1843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33720" y="1928880"/>
            <a:ext cx="2116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/Equipment/Trigger/Setting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vel1     3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vel2     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48120" y="3322800"/>
            <a:ext cx="225108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uct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 level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 level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} trigger_setting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igger_upda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t(trigger_settings.level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t(trigger_settings.level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_open_record(“Equip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igger/Settings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amp;trigger_setting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igger_updat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3200400"/>
            <a:ext cx="236232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13320" y="2917800"/>
            <a:ext cx="95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639960" y="2712960"/>
            <a:ext cx="4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886200" y="236232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487600" y="4313160"/>
            <a:ext cx="1276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lback rou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pag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36840" y="5684760"/>
            <a:ext cx="128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eate hot-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main() rou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753000" y="250920"/>
            <a:ext cx="1384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68520" y="579600"/>
            <a:ext cx="40053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_set_value(“/Equipment/Trigger/Settings/level1”, 32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25680" y="533520"/>
            <a:ext cx="403848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10666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4864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343400"/>
            <a:ext cx="1143360" cy="1829160"/>
          </a:xfrm>
          <a:custGeom>
            <a:avLst/>
            <a:gdLst/>
            <a:ahLst/>
            <a:rect l="0" t="0" r="r" b="b"/>
            <a:pathLst>
              <a:path fill="none" w="3176" h="5081">
                <a:moveTo>
                  <a:pt x="211" y="5081"/>
                </a:moveTo>
                <a:lnTo>
                  <a:pt x="3176" y="5081"/>
                </a:lnTo>
                <a:lnTo>
                  <a:pt x="3176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022640" y="731880"/>
            <a:ext cx="1301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ssage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098960" y="1417680"/>
            <a:ext cx="1073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t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46680" y="2027160"/>
            <a:ext cx="1378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in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81440" y="2332080"/>
            <a:ext cx="164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un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gging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end 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alyzer 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t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st receive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ow control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measure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tu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ormanc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286000"/>
            <a:ext cx="1752480" cy="3505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1295280"/>
            <a:ext cx="175248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609480"/>
            <a:ext cx="175248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17880" y="141768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i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-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17880" y="301788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-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41560" y="4618080"/>
            <a:ext cx="101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ow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-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32680" y="960480"/>
            <a:ext cx="658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56360" y="1874880"/>
            <a:ext cx="77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80040" y="4618080"/>
            <a:ext cx="954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DB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080040" y="3017880"/>
            <a:ext cx="971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PC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80040" y="3855960"/>
            <a:ext cx="954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DB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1371600"/>
            <a:ext cx="9907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971800"/>
            <a:ext cx="9907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4572000"/>
            <a:ext cx="9907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8380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17524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38098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28954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44956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048120" y="83808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8120" y="1371600"/>
            <a:ext cx="6858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352680"/>
            <a:ext cx="838080" cy="1143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48120" y="1600200"/>
            <a:ext cx="685800" cy="31240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048120" y="1447920"/>
            <a:ext cx="685800" cy="16761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8120" y="48006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50292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048120" y="1752480"/>
            <a:ext cx="761760" cy="1600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334120" y="1905120"/>
            <a:ext cx="761760" cy="1828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160020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76212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486400" y="1066680"/>
            <a:ext cx="609480" cy="3812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943600" y="44956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943600" y="47242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4495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63868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43600" y="4800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638680" y="4800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486400" y="47242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86400" y="44956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4495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34120" y="2057400"/>
            <a:ext cx="761760" cy="20574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943600" y="28954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943600" y="3124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2895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63868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943600" y="320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638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320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486400" y="3124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28954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2895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477120" y="3352680"/>
            <a:ext cx="75960" cy="228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358128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553080" y="3581280"/>
            <a:ext cx="76320" cy="228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57800" y="1143000"/>
            <a:ext cx="838080" cy="17524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914400"/>
            <a:ext cx="762120" cy="19810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32680" y="530388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t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52578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48640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708440" y="2865600"/>
            <a:ext cx="1073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t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2743200"/>
            <a:ext cx="175248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46680" y="179856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i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-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098960" y="3703680"/>
            <a:ext cx="658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70560" y="3703680"/>
            <a:ext cx="777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699160" y="1616040"/>
            <a:ext cx="963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un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1752480"/>
            <a:ext cx="9907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35812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35812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152388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320040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419720" y="3200400"/>
            <a:ext cx="45720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2286000"/>
            <a:ext cx="38088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160020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581280" y="213372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581280" y="3809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943600" y="2057400"/>
            <a:ext cx="7632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4038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257800" y="1752480"/>
            <a:ext cx="380880" cy="763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486400" y="205740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438880" y="4289400"/>
            <a:ext cx="87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42894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11600" y="1371600"/>
            <a:ext cx="76212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935440" y="150192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11600" y="2057400"/>
            <a:ext cx="76212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03680" y="2179800"/>
            <a:ext cx="735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251240" y="2332080"/>
            <a:ext cx="674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CP/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06560" y="3581280"/>
            <a:ext cx="76212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922480" y="3673440"/>
            <a:ext cx="531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2666880"/>
            <a:ext cx="2666880" cy="220968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18080" y="4923000"/>
            <a:ext cx="1504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ck-end 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04080" y="2179800"/>
            <a:ext cx="674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CP/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1219320"/>
            <a:ext cx="4114800" cy="4038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581280" y="1219320"/>
            <a:ext cx="9144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662280" y="1311120"/>
            <a:ext cx="752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2286000"/>
            <a:ext cx="9144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87840" y="2378160"/>
            <a:ext cx="701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3429000"/>
            <a:ext cx="9144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662280" y="3521160"/>
            <a:ext cx="752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p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1371600"/>
            <a:ext cx="924120" cy="2286720"/>
          </a:xfrm>
          <a:custGeom>
            <a:avLst/>
            <a:gdLst/>
            <a:ahLst/>
            <a:rect l="0" t="0" r="r" b="b"/>
            <a:pathLst>
              <a:path fill="none" w="2567" h="6352">
                <a:moveTo>
                  <a:pt x="2567" y="1"/>
                </a:moveTo>
                <a:lnTo>
                  <a:pt x="2567" y="1"/>
                </a:lnTo>
                <a:cubicBezTo>
                  <a:pt x="2547" y="0"/>
                  <a:pt x="2528" y="0"/>
                  <a:pt x="2508" y="0"/>
                </a:cubicBezTo>
                <a:cubicBezTo>
                  <a:pt x="2068" y="0"/>
                  <a:pt x="1636" y="147"/>
                  <a:pt x="1254" y="426"/>
                </a:cubicBezTo>
                <a:cubicBezTo>
                  <a:pt x="873" y="704"/>
                  <a:pt x="556" y="1105"/>
                  <a:pt x="336" y="1588"/>
                </a:cubicBezTo>
                <a:cubicBezTo>
                  <a:pt x="116" y="2071"/>
                  <a:pt x="0" y="2619"/>
                  <a:pt x="0" y="3176"/>
                </a:cubicBezTo>
                <a:cubicBezTo>
                  <a:pt x="0" y="3734"/>
                  <a:pt x="116" y="4281"/>
                  <a:pt x="336" y="4764"/>
                </a:cubicBezTo>
                <a:cubicBezTo>
                  <a:pt x="556" y="5247"/>
                  <a:pt x="873" y="5648"/>
                  <a:pt x="1254" y="5927"/>
                </a:cubicBezTo>
                <a:cubicBezTo>
                  <a:pt x="1636" y="6205"/>
                  <a:pt x="2068" y="6352"/>
                  <a:pt x="2508" y="6352"/>
                </a:cubicBezTo>
                <a:cubicBezTo>
                  <a:pt x="2516" y="6352"/>
                  <a:pt x="2523" y="6352"/>
                  <a:pt x="2531" y="63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0920" y="1371600"/>
            <a:ext cx="933480" cy="2286720"/>
          </a:xfrm>
          <a:custGeom>
            <a:avLst/>
            <a:gdLst/>
            <a:ahLst/>
            <a:rect l="0" t="0" r="r" b="b"/>
            <a:pathLst>
              <a:path fill="none" w="2593" h="6352">
                <a:moveTo>
                  <a:pt x="35" y="6352"/>
                </a:moveTo>
                <a:lnTo>
                  <a:pt x="35" y="6352"/>
                </a:lnTo>
                <a:cubicBezTo>
                  <a:pt x="43" y="6352"/>
                  <a:pt x="51" y="6352"/>
                  <a:pt x="59" y="6352"/>
                </a:cubicBezTo>
                <a:cubicBezTo>
                  <a:pt x="504" y="6352"/>
                  <a:pt x="941" y="6205"/>
                  <a:pt x="1326" y="5927"/>
                </a:cubicBezTo>
                <a:cubicBezTo>
                  <a:pt x="1711" y="5648"/>
                  <a:pt x="2031" y="5247"/>
                  <a:pt x="2253" y="4764"/>
                </a:cubicBezTo>
                <a:cubicBezTo>
                  <a:pt x="2476" y="4281"/>
                  <a:pt x="2593" y="3734"/>
                  <a:pt x="2593" y="3176"/>
                </a:cubicBezTo>
                <a:cubicBezTo>
                  <a:pt x="2593" y="2619"/>
                  <a:pt x="2476" y="2071"/>
                  <a:pt x="2253" y="1588"/>
                </a:cubicBezTo>
                <a:cubicBezTo>
                  <a:pt x="2031" y="1105"/>
                  <a:pt x="1711" y="704"/>
                  <a:pt x="1326" y="426"/>
                </a:cubicBezTo>
                <a:cubicBezTo>
                  <a:pt x="941" y="147"/>
                  <a:pt x="504" y="0"/>
                  <a:pt x="59" y="0"/>
                </a:cubicBezTo>
                <a:cubicBezTo>
                  <a:pt x="39" y="0"/>
                  <a:pt x="20" y="0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1523880"/>
            <a:ext cx="379440" cy="991080"/>
          </a:xfrm>
          <a:custGeom>
            <a:avLst/>
            <a:gdLst/>
            <a:ahLst/>
            <a:rect l="0" t="0" r="r" b="b"/>
            <a:pathLst>
              <a:path fill="none" w="1054" h="2753">
                <a:moveTo>
                  <a:pt x="1054" y="0"/>
                </a:moveTo>
                <a:lnTo>
                  <a:pt x="1054" y="0"/>
                </a:lnTo>
                <a:cubicBezTo>
                  <a:pt x="1052" y="0"/>
                  <a:pt x="1049" y="0"/>
                  <a:pt x="1047" y="0"/>
                </a:cubicBezTo>
                <a:cubicBezTo>
                  <a:pt x="863" y="0"/>
                  <a:pt x="683" y="64"/>
                  <a:pt x="523" y="184"/>
                </a:cubicBezTo>
                <a:cubicBezTo>
                  <a:pt x="364" y="305"/>
                  <a:pt x="232" y="479"/>
                  <a:pt x="140" y="688"/>
                </a:cubicBezTo>
                <a:cubicBezTo>
                  <a:pt x="48" y="897"/>
                  <a:pt x="0" y="1135"/>
                  <a:pt x="0" y="1377"/>
                </a:cubicBezTo>
                <a:cubicBezTo>
                  <a:pt x="0" y="1618"/>
                  <a:pt x="48" y="1856"/>
                  <a:pt x="140" y="2065"/>
                </a:cubicBezTo>
                <a:cubicBezTo>
                  <a:pt x="232" y="2274"/>
                  <a:pt x="364" y="2448"/>
                  <a:pt x="523" y="2569"/>
                </a:cubicBezTo>
                <a:cubicBezTo>
                  <a:pt x="680" y="2688"/>
                  <a:pt x="859" y="2751"/>
                  <a:pt x="1040" y="2753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1280" y="1523880"/>
            <a:ext cx="379440" cy="991080"/>
          </a:xfrm>
          <a:custGeom>
            <a:avLst/>
            <a:gdLst/>
            <a:ahLst/>
            <a:rect l="0" t="0" r="r" b="b"/>
            <a:pathLst>
              <a:path fill="none" w="1054" h="2753">
                <a:moveTo>
                  <a:pt x="14" y="2753"/>
                </a:moveTo>
                <a:lnTo>
                  <a:pt x="14" y="2753"/>
                </a:lnTo>
                <a:cubicBezTo>
                  <a:pt x="195" y="2751"/>
                  <a:pt x="374" y="2688"/>
                  <a:pt x="531" y="2569"/>
                </a:cubicBezTo>
                <a:cubicBezTo>
                  <a:pt x="690" y="2448"/>
                  <a:pt x="822" y="2274"/>
                  <a:pt x="914" y="2065"/>
                </a:cubicBezTo>
                <a:cubicBezTo>
                  <a:pt x="1006" y="1856"/>
                  <a:pt x="1054" y="1618"/>
                  <a:pt x="1054" y="1376"/>
                </a:cubicBezTo>
                <a:cubicBezTo>
                  <a:pt x="1054" y="1135"/>
                  <a:pt x="1006" y="897"/>
                  <a:pt x="914" y="688"/>
                </a:cubicBezTo>
                <a:cubicBezTo>
                  <a:pt x="822" y="479"/>
                  <a:pt x="690" y="305"/>
                  <a:pt x="531" y="184"/>
                </a:cubicBezTo>
                <a:cubicBezTo>
                  <a:pt x="371" y="64"/>
                  <a:pt x="191" y="0"/>
                  <a:pt x="7" y="0"/>
                </a:cubicBezTo>
                <a:cubicBezTo>
                  <a:pt x="5" y="0"/>
                  <a:pt x="2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041560" y="2408400"/>
            <a:ext cx="506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70560" y="2408400"/>
            <a:ext cx="49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327560" y="1874880"/>
            <a:ext cx="615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184560" y="1874880"/>
            <a:ext cx="750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1584360" y="1798560"/>
            <a:ext cx="2683080" cy="274680"/>
            <a:chOff x="1584360" y="1798560"/>
            <a:chExt cx="2683080" cy="274680"/>
          </a:xfrm>
        </p:grpSpPr>
        <p:sp>
          <p:nvSpPr>
            <p:cNvPr id="168" name=""/>
            <p:cNvSpPr/>
            <p:nvPr/>
          </p:nvSpPr>
          <p:spPr>
            <a:xfrm>
              <a:off x="1600200" y="18288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1584360" y="1798560"/>
              <a:ext cx="879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C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38280" y="18288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422440" y="1798560"/>
              <a:ext cx="870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DC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76720" y="1828800"/>
              <a:ext cx="9907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3260880" y="1798560"/>
              <a:ext cx="988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COS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8769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84360" y="2789280"/>
            <a:ext cx="2683080" cy="274680"/>
            <a:chOff x="1584360" y="2789280"/>
            <a:chExt cx="2683080" cy="274680"/>
          </a:xfrm>
        </p:grpSpPr>
        <p:sp>
          <p:nvSpPr>
            <p:cNvPr id="176" name=""/>
            <p:cNvSpPr/>
            <p:nvPr/>
          </p:nvSpPr>
          <p:spPr>
            <a:xfrm>
              <a:off x="1600200" y="281952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1584360" y="2789280"/>
              <a:ext cx="879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C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38280" y="281952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2422440" y="2789280"/>
              <a:ext cx="870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DC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76720" y="2819520"/>
              <a:ext cx="9907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3260880" y="2789280"/>
              <a:ext cx="988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COS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267080" y="2362320"/>
            <a:ext cx="1219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251240" y="2332080"/>
            <a:ext cx="1243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C ca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2819520"/>
            <a:ext cx="12193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251240" y="2789280"/>
            <a:ext cx="1192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. ADC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584360" y="3780000"/>
            <a:ext cx="2683080" cy="274680"/>
            <a:chOff x="1584360" y="3780000"/>
            <a:chExt cx="2683080" cy="274680"/>
          </a:xfrm>
        </p:grpSpPr>
        <p:sp>
          <p:nvSpPr>
            <p:cNvPr id="187" name=""/>
            <p:cNvSpPr/>
            <p:nvPr/>
          </p:nvSpPr>
          <p:spPr>
            <a:xfrm>
              <a:off x="1600200" y="380988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1584360" y="3780000"/>
              <a:ext cx="879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C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38280" y="380988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2422440" y="3780000"/>
              <a:ext cx="870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DC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76720" y="3809880"/>
              <a:ext cx="9907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3260880" y="3780000"/>
              <a:ext cx="988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COS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267080" y="3809880"/>
            <a:ext cx="12193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251240" y="3780000"/>
            <a:ext cx="1192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. ADC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3809880"/>
            <a:ext cx="9907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70560" y="3780000"/>
            <a:ext cx="103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WPC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335268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241960" y="3322800"/>
            <a:ext cx="1403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WPC ca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584360" y="4770360"/>
            <a:ext cx="2683080" cy="274680"/>
            <a:chOff x="1584360" y="4770360"/>
            <a:chExt cx="2683080" cy="274680"/>
          </a:xfrm>
        </p:grpSpPr>
        <p:sp>
          <p:nvSpPr>
            <p:cNvPr id="201" name=""/>
            <p:cNvSpPr/>
            <p:nvPr/>
          </p:nvSpPr>
          <p:spPr>
            <a:xfrm>
              <a:off x="1600200" y="48006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1584360" y="4770360"/>
              <a:ext cx="879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C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38280" y="4800600"/>
              <a:ext cx="8380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2422440" y="4770360"/>
              <a:ext cx="870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DC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76720" y="4800600"/>
              <a:ext cx="9907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3260880" y="4770360"/>
              <a:ext cx="988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COS 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267080" y="4800600"/>
            <a:ext cx="12193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251240" y="4770360"/>
            <a:ext cx="1192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. ADC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4800600"/>
            <a:ext cx="99072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470560" y="4770360"/>
            <a:ext cx="103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WPC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45720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77120" y="4800600"/>
            <a:ext cx="914400" cy="228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461280" y="4770360"/>
            <a:ext cx="946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gl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4343400"/>
            <a:ext cx="14479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927760" y="4313160"/>
            <a:ext cx="1413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gle calc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2057400"/>
            <a:ext cx="220968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3048120"/>
            <a:ext cx="152388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4038480"/>
            <a:ext cx="10666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40384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223040" y="1652760"/>
            <a:ext cx="89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80240" y="22622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680240" y="32529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680240" y="4243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0120" y="21337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041560" y="1494000"/>
            <a:ext cx="1844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w event from front-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3809880"/>
            <a:ext cx="1600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362320"/>
            <a:ext cx="1600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098960" y="2055960"/>
            <a:ext cx="1276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175280" y="3503520"/>
            <a:ext cx="1389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51240" y="4084560"/>
            <a:ext cx="1123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t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ad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17880" y="2055960"/>
            <a:ext cx="6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736640" y="2637000"/>
            <a:ext cx="134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m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asure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2362320"/>
            <a:ext cx="1600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2743200"/>
            <a:ext cx="1219680" cy="1448280"/>
          </a:xfrm>
          <a:custGeom>
            <a:avLst/>
            <a:gdLst/>
            <a:ahLst/>
            <a:rect l="0" t="0" r="r" b="b"/>
            <a:pathLst>
              <a:path fill="none" w="3388" h="4023">
                <a:moveTo>
                  <a:pt x="0" y="0"/>
                </a:moveTo>
                <a:lnTo>
                  <a:pt x="2965" y="0"/>
                </a:lnTo>
                <a:lnTo>
                  <a:pt x="2965" y="4023"/>
                </a:lnTo>
                <a:lnTo>
                  <a:pt x="3388" y="4023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2971800"/>
            <a:ext cx="1219680" cy="1371960"/>
          </a:xfrm>
          <a:custGeom>
            <a:avLst/>
            <a:gdLst/>
            <a:ahLst/>
            <a:rect l="0" t="0" r="r" b="b"/>
            <a:pathLst>
              <a:path fill="none" w="3388" h="3811">
                <a:moveTo>
                  <a:pt x="0" y="0"/>
                </a:moveTo>
                <a:lnTo>
                  <a:pt x="2540" y="0"/>
                </a:lnTo>
                <a:lnTo>
                  <a:pt x="2540" y="3811"/>
                </a:lnTo>
                <a:lnTo>
                  <a:pt x="3388" y="3811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175280" y="2484360"/>
            <a:ext cx="1141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ip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43434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29400" y="3886200"/>
            <a:ext cx="1523880" cy="9144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42160" y="4167360"/>
            <a:ext cx="117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775480" y="3627360"/>
            <a:ext cx="7351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S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260880" y="2484360"/>
            <a:ext cx="674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t-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495680" y="2438280"/>
            <a:ext cx="9907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479840" y="2484360"/>
            <a:ext cx="41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79840" y="2865600"/>
            <a:ext cx="582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51200" y="2055960"/>
            <a:ext cx="681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429000" y="2590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27480" y="2514600"/>
            <a:ext cx="1778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03680" y="2179800"/>
            <a:ext cx="131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rdware tri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89680" y="248436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2590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99280" y="2514600"/>
            <a:ext cx="1778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2971800"/>
            <a:ext cx="533880" cy="838440"/>
          </a:xfrm>
          <a:custGeom>
            <a:avLst/>
            <a:gdLst/>
            <a:ahLst/>
            <a:rect l="0" t="0" r="r" b="b"/>
            <a:pathLst>
              <a:path fill="none" w="1483" h="2329">
                <a:moveTo>
                  <a:pt x="1483" y="0"/>
                </a:moveTo>
                <a:lnTo>
                  <a:pt x="0" y="0"/>
                </a:lnTo>
                <a:lnTo>
                  <a:pt x="0" y="232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60640" y="3809880"/>
            <a:ext cx="1778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927760" y="2179800"/>
            <a:ext cx="844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C 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32280" y="4008600"/>
            <a:ext cx="1903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t readout fin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via computer IO mo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495680" y="2438280"/>
            <a:ext cx="9907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479840" y="2484360"/>
            <a:ext cx="523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479840" y="2865600"/>
            <a:ext cx="582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51200" y="2055960"/>
            <a:ext cx="681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429000" y="2590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27480" y="2514600"/>
            <a:ext cx="1778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803680" y="2179800"/>
            <a:ext cx="131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rdware tri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89680" y="2484360"/>
            <a:ext cx="43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2590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99280" y="2514600"/>
            <a:ext cx="1778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2971800"/>
            <a:ext cx="533880" cy="838440"/>
          </a:xfrm>
          <a:custGeom>
            <a:avLst/>
            <a:gdLst/>
            <a:ahLst/>
            <a:rect l="0" t="0" r="r" b="b"/>
            <a:pathLst>
              <a:path fill="none" w="1483" h="2329">
                <a:moveTo>
                  <a:pt x="1483" y="0"/>
                </a:moveTo>
                <a:lnTo>
                  <a:pt x="0" y="0"/>
                </a:lnTo>
                <a:lnTo>
                  <a:pt x="0" y="232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60640" y="3809880"/>
            <a:ext cx="1778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927760" y="2179800"/>
            <a:ext cx="844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C 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11400" y="4008600"/>
            <a:ext cx="1504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computer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479840" y="2637000"/>
            <a:ext cx="49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2743200"/>
            <a:ext cx="838440" cy="1067040"/>
          </a:xfrm>
          <a:custGeom>
            <a:avLst/>
            <a:gdLst/>
            <a:ahLst/>
            <a:rect l="0" t="0" r="r" b="b"/>
            <a:pathLst>
              <a:path fill="none" w="2329" h="2964">
                <a:moveTo>
                  <a:pt x="2329" y="0"/>
                </a:moveTo>
                <a:lnTo>
                  <a:pt x="0" y="0"/>
                </a:lnTo>
                <a:lnTo>
                  <a:pt x="0" y="296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56080" y="3809880"/>
            <a:ext cx="1778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495288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54100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81280" y="56386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955960" y="4923000"/>
            <a:ext cx="49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955960" y="5380200"/>
            <a:ext cx="582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4952880"/>
            <a:ext cx="2286360" cy="228960"/>
          </a:xfrm>
          <a:custGeom>
            <a:avLst/>
            <a:gdLst/>
            <a:ahLst/>
            <a:rect l="0" t="0" r="r" b="b"/>
            <a:pathLst>
              <a:path fill="none" w="6351" h="636">
                <a:moveTo>
                  <a:pt x="0" y="0"/>
                </a:moveTo>
                <a:lnTo>
                  <a:pt x="1693" y="0"/>
                </a:lnTo>
                <a:lnTo>
                  <a:pt x="1693" y="636"/>
                </a:lnTo>
                <a:lnTo>
                  <a:pt x="4446" y="636"/>
                </a:lnTo>
                <a:lnTo>
                  <a:pt x="4446" y="0"/>
                </a:lnTo>
                <a:lnTo>
                  <a:pt x="635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81280" y="5410080"/>
            <a:ext cx="2286360" cy="228960"/>
          </a:xfrm>
          <a:custGeom>
            <a:avLst/>
            <a:gdLst/>
            <a:ahLst/>
            <a:rect l="0" t="0" r="r" b="b"/>
            <a:pathLst>
              <a:path fill="none" w="6351" h="636">
                <a:moveTo>
                  <a:pt x="0" y="0"/>
                </a:moveTo>
                <a:lnTo>
                  <a:pt x="2540" y="0"/>
                </a:lnTo>
                <a:lnTo>
                  <a:pt x="2540" y="636"/>
                </a:lnTo>
                <a:lnTo>
                  <a:pt x="3599" y="636"/>
                </a:lnTo>
                <a:lnTo>
                  <a:pt x="3599" y="0"/>
                </a:lnTo>
                <a:lnTo>
                  <a:pt x="635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. Ritt</dc:creator>
  <dc:description/>
  <dc:language>en-US</dc:language>
  <cp:lastModifiedBy>S. Ritt</cp:lastModifiedBy>
  <cp:revision>0</cp:revision>
  <dc:subject/>
  <dc:title>No Slide Title</dc:title>
</cp:coreProperties>
</file>