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6C5-AA10-44FF-B423-F569FF3F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839-3C08-41D6-A341-22833CB1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6E2-BD54-481F-BC5B-00D45949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465-0CC0-4685-9F4A-193B25FF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FB2-A4E2-49F5-8C2B-E9215737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B05-ADD2-44AE-80E8-95161184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7AD-39B4-481D-8C2A-A0B026E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184-0E38-4190-8071-94CDF2E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257-8D76-4574-BA72-6836D27D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7B0-704A-4EAC-BA54-660D09E6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E93-36F5-4E82-8879-8D6A4F8B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0A0-B2E6-4FB3-ADD0-E92D5022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F542-75BE-44B2-9213-DC58A0C61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002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5146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4290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343400"/>
            <a:ext cx="6019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4800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828800" y="3429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886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343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00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514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1600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057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1600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" y="160020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4800" y="25146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0" y="34290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760" y="4343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002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4290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0600" y="2057400"/>
            <a:ext cx="92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31400" y="3962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7720" y="18111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216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5000" y="358128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468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220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8680" y="25909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3840" y="160020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7640" y="43434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6080" y="251460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53280" y="16765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628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9800" y="16002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7000" y="43434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5360" y="3886200"/>
            <a:ext cx="63504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886200"/>
            <a:ext cx="68580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828800"/>
            <a:ext cx="457200" cy="2514600"/>
          </a:xfrm>
          <a:custGeom>
            <a:avLst/>
            <a:gdLst/>
            <a:ahLst/>
            <a:rect l="l" t="t" r="r" b="b"/>
            <a:pathLst>
              <a:path w="288" h="1584">
                <a:moveTo>
                  <a:pt x="0" y="1584"/>
                </a:moveTo>
                <a:cubicBezTo>
                  <a:pt x="60" y="1520"/>
                  <a:pt x="120" y="1456"/>
                  <a:pt x="144" y="1248"/>
                </a:cubicBezTo>
                <a:cubicBezTo>
                  <a:pt x="168" y="1040"/>
                  <a:pt x="120" y="544"/>
                  <a:pt x="144" y="336"/>
                </a:cubicBezTo>
                <a:cubicBezTo>
                  <a:pt x="168" y="128"/>
                  <a:pt x="228" y="64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528480"/>
            <a:ext cx="53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hake submast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7:26:00Z</dcterms:created>
  <dc:creator>Stefan Ritt</dc:creator>
  <dc:description/>
  <dc:language>en-US</dc:language>
  <cp:lastModifiedBy>Stefan Ritt</cp:lastModifiedBy>
  <dcterms:modified xsi:type="dcterms:W3CDTF">2003-02-27T07:48:25Z</dcterms:modified>
  <cp:revision>3</cp:revision>
  <dc:subject/>
  <dc:title>Slide 1</dc:title>
</cp:coreProperties>
</file>