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FF0B-38B3-4AD8-A939-83D52068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88F9-B267-48D2-8DED-22159B3C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B11D-5DDE-4CF3-9B8E-69B7AC039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CAA9-2CFE-4E20-871C-7B6187DC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DB8-7AC5-42BD-92EF-C03050D6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100-BE44-425A-8D7B-4B65A5F3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8A97-5CB9-4AEA-806F-118B0850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0974-11E3-4289-8021-75601FC9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143-3B7C-4F71-8F7D-57C1953C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1E6-F2E4-47DF-8A42-C8973D1D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4F4-4737-4A1C-9A81-1338711D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2A6E-FA01-457C-B4CC-E1AE3592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14D17-C0AF-488F-A796-5A1EA41D7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28800" y="16002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828800" y="25146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3429000"/>
            <a:ext cx="59436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4343400"/>
            <a:ext cx="60199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600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4343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00400" y="4800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828800" y="34290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43200" y="388620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576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148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5146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943600" y="34290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58000" y="1600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43434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943600" y="34290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4343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400800" y="48006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15200" y="4343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25146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971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51460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114800" y="16002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0574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1600200"/>
            <a:ext cx="914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6400" y="160020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4800" y="251460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3200" y="34290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 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30760" y="4343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NOWLED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924680" y="16002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429000"/>
            <a:ext cx="152640" cy="1371600"/>
          </a:xfrm>
          <a:custGeom>
            <a:avLst/>
            <a:gdLst>
              <a:gd name="textAreaLeft" fmla="*/ 0 w 152640"/>
              <a:gd name="textAreaRight" fmla="*/ 55080 w 15264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20600" y="2057400"/>
            <a:ext cx="921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231400" y="396252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77720" y="1811160"/>
            <a:ext cx="69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98216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45000" y="3581280"/>
            <a:ext cx="45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944680" y="358128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220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 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658680" y="2590920"/>
            <a:ext cx="531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83840" y="160020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o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17640" y="4343400"/>
            <a:ext cx="43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96080" y="2514600"/>
            <a:ext cx="603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53280" y="16765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6280" y="4419720"/>
            <a:ext cx="672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59800" y="16002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17000" y="4343400"/>
            <a:ext cx="615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65360" y="3886200"/>
            <a:ext cx="63504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576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48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4864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15000" y="3886200"/>
            <a:ext cx="685800" cy="685800"/>
          </a:xfrm>
          <a:custGeom>
            <a:avLst/>
            <a:gdLst/>
            <a:ahLst/>
            <a:rect l="l" t="t" r="r" b="b"/>
            <a:pathLst>
              <a:path w="400" h="432">
                <a:moveTo>
                  <a:pt x="112" y="0"/>
                </a:moveTo>
                <a:cubicBezTo>
                  <a:pt x="68" y="44"/>
                  <a:pt x="24" y="88"/>
                  <a:pt x="16" y="144"/>
                </a:cubicBezTo>
                <a:cubicBezTo>
                  <a:pt x="8" y="200"/>
                  <a:pt x="0" y="288"/>
                  <a:pt x="64" y="336"/>
                </a:cubicBezTo>
                <a:cubicBezTo>
                  <a:pt x="128" y="384"/>
                  <a:pt x="264" y="408"/>
                  <a:pt x="40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00800" y="1828800"/>
            <a:ext cx="457200" cy="2514600"/>
          </a:xfrm>
          <a:custGeom>
            <a:avLst/>
            <a:gdLst/>
            <a:ahLst/>
            <a:rect l="l" t="t" r="r" b="b"/>
            <a:pathLst>
              <a:path w="288" h="1584">
                <a:moveTo>
                  <a:pt x="0" y="1584"/>
                </a:moveTo>
                <a:cubicBezTo>
                  <a:pt x="60" y="1520"/>
                  <a:pt x="120" y="1456"/>
                  <a:pt x="144" y="1248"/>
                </a:cubicBezTo>
                <a:cubicBezTo>
                  <a:pt x="168" y="1040"/>
                  <a:pt x="120" y="544"/>
                  <a:pt x="144" y="336"/>
                </a:cubicBezTo>
                <a:cubicBezTo>
                  <a:pt x="168" y="128"/>
                  <a:pt x="228" y="64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1828800"/>
            <a:ext cx="457200" cy="685800"/>
          </a:xfrm>
          <a:custGeom>
            <a:avLst/>
            <a:gdLst/>
            <a:ahLst/>
            <a:rect l="l" t="t" r="r" b="b"/>
            <a:pathLst>
              <a:path w="288" h="432">
                <a:moveTo>
                  <a:pt x="0" y="432"/>
                </a:moveTo>
                <a:cubicBezTo>
                  <a:pt x="36" y="412"/>
                  <a:pt x="72" y="392"/>
                  <a:pt x="96" y="336"/>
                </a:cubicBezTo>
                <a:cubicBezTo>
                  <a:pt x="120" y="280"/>
                  <a:pt x="112" y="152"/>
                  <a:pt x="144" y="96"/>
                </a:cubicBezTo>
                <a:cubicBezTo>
                  <a:pt x="176" y="40"/>
                  <a:pt x="232" y="20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0" y="2057400"/>
            <a:ext cx="457200" cy="1600200"/>
          </a:xfrm>
          <a:custGeom>
            <a:avLst/>
            <a:gdLst/>
            <a:ahLst/>
            <a:rect l="l" t="t" r="r" b="b"/>
            <a:pathLst>
              <a:path w="288" h="1008">
                <a:moveTo>
                  <a:pt x="0" y="0"/>
                </a:moveTo>
                <a:cubicBezTo>
                  <a:pt x="40" y="72"/>
                  <a:pt x="80" y="144"/>
                  <a:pt x="96" y="240"/>
                </a:cubicBezTo>
                <a:cubicBezTo>
                  <a:pt x="112" y="336"/>
                  <a:pt x="104" y="480"/>
                  <a:pt x="96" y="576"/>
                </a:cubicBezTo>
                <a:cubicBezTo>
                  <a:pt x="88" y="672"/>
                  <a:pt x="45" y="753"/>
                  <a:pt x="48" y="816"/>
                </a:cubicBezTo>
                <a:cubicBezTo>
                  <a:pt x="51" y="879"/>
                  <a:pt x="76" y="924"/>
                  <a:pt x="116" y="956"/>
                </a:cubicBezTo>
                <a:cubicBezTo>
                  <a:pt x="156" y="988"/>
                  <a:pt x="252" y="997"/>
                  <a:pt x="288" y="100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0" y="2057400"/>
            <a:ext cx="457200" cy="2514600"/>
          </a:xfrm>
          <a:custGeom>
            <a:avLst/>
            <a:gdLst/>
            <a:ahLst/>
            <a:rect l="l" t="t" r="r" b="b"/>
            <a:pathLst>
              <a:path w="240" h="1584">
                <a:moveTo>
                  <a:pt x="0" y="0"/>
                </a:moveTo>
                <a:cubicBezTo>
                  <a:pt x="60" y="40"/>
                  <a:pt x="120" y="80"/>
                  <a:pt x="144" y="192"/>
                </a:cubicBezTo>
                <a:cubicBezTo>
                  <a:pt x="168" y="304"/>
                  <a:pt x="160" y="488"/>
                  <a:pt x="144" y="672"/>
                </a:cubicBezTo>
                <a:cubicBezTo>
                  <a:pt x="128" y="856"/>
                  <a:pt x="48" y="1152"/>
                  <a:pt x="48" y="1296"/>
                </a:cubicBezTo>
                <a:cubicBezTo>
                  <a:pt x="48" y="1440"/>
                  <a:pt x="112" y="1488"/>
                  <a:pt x="144" y="1536"/>
                </a:cubicBezTo>
                <a:cubicBezTo>
                  <a:pt x="176" y="1584"/>
                  <a:pt x="208" y="1584"/>
                  <a:pt x="240" y="158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743200"/>
            <a:ext cx="457200" cy="1600200"/>
          </a:xfrm>
          <a:custGeom>
            <a:avLst/>
            <a:gdLst/>
            <a:ahLst/>
            <a:rect l="l" t="t" r="r" b="b"/>
            <a:pathLst>
              <a:path w="288" h="1056">
                <a:moveTo>
                  <a:pt x="0" y="1056"/>
                </a:moveTo>
                <a:cubicBezTo>
                  <a:pt x="60" y="1016"/>
                  <a:pt x="120" y="976"/>
                  <a:pt x="144" y="864"/>
                </a:cubicBezTo>
                <a:cubicBezTo>
                  <a:pt x="168" y="752"/>
                  <a:pt x="144" y="512"/>
                  <a:pt x="144" y="384"/>
                </a:cubicBezTo>
                <a:cubicBezTo>
                  <a:pt x="144" y="256"/>
                  <a:pt x="120" y="160"/>
                  <a:pt x="144" y="96"/>
                </a:cubicBezTo>
                <a:cubicBezTo>
                  <a:pt x="168" y="32"/>
                  <a:pt x="228" y="16"/>
                  <a:pt x="28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62280" y="528480"/>
            <a:ext cx="53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shake submaste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7T07:26:00Z</dcterms:created>
  <dc:creator>Stefan Ritt</dc:creator>
  <dc:description/>
  <dc:language>en-US</dc:language>
  <cp:lastModifiedBy>Stefan Ritt</cp:lastModifiedBy>
  <dcterms:modified xsi:type="dcterms:W3CDTF">2003-02-27T07:48:25Z</dcterms:modified>
  <cp:revision>3</cp:revision>
  <dc:subject/>
  <dc:title>Slide 1</dc:title>
</cp:coreProperties>
</file>