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ED9-C4B2-42A2-8C43-C915C396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678-3815-425B-BA37-05FA0533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D51-2532-4128-80FE-934D6AB6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21C-C102-44A2-8CC9-8861C6ED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BD7-FA9B-4224-9EEE-AF360FF0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E85-EF5E-4832-985F-DE366E34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C79-52E4-48BA-B98B-279F223A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1FD-01D6-4F08-B0DC-DC8B8E56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86A-FEB4-4E6A-878E-C3E2FF02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5F2-0D94-435C-8C4A-CEB7707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9DA-BEC8-4F19-B11B-200AE31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FC8-D7BB-436B-9138-4FA6058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561C-AEDC-44C1-8557-EC3C47E1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4290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19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88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86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514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600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600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" y="1600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8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0" y="3429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4343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00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4290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0600" y="205740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3140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7720" y="18111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216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5000" y="35812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468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220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25909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3840" y="160020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7640" y="43434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6080" y="251460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53280" y="16765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628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800" y="1600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7000" y="43434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3886200"/>
            <a:ext cx="63504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886200"/>
            <a:ext cx="68580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828800"/>
            <a:ext cx="457200" cy="2514600"/>
          </a:xfrm>
          <a:custGeom>
            <a:avLst/>
            <a:gdLst/>
            <a:ahLst/>
            <a:rect l="l" t="t" r="r" b="b"/>
            <a:pathLst>
              <a:path w="288" h="1584">
                <a:moveTo>
                  <a:pt x="0" y="1584"/>
                </a:moveTo>
                <a:cubicBezTo>
                  <a:pt x="60" y="1520"/>
                  <a:pt x="120" y="1456"/>
                  <a:pt x="144" y="1248"/>
                </a:cubicBezTo>
                <a:cubicBezTo>
                  <a:pt x="168" y="1040"/>
                  <a:pt x="120" y="544"/>
                  <a:pt x="144" y="336"/>
                </a:cubicBezTo>
                <a:cubicBezTo>
                  <a:pt x="168" y="128"/>
                  <a:pt x="228" y="64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528480"/>
            <a:ext cx="53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hake submast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7:26:00Z</dcterms:created>
  <dc:creator>Stefan Ritt</dc:creator>
  <dc:description/>
  <dc:language>en-US</dc:language>
  <cp:lastModifiedBy>Stefan Ritt</cp:lastModifiedBy>
  <dcterms:modified xsi:type="dcterms:W3CDTF">2003-02-27T07:48:25Z</dcterms:modified>
  <cp:revision>3</cp:revision>
  <dc:subject/>
  <dc:title>Slide 1</dc:title>
</cp:coreProperties>
</file>