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7CF-6FB6-4C64-8564-792D5F4A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C25-6A95-4EEB-99D7-4E00BD06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67E-0E73-400B-A1CA-17D05042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199-5DC0-4EFE-ABB4-DCCC537B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108-B05D-4418-A2AE-2857EDC2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A61-F9E5-41BC-BBD8-749F93AD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C61-0B8D-449D-B473-D6D22965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F60-E02F-454E-A392-F1C10A8B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BFD-C55F-4CA0-9002-EED6C1C5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B00-20ED-4CCC-ACEB-DFF48C5A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BC5-B277-4193-A882-61930DC7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498-3CD8-44B1-87E7-7C8AAC3C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EB59-E914-40D0-878F-C4168043C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2060640"/>
            <a:ext cx="1152360" cy="1150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2565360"/>
            <a:ext cx="144360" cy="14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421000"/>
            <a:ext cx="431640" cy="43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92360" y="2349360"/>
            <a:ext cx="2872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410920" y="2349360"/>
            <a:ext cx="2890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79640" y="4653000"/>
            <a:ext cx="431280" cy="285480"/>
            <a:chOff x="1979640" y="4653000"/>
            <a:chExt cx="431280" cy="285480"/>
          </a:xfrm>
        </p:grpSpPr>
        <p:sp>
          <p:nvSpPr>
            <p:cNvPr id="47" name=""/>
            <p:cNvSpPr/>
            <p:nvPr/>
          </p:nvSpPr>
          <p:spPr>
            <a:xfrm>
              <a:off x="1979640" y="4653000"/>
              <a:ext cx="43128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0800000">
              <a:off x="1979640" y="4795560"/>
              <a:ext cx="43128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835280" y="3502080"/>
            <a:ext cx="720720" cy="8636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881">
                <a:moveTo>
                  <a:pt x="3600" y="0"/>
                </a:moveTo>
                <a:arcTo wR="3600" hR="3600" stAng="16200000" swAng="-5400000"/>
                <a:lnTo>
                  <a:pt x="0" y="22281"/>
                </a:lnTo>
                <a:arcTo wR="3600" hR="3600" stAng="10800000" swAng="-5400000"/>
                <a:lnTo>
                  <a:pt x="18000" y="258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834920" y="1487520"/>
            <a:ext cx="720720" cy="285480"/>
            <a:chOff x="1834920" y="1487520"/>
            <a:chExt cx="720720" cy="285480"/>
          </a:xfrm>
        </p:grpSpPr>
        <p:sp>
          <p:nvSpPr>
            <p:cNvPr id="51" name=""/>
            <p:cNvSpPr/>
            <p:nvPr/>
          </p:nvSpPr>
          <p:spPr>
            <a:xfrm>
              <a:off x="1835280" y="1487520"/>
              <a:ext cx="72036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1834920" y="1630080"/>
              <a:ext cx="72036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95640" y="494172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436572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3213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1773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90792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9810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26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16360" y="1125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4172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608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6360" y="328608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1341360"/>
            <a:ext cx="1008360" cy="3743280"/>
          </a:xfrm>
          <a:custGeom>
            <a:avLst/>
            <a:gdLst/>
            <a:ahLst/>
            <a:rect l="l" t="t" r="r" b="b"/>
            <a:pathLst>
              <a:path w="635" h="2358">
                <a:moveTo>
                  <a:pt x="635" y="2358"/>
                </a:moveTo>
                <a:lnTo>
                  <a:pt x="0" y="2358"/>
                </a:lnTo>
                <a:lnTo>
                  <a:pt x="0" y="0"/>
                </a:lnTo>
                <a:lnTo>
                  <a:pt x="635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71640" y="4656240"/>
            <a:ext cx="431280" cy="285120"/>
            <a:chOff x="971640" y="4656240"/>
            <a:chExt cx="431280" cy="285120"/>
          </a:xfrm>
        </p:grpSpPr>
        <p:sp>
          <p:nvSpPr>
            <p:cNvPr id="70" name=""/>
            <p:cNvSpPr/>
            <p:nvPr/>
          </p:nvSpPr>
          <p:spPr>
            <a:xfrm>
              <a:off x="971640" y="4656240"/>
              <a:ext cx="431280" cy="14256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0800000">
              <a:off x="971640" y="4798800"/>
              <a:ext cx="431280" cy="14256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619280" y="5229360"/>
            <a:ext cx="1152360" cy="1150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518080"/>
            <a:ext cx="2872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410920" y="5518080"/>
            <a:ext cx="2890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55897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558972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1:26:34Z</dcterms:created>
  <dc:creator>PSIUser</dc:creator>
  <dc:description/>
  <dc:language>en-US</dc:language>
  <cp:lastModifiedBy>PSIUser</cp:lastModifiedBy>
  <dcterms:modified xsi:type="dcterms:W3CDTF">2005-07-07T11:54:45Z</dcterms:modified>
  <cp:revision>3</cp:revision>
  <dc:subject/>
  <dc:title>Slide 1</dc:title>
</cp:coreProperties>
</file>