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F3C-30ED-4D0A-8F25-57EE1346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510-2057-407D-ADD6-A01DDE1F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393-A1D0-4E10-9014-502C95D7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F56-DF02-4D48-82DB-AC5CF19D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159-8699-4373-A7C6-4A058797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4B1-22C5-4284-A965-F344471F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BC9-C88C-4195-BE71-50B68DFC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784-47AE-4711-903F-EC7B301B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8F5-33C3-440F-9880-68BE5A6A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D0A-ABE5-496B-BF12-F569EE8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562-E86E-4C71-8D3D-F07CF07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C4F-0DFC-4698-BE94-C48B33D0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94A0-7E82-420A-85FB-ED9F36963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002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5146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4290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343400"/>
            <a:ext cx="6019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4343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4800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828800" y="3429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886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343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00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971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514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1600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057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1600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" y="160020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4800" y="25146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0" y="34290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760" y="4343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002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4290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20600" y="2057400"/>
            <a:ext cx="92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31400" y="3962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7720" y="18111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216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5000" y="358128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468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220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8680" y="25909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3840" y="160020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17640" y="4343400"/>
            <a:ext cx="4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96080" y="2514600"/>
            <a:ext cx="60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53280" y="16765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628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9800" y="16002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7000" y="43434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65360" y="3886200"/>
            <a:ext cx="63504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886200"/>
            <a:ext cx="68580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1828800"/>
            <a:ext cx="457200" cy="2514600"/>
          </a:xfrm>
          <a:custGeom>
            <a:avLst/>
            <a:gdLst/>
            <a:ahLst/>
            <a:rect l="l" t="t" r="r" b="b"/>
            <a:pathLst>
              <a:path w="288" h="1584">
                <a:moveTo>
                  <a:pt x="0" y="1584"/>
                </a:moveTo>
                <a:cubicBezTo>
                  <a:pt x="60" y="1520"/>
                  <a:pt x="120" y="1456"/>
                  <a:pt x="144" y="1248"/>
                </a:cubicBezTo>
                <a:cubicBezTo>
                  <a:pt x="168" y="1040"/>
                  <a:pt x="120" y="544"/>
                  <a:pt x="144" y="336"/>
                </a:cubicBezTo>
                <a:cubicBezTo>
                  <a:pt x="168" y="128"/>
                  <a:pt x="228" y="64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62280" y="528480"/>
            <a:ext cx="53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hake submast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7:26:00Z</dcterms:created>
  <dc:creator>Stefan Ritt</dc:creator>
  <dc:description/>
  <dc:language>en-US</dc:language>
  <cp:lastModifiedBy>Stefan Ritt</cp:lastModifiedBy>
  <dcterms:modified xsi:type="dcterms:W3CDTF">2003-02-27T07:48:25Z</dcterms:modified>
  <cp:revision>3</cp:revision>
  <dc:subject/>
  <dc:title>Slide 1</dc:title>
</cp:coreProperties>
</file>